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351-A8C7-405E-B3F5-825B17EF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DF7-52F8-4BF0-8E8B-68DF695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A44-4C29-43C3-8FCC-B08D8B79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F7C-2EAD-4FA9-9F73-87502787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0E01-5A0F-4F5B-946D-71E1FEC9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A706-49CA-4B28-ACC4-DA53673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B26B8-5CCC-45E2-882F-92E2363E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BC89E-CE02-45EE-AB89-EC8249E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BEDC-BD0A-4974-8E83-977E721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11083-FB6C-4812-90A7-6D0F011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FA0A0-E7AC-4C66-8A63-3C3345E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F18-09A0-49A2-9618-96E856E8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278F7-3839-4C2E-A797-46A091F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B2790-5D41-40BB-9F76-20666E4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387A2-0776-49C6-8BB6-87153DE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00E64-58C7-44C4-B9EB-DFBABCC1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3DF0B-C56E-420C-BA49-F4FF74BB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A76-3F3A-40F9-A6CC-F1FE4F70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FE1-833B-4F45-B5AD-47DDF4B1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D9A-EF12-4F8D-A952-24A671C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0DB-0B12-4BED-AB12-C7CF32BA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10F-1ABC-4EFB-9E04-FA500914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29D-0E5C-44F6-A3EF-F06D2FC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C9E-78DA-4B86-8A45-13E460B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AFF2-DD15-4119-A65A-06C2C1268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61B4-7808-4133-A933-1B58BF5093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384720" y="2517840"/>
            <a:ext cx="5126040" cy="1617480"/>
          </a:xfrm>
          <a:custGeom>
            <a:avLst/>
            <a:gdLst/>
            <a:ahLst/>
            <a:rect l="l" t="t" r="r" b="b"/>
            <a:pathLst>
              <a:path w="14239" h="4491">
                <a:moveTo>
                  <a:pt x="9699" y="8930"/>
                </a:moveTo>
                <a:cubicBezTo>
                  <a:pt x="9658" y="8957"/>
                  <a:pt x="9642" y="9060"/>
                  <a:pt x="9649" y="9128"/>
                </a:cubicBezTo>
                <a:cubicBezTo>
                  <a:pt x="9669" y="9319"/>
                  <a:pt x="9674" y="9505"/>
                  <a:pt x="9674" y="9699"/>
                </a:cubicBezTo>
                <a:cubicBezTo>
                  <a:pt x="9674" y="9765"/>
                  <a:pt x="9674" y="9913"/>
                  <a:pt x="9674" y="9847"/>
                </a:cubicBezTo>
              </a:path>
              <a:path w="14239" h="4491">
                <a:moveTo>
                  <a:pt x="10120" y="10988"/>
                </a:moveTo>
                <a:cubicBezTo>
                  <a:pt x="10086" y="10988"/>
                  <a:pt x="10040" y="10975"/>
                  <a:pt x="10021" y="11013"/>
                </a:cubicBezTo>
                <a:cubicBezTo>
                  <a:pt x="9991" y="11074"/>
                  <a:pt x="9968" y="11190"/>
                  <a:pt x="10071" y="11112"/>
                </a:cubicBezTo>
                <a:cubicBezTo>
                  <a:pt x="10128" y="11055"/>
                  <a:pt x="10147" y="11028"/>
                  <a:pt x="10145" y="10964"/>
                </a:cubicBezTo>
                <a:cubicBezTo>
                  <a:pt x="10145" y="10947"/>
                  <a:pt x="10145" y="10931"/>
                  <a:pt x="10145" y="10914"/>
                </a:cubicBezTo>
                <a:cubicBezTo>
                  <a:pt x="10127" y="11003"/>
                  <a:pt x="10133" y="11047"/>
                  <a:pt x="10170" y="11137"/>
                </a:cubicBezTo>
                <a:cubicBezTo>
                  <a:pt x="10317" y="11121"/>
                  <a:pt x="10323" y="11075"/>
                  <a:pt x="10368" y="10939"/>
                </a:cubicBezTo>
              </a:path>
              <a:path w="14239" h="4491">
                <a:moveTo>
                  <a:pt x="11385" y="11261"/>
                </a:moveTo>
                <a:cubicBezTo>
                  <a:pt x="11385" y="11179"/>
                  <a:pt x="11384" y="11149"/>
                  <a:pt x="11361" y="11261"/>
                </a:cubicBezTo>
                <a:cubicBezTo>
                  <a:pt x="11336" y="11382"/>
                  <a:pt x="11330" y="11404"/>
                  <a:pt x="11410" y="11485"/>
                </a:cubicBezTo>
                <a:cubicBezTo>
                  <a:pt x="11485" y="11403"/>
                  <a:pt x="11567" y="11269"/>
                  <a:pt x="11509" y="11137"/>
                </a:cubicBezTo>
                <a:cubicBezTo>
                  <a:pt x="11501" y="11137"/>
                  <a:pt x="11493" y="11137"/>
                  <a:pt x="11485" y="11137"/>
                </a:cubicBezTo>
                <a:cubicBezTo>
                  <a:pt x="11481" y="11153"/>
                  <a:pt x="11437" y="11424"/>
                  <a:pt x="11460" y="11410"/>
                </a:cubicBezTo>
                <a:cubicBezTo>
                  <a:pt x="11485" y="11385"/>
                  <a:pt x="11509" y="11361"/>
                  <a:pt x="11534" y="11336"/>
                </a:cubicBezTo>
              </a:path>
              <a:path w="14239" h="4491">
                <a:moveTo>
                  <a:pt x="12725" y="10790"/>
                </a:moveTo>
                <a:cubicBezTo>
                  <a:pt x="12734" y="10769"/>
                  <a:pt x="12750" y="10621"/>
                  <a:pt x="12675" y="10691"/>
                </a:cubicBezTo>
                <a:cubicBezTo>
                  <a:pt x="12580" y="10779"/>
                  <a:pt x="12596" y="10891"/>
                  <a:pt x="12650" y="10988"/>
                </a:cubicBezTo>
                <a:cubicBezTo>
                  <a:pt x="12705" y="10923"/>
                  <a:pt x="12785" y="10800"/>
                  <a:pt x="12700" y="10716"/>
                </a:cubicBezTo>
                <a:cubicBezTo>
                  <a:pt x="12683" y="10716"/>
                  <a:pt x="12667" y="10716"/>
                  <a:pt x="12650" y="10716"/>
                </a:cubicBezTo>
                <a:cubicBezTo>
                  <a:pt x="12571" y="10863"/>
                  <a:pt x="12511" y="10958"/>
                  <a:pt x="12700" y="10914"/>
                </a:cubicBezTo>
              </a:path>
              <a:path w="14239" h="4491">
                <a:moveTo>
                  <a:pt x="13246" y="9401"/>
                </a:moveTo>
                <a:cubicBezTo>
                  <a:pt x="13169" y="9401"/>
                  <a:pt x="13176" y="9380"/>
                  <a:pt x="13171" y="9475"/>
                </a:cubicBezTo>
                <a:cubicBezTo>
                  <a:pt x="13171" y="9492"/>
                  <a:pt x="13171" y="9508"/>
                  <a:pt x="13171" y="9525"/>
                </a:cubicBezTo>
                <a:cubicBezTo>
                  <a:pt x="13290" y="9525"/>
                  <a:pt x="13305" y="9439"/>
                  <a:pt x="13295" y="9327"/>
                </a:cubicBezTo>
                <a:cubicBezTo>
                  <a:pt x="13275" y="9112"/>
                  <a:pt x="13177" y="9393"/>
                  <a:pt x="13171" y="9426"/>
                </a:cubicBezTo>
                <a:cubicBezTo>
                  <a:pt x="13134" y="9624"/>
                  <a:pt x="13295" y="9327"/>
                  <a:pt x="13295" y="9327"/>
                </a:cubicBezTo>
              </a:path>
              <a:path w="14239" h="4491">
                <a:moveTo>
                  <a:pt x="13171" y="7888"/>
                </a:moveTo>
                <a:cubicBezTo>
                  <a:pt x="13156" y="7842"/>
                  <a:pt x="13108" y="7826"/>
                  <a:pt x="13047" y="7863"/>
                </a:cubicBezTo>
                <a:cubicBezTo>
                  <a:pt x="12965" y="7913"/>
                  <a:pt x="12979" y="8005"/>
                  <a:pt x="12973" y="8086"/>
                </a:cubicBezTo>
                <a:cubicBezTo>
                  <a:pt x="13114" y="8086"/>
                  <a:pt x="13134" y="8035"/>
                  <a:pt x="13122" y="7888"/>
                </a:cubicBezTo>
                <a:cubicBezTo>
                  <a:pt x="13113" y="7778"/>
                  <a:pt x="13020" y="7668"/>
                  <a:pt x="12973" y="7838"/>
                </a:cubicBezTo>
                <a:cubicBezTo>
                  <a:pt x="12945" y="7939"/>
                  <a:pt x="13012" y="7959"/>
                  <a:pt x="13047" y="7888"/>
                </a:cubicBezTo>
              </a:path>
              <a:path w="14239" h="4491">
                <a:moveTo>
                  <a:pt x="10840" y="7714"/>
                </a:moveTo>
                <a:cubicBezTo>
                  <a:pt x="10885" y="7652"/>
                  <a:pt x="10842" y="7664"/>
                  <a:pt x="10840" y="7714"/>
                </a:cubicBezTo>
                <a:cubicBezTo>
                  <a:pt x="10836" y="7841"/>
                  <a:pt x="10831" y="7866"/>
                  <a:pt x="10914" y="7938"/>
                </a:cubicBezTo>
                <a:cubicBezTo>
                  <a:pt x="11006" y="7859"/>
                  <a:pt x="10992" y="7807"/>
                  <a:pt x="10964" y="7689"/>
                </a:cubicBezTo>
                <a:cubicBezTo>
                  <a:pt x="10877" y="7701"/>
                  <a:pt x="10812" y="7809"/>
                  <a:pt x="10840" y="7938"/>
                </a:cubicBezTo>
                <a:cubicBezTo>
                  <a:pt x="10848" y="7946"/>
                  <a:pt x="10856" y="7954"/>
                  <a:pt x="10864" y="7962"/>
                </a:cubicBezTo>
              </a:path>
              <a:path w="14239" h="4491">
                <a:moveTo>
                  <a:pt x="9798" y="8533"/>
                </a:moveTo>
                <a:cubicBezTo>
                  <a:pt x="9763" y="8533"/>
                  <a:pt x="9745" y="8528"/>
                  <a:pt x="9723" y="8508"/>
                </a:cubicBezTo>
                <a:cubicBezTo>
                  <a:pt x="9723" y="8576"/>
                  <a:pt x="9745" y="8681"/>
                  <a:pt x="9823" y="8706"/>
                </a:cubicBezTo>
                <a:cubicBezTo>
                  <a:pt x="9958" y="8749"/>
                  <a:pt x="9855" y="8373"/>
                  <a:pt x="9847" y="8359"/>
                </a:cubicBezTo>
                <a:cubicBezTo>
                  <a:pt x="9831" y="8343"/>
                  <a:pt x="9814" y="8326"/>
                  <a:pt x="9798" y="8310"/>
                </a:cubicBezTo>
                <a:cubicBezTo>
                  <a:pt x="9732" y="8432"/>
                  <a:pt x="9703" y="8542"/>
                  <a:pt x="9748" y="8682"/>
                </a:cubicBezTo>
                <a:cubicBezTo>
                  <a:pt x="9756" y="8690"/>
                  <a:pt x="9765" y="8698"/>
                  <a:pt x="9773" y="8706"/>
                </a:cubicBezTo>
                <a:cubicBezTo>
                  <a:pt x="9773" y="8638"/>
                  <a:pt x="9795" y="8532"/>
                  <a:pt x="9723" y="8508"/>
                </a:cubicBezTo>
                <a:cubicBezTo>
                  <a:pt x="9695" y="8499"/>
                  <a:pt x="9630" y="8669"/>
                  <a:pt x="9649" y="8706"/>
                </a:cubicBezTo>
                <a:cubicBezTo>
                  <a:pt x="9657" y="8706"/>
                  <a:pt x="9666" y="8706"/>
                  <a:pt x="9674" y="8706"/>
                </a:cubicBezTo>
              </a:path>
              <a:path w="14239" h="4491">
                <a:moveTo>
                  <a:pt x="9649" y="9996"/>
                </a:moveTo>
                <a:cubicBezTo>
                  <a:pt x="9633" y="9934"/>
                  <a:pt x="9580" y="9906"/>
                  <a:pt x="9525" y="9872"/>
                </a:cubicBezTo>
                <a:cubicBezTo>
                  <a:pt x="9460" y="9968"/>
                  <a:pt x="9454" y="10083"/>
                  <a:pt x="9500" y="10195"/>
                </a:cubicBezTo>
                <a:cubicBezTo>
                  <a:pt x="9584" y="10400"/>
                  <a:pt x="9672" y="10140"/>
                  <a:pt x="9649" y="10046"/>
                </a:cubicBezTo>
                <a:cubicBezTo>
                  <a:pt x="9605" y="9959"/>
                  <a:pt x="9598" y="9936"/>
                  <a:pt x="9550" y="9897"/>
                </a:cubicBezTo>
                <a:cubicBezTo>
                  <a:pt x="9485" y="9994"/>
                  <a:pt x="9499" y="10059"/>
                  <a:pt x="9525" y="10170"/>
                </a:cubicBezTo>
                <a:cubicBezTo>
                  <a:pt x="9612" y="10148"/>
                  <a:pt x="9578" y="10040"/>
                  <a:pt x="9550" y="9971"/>
                </a:cubicBezTo>
                <a:cubicBezTo>
                  <a:pt x="9522" y="9944"/>
                  <a:pt x="9513" y="9940"/>
                  <a:pt x="9525" y="9996"/>
                </a:cubicBezTo>
              </a:path>
              <a:path w="14239" h="4491">
                <a:moveTo>
                  <a:pt x="10195" y="11063"/>
                </a:moveTo>
                <a:cubicBezTo>
                  <a:pt x="10124" y="11063"/>
                  <a:pt x="10170" y="11057"/>
                  <a:pt x="10145" y="11013"/>
                </a:cubicBezTo>
                <a:cubicBezTo>
                  <a:pt x="10123" y="10991"/>
                  <a:pt x="10118" y="10982"/>
                  <a:pt x="10096" y="10988"/>
                </a:cubicBezTo>
                <a:cubicBezTo>
                  <a:pt x="10105" y="11026"/>
                  <a:pt x="10146" y="11327"/>
                  <a:pt x="10244" y="11212"/>
                </a:cubicBezTo>
                <a:cubicBezTo>
                  <a:pt x="10312" y="11132"/>
                  <a:pt x="10312" y="10971"/>
                  <a:pt x="10269" y="10914"/>
                </a:cubicBezTo>
                <a:cubicBezTo>
                  <a:pt x="10158" y="10900"/>
                  <a:pt x="10136" y="10991"/>
                  <a:pt x="10120" y="11112"/>
                </a:cubicBezTo>
                <a:cubicBezTo>
                  <a:pt x="10120" y="11170"/>
                  <a:pt x="10103" y="11195"/>
                  <a:pt x="10145" y="11187"/>
                </a:cubicBezTo>
                <a:cubicBezTo>
                  <a:pt x="10208" y="11142"/>
                  <a:pt x="10268" y="11069"/>
                  <a:pt x="10195" y="10988"/>
                </a:cubicBezTo>
                <a:cubicBezTo>
                  <a:pt x="10148" y="10935"/>
                  <a:pt x="10090" y="11097"/>
                  <a:pt x="10096" y="11112"/>
                </a:cubicBezTo>
                <a:cubicBezTo>
                  <a:pt x="10112" y="11120"/>
                  <a:pt x="10129" y="11129"/>
                  <a:pt x="10145" y="11137"/>
                </a:cubicBezTo>
              </a:path>
              <a:path w="14239" h="4491">
                <a:moveTo>
                  <a:pt x="11385" y="10864"/>
                </a:moveTo>
                <a:cubicBezTo>
                  <a:pt x="11410" y="10864"/>
                  <a:pt x="11418" y="10864"/>
                  <a:pt x="11435" y="10864"/>
                </a:cubicBezTo>
                <a:cubicBezTo>
                  <a:pt x="11435" y="10918"/>
                  <a:pt x="11429" y="10937"/>
                  <a:pt x="11410" y="10988"/>
                </a:cubicBezTo>
              </a:path>
              <a:path w="14239" h="4491">
                <a:moveTo>
                  <a:pt x="11460" y="11162"/>
                </a:moveTo>
                <a:cubicBezTo>
                  <a:pt x="11460" y="11109"/>
                  <a:pt x="11448" y="11125"/>
                  <a:pt x="11435" y="11088"/>
                </a:cubicBezTo>
                <a:cubicBezTo>
                  <a:pt x="11421" y="11144"/>
                  <a:pt x="11372" y="11207"/>
                  <a:pt x="11435" y="11261"/>
                </a:cubicBezTo>
                <a:cubicBezTo>
                  <a:pt x="11500" y="11317"/>
                  <a:pt x="11492" y="11054"/>
                  <a:pt x="11485" y="11038"/>
                </a:cubicBezTo>
                <a:cubicBezTo>
                  <a:pt x="11477" y="11038"/>
                  <a:pt x="11468" y="11038"/>
                  <a:pt x="11460" y="11038"/>
                </a:cubicBezTo>
                <a:cubicBezTo>
                  <a:pt x="11435" y="11087"/>
                  <a:pt x="11356" y="11291"/>
                  <a:pt x="11460" y="11187"/>
                </a:cubicBezTo>
              </a:path>
              <a:path w="14239" h="4491">
                <a:moveTo>
                  <a:pt x="12526" y="10542"/>
                </a:moveTo>
                <a:cubicBezTo>
                  <a:pt x="12493" y="10553"/>
                  <a:pt x="12482" y="10649"/>
                  <a:pt x="12502" y="10691"/>
                </a:cubicBezTo>
                <a:cubicBezTo>
                  <a:pt x="12544" y="10781"/>
                  <a:pt x="12633" y="10796"/>
                  <a:pt x="12650" y="10691"/>
                </a:cubicBezTo>
                <a:cubicBezTo>
                  <a:pt x="12650" y="10666"/>
                  <a:pt x="12650" y="10641"/>
                  <a:pt x="12650" y="10616"/>
                </a:cubicBezTo>
                <a:cubicBezTo>
                  <a:pt x="12563" y="10552"/>
                  <a:pt x="12581" y="10677"/>
                  <a:pt x="12576" y="10740"/>
                </a:cubicBezTo>
                <a:cubicBezTo>
                  <a:pt x="12633" y="10713"/>
                  <a:pt x="12652" y="10697"/>
                  <a:pt x="12650" y="10641"/>
                </a:cubicBezTo>
              </a:path>
              <a:path w="14239" h="4491">
                <a:moveTo>
                  <a:pt x="13146" y="9351"/>
                </a:moveTo>
                <a:cubicBezTo>
                  <a:pt x="13112" y="9340"/>
                  <a:pt x="13105" y="9327"/>
                  <a:pt x="13047" y="9327"/>
                </a:cubicBezTo>
                <a:cubicBezTo>
                  <a:pt x="13031" y="9421"/>
                  <a:pt x="13038" y="9591"/>
                  <a:pt x="13196" y="9550"/>
                </a:cubicBezTo>
                <a:cubicBezTo>
                  <a:pt x="13327" y="9516"/>
                  <a:pt x="13300" y="9368"/>
                  <a:pt x="13271" y="9277"/>
                </a:cubicBezTo>
                <a:cubicBezTo>
                  <a:pt x="13167" y="9319"/>
                  <a:pt x="13183" y="9381"/>
                  <a:pt x="13196" y="9475"/>
                </a:cubicBezTo>
                <a:cubicBezTo>
                  <a:pt x="13204" y="9535"/>
                  <a:pt x="13249" y="9433"/>
                  <a:pt x="13271" y="9376"/>
                </a:cubicBezTo>
              </a:path>
              <a:path w="14239" h="4491">
                <a:moveTo>
                  <a:pt x="12898" y="7789"/>
                </a:moveTo>
                <a:cubicBezTo>
                  <a:pt x="12863" y="7873"/>
                  <a:pt x="12836" y="8035"/>
                  <a:pt x="12923" y="8111"/>
                </a:cubicBezTo>
                <a:cubicBezTo>
                  <a:pt x="13012" y="8188"/>
                  <a:pt x="13100" y="7990"/>
                  <a:pt x="13097" y="7938"/>
                </a:cubicBezTo>
                <a:cubicBezTo>
                  <a:pt x="13089" y="7905"/>
                  <a:pt x="13080" y="7871"/>
                  <a:pt x="13072" y="7838"/>
                </a:cubicBezTo>
                <a:cubicBezTo>
                  <a:pt x="12953" y="7778"/>
                  <a:pt x="12918" y="7867"/>
                  <a:pt x="12898" y="7987"/>
                </a:cubicBezTo>
                <a:cubicBezTo>
                  <a:pt x="12875" y="8122"/>
                  <a:pt x="12984" y="8053"/>
                  <a:pt x="12973" y="7938"/>
                </a:cubicBezTo>
              </a:path>
              <a:path w="14239" h="4491">
                <a:moveTo>
                  <a:pt x="10914" y="7764"/>
                </a:moveTo>
                <a:cubicBezTo>
                  <a:pt x="10914" y="7856"/>
                  <a:pt x="10929" y="7926"/>
                  <a:pt x="10964" y="8012"/>
                </a:cubicBezTo>
                <a:cubicBezTo>
                  <a:pt x="11082" y="7972"/>
                  <a:pt x="11089" y="7907"/>
                  <a:pt x="11038" y="7789"/>
                </a:cubicBezTo>
                <a:cubicBezTo>
                  <a:pt x="10969" y="7631"/>
                  <a:pt x="10802" y="7738"/>
                  <a:pt x="10765" y="7863"/>
                </a:cubicBezTo>
                <a:cubicBezTo>
                  <a:pt x="10765" y="7896"/>
                  <a:pt x="10765" y="7929"/>
                  <a:pt x="10765" y="7962"/>
                </a:cubicBezTo>
                <a:cubicBezTo>
                  <a:pt x="10849" y="8025"/>
                  <a:pt x="10921" y="8023"/>
                  <a:pt x="10988" y="7913"/>
                </a:cubicBezTo>
                <a:cubicBezTo>
                  <a:pt x="10996" y="7888"/>
                  <a:pt x="11005" y="7863"/>
                  <a:pt x="11013" y="7838"/>
                </a:cubicBezTo>
                <a:cubicBezTo>
                  <a:pt x="10951" y="7765"/>
                  <a:pt x="10936" y="7781"/>
                  <a:pt x="10889" y="7863"/>
                </a:cubicBezTo>
              </a:path>
              <a:path w="14239" h="4491">
                <a:moveTo>
                  <a:pt x="9699" y="8558"/>
                </a:moveTo>
                <a:cubicBezTo>
                  <a:pt x="9711" y="8684"/>
                  <a:pt x="9744" y="8757"/>
                  <a:pt x="9823" y="8855"/>
                </a:cubicBezTo>
                <a:cubicBezTo>
                  <a:pt x="9911" y="8789"/>
                  <a:pt x="9984" y="8688"/>
                  <a:pt x="9872" y="8582"/>
                </a:cubicBezTo>
                <a:cubicBezTo>
                  <a:pt x="9819" y="8531"/>
                  <a:pt x="9746" y="8631"/>
                  <a:pt x="9723" y="8657"/>
                </a:cubicBezTo>
              </a:path>
              <a:path w="14239" h="4491">
                <a:moveTo>
                  <a:pt x="9872" y="8682"/>
                </a:moveTo>
                <a:cubicBezTo>
                  <a:pt x="9880" y="8674"/>
                  <a:pt x="9889" y="8665"/>
                  <a:pt x="9897" y="8657"/>
                </a:cubicBezTo>
                <a:cubicBezTo>
                  <a:pt x="9842" y="8675"/>
                  <a:pt x="9884" y="8682"/>
                  <a:pt x="9922" y="8682"/>
                </a:cubicBezTo>
                <a:cubicBezTo>
                  <a:pt x="9978" y="8682"/>
                  <a:pt x="10000" y="8672"/>
                  <a:pt x="10046" y="8657"/>
                </a:cubicBezTo>
                <a:cubicBezTo>
                  <a:pt x="10065" y="8651"/>
                  <a:pt x="10100" y="8657"/>
                  <a:pt x="10120" y="8657"/>
                </a:cubicBezTo>
                <a:cubicBezTo>
                  <a:pt x="10133" y="8619"/>
                  <a:pt x="10150" y="8632"/>
                  <a:pt x="10195" y="8632"/>
                </a:cubicBezTo>
                <a:cubicBezTo>
                  <a:pt x="10208" y="8594"/>
                  <a:pt x="10224" y="8607"/>
                  <a:pt x="10269" y="8607"/>
                </a:cubicBezTo>
                <a:cubicBezTo>
                  <a:pt x="10312" y="8607"/>
                  <a:pt x="10307" y="8617"/>
                  <a:pt x="10319" y="8582"/>
                </a:cubicBezTo>
              </a:path>
              <a:path w="14239" h="4491">
                <a:moveTo>
                  <a:pt x="10021" y="8781"/>
                </a:moveTo>
                <a:cubicBezTo>
                  <a:pt x="10083" y="8726"/>
                  <a:pt x="10084" y="8723"/>
                  <a:pt x="10145" y="8682"/>
                </a:cubicBezTo>
                <a:cubicBezTo>
                  <a:pt x="10224" y="8629"/>
                  <a:pt x="10322" y="8572"/>
                  <a:pt x="10418" y="8558"/>
                </a:cubicBezTo>
                <a:cubicBezTo>
                  <a:pt x="10529" y="8542"/>
                  <a:pt x="10631" y="8518"/>
                  <a:pt x="10740" y="8483"/>
                </a:cubicBezTo>
                <a:cubicBezTo>
                  <a:pt x="10826" y="8455"/>
                  <a:pt x="10907" y="8439"/>
                  <a:pt x="10988" y="8409"/>
                </a:cubicBezTo>
                <a:cubicBezTo>
                  <a:pt x="11048" y="8387"/>
                  <a:pt x="11108" y="8350"/>
                  <a:pt x="11162" y="8334"/>
                </a:cubicBezTo>
                <a:cubicBezTo>
                  <a:pt x="11224" y="8316"/>
                  <a:pt x="11297" y="8301"/>
                  <a:pt x="11361" y="8285"/>
                </a:cubicBezTo>
                <a:cubicBezTo>
                  <a:pt x="11421" y="8270"/>
                  <a:pt x="11478" y="8253"/>
                  <a:pt x="11534" y="8235"/>
                </a:cubicBezTo>
                <a:cubicBezTo>
                  <a:pt x="11609" y="8211"/>
                  <a:pt x="11660" y="8185"/>
                  <a:pt x="11733" y="8161"/>
                </a:cubicBezTo>
                <a:cubicBezTo>
                  <a:pt x="11816" y="8134"/>
                  <a:pt x="11921" y="8101"/>
                  <a:pt x="12005" y="8086"/>
                </a:cubicBezTo>
                <a:cubicBezTo>
                  <a:pt x="12114" y="8066"/>
                  <a:pt x="12219" y="8045"/>
                  <a:pt x="12328" y="8012"/>
                </a:cubicBezTo>
                <a:cubicBezTo>
                  <a:pt x="12449" y="7975"/>
                  <a:pt x="12577" y="7985"/>
                  <a:pt x="12700" y="7962"/>
                </a:cubicBezTo>
                <a:cubicBezTo>
                  <a:pt x="12792" y="7945"/>
                  <a:pt x="12882" y="7913"/>
                  <a:pt x="12973" y="7888"/>
                </a:cubicBezTo>
                <a:cubicBezTo>
                  <a:pt x="13060" y="7864"/>
                  <a:pt x="13082" y="7853"/>
                  <a:pt x="13171" y="7838"/>
                </a:cubicBezTo>
              </a:path>
              <a:path w="14239" h="4491">
                <a:moveTo>
                  <a:pt x="10244" y="8632"/>
                </a:moveTo>
                <a:cubicBezTo>
                  <a:pt x="10211" y="8632"/>
                  <a:pt x="10195" y="8632"/>
                  <a:pt x="10170" y="8632"/>
                </a:cubicBezTo>
              </a:path>
              <a:path w="14239" h="4491">
                <a:moveTo>
                  <a:pt x="10046" y="8682"/>
                </a:moveTo>
                <a:cubicBezTo>
                  <a:pt x="10104" y="8682"/>
                  <a:pt x="10112" y="8682"/>
                  <a:pt x="10170" y="8682"/>
                </a:cubicBezTo>
                <a:cubicBezTo>
                  <a:pt x="10318" y="8682"/>
                  <a:pt x="10465" y="8706"/>
                  <a:pt x="10616" y="8706"/>
                </a:cubicBezTo>
                <a:cubicBezTo>
                  <a:pt x="10754" y="8706"/>
                  <a:pt x="10880" y="8747"/>
                  <a:pt x="11013" y="8781"/>
                </a:cubicBezTo>
                <a:cubicBezTo>
                  <a:pt x="11152" y="8816"/>
                  <a:pt x="11275" y="8885"/>
                  <a:pt x="11410" y="8930"/>
                </a:cubicBezTo>
                <a:cubicBezTo>
                  <a:pt x="11529" y="8969"/>
                  <a:pt x="11667" y="9002"/>
                  <a:pt x="11782" y="9054"/>
                </a:cubicBezTo>
                <a:cubicBezTo>
                  <a:pt x="11916" y="9114"/>
                  <a:pt x="12040" y="9181"/>
                  <a:pt x="12179" y="9227"/>
                </a:cubicBezTo>
                <a:cubicBezTo>
                  <a:pt x="12270" y="9257"/>
                  <a:pt x="12361" y="9299"/>
                  <a:pt x="12452" y="9327"/>
                </a:cubicBezTo>
                <a:cubicBezTo>
                  <a:pt x="12517" y="9347"/>
                  <a:pt x="12587" y="9336"/>
                  <a:pt x="12650" y="9351"/>
                </a:cubicBezTo>
                <a:cubicBezTo>
                  <a:pt x="12725" y="9369"/>
                  <a:pt x="12795" y="9392"/>
                  <a:pt x="12874" y="9401"/>
                </a:cubicBezTo>
                <a:cubicBezTo>
                  <a:pt x="12902" y="9404"/>
                  <a:pt x="12979" y="9430"/>
                  <a:pt x="12998" y="9426"/>
                </a:cubicBezTo>
                <a:cubicBezTo>
                  <a:pt x="12998" y="9418"/>
                  <a:pt x="12998" y="9409"/>
                  <a:pt x="12998" y="9401"/>
                </a:cubicBezTo>
              </a:path>
              <a:path w="14239" h="4491">
                <a:moveTo>
                  <a:pt x="9847" y="8855"/>
                </a:moveTo>
                <a:cubicBezTo>
                  <a:pt x="9925" y="8888"/>
                  <a:pt x="9994" y="8935"/>
                  <a:pt x="10071" y="8979"/>
                </a:cubicBezTo>
                <a:cubicBezTo>
                  <a:pt x="10191" y="9046"/>
                  <a:pt x="10317" y="9123"/>
                  <a:pt x="10443" y="9178"/>
                </a:cubicBezTo>
                <a:cubicBezTo>
                  <a:pt x="10570" y="9234"/>
                  <a:pt x="10707" y="9310"/>
                  <a:pt x="10815" y="9401"/>
                </a:cubicBezTo>
                <a:cubicBezTo>
                  <a:pt x="10919" y="9488"/>
                  <a:pt x="11029" y="9565"/>
                  <a:pt x="11137" y="9649"/>
                </a:cubicBezTo>
                <a:cubicBezTo>
                  <a:pt x="11241" y="9730"/>
                  <a:pt x="11360" y="9789"/>
                  <a:pt x="11460" y="9872"/>
                </a:cubicBezTo>
                <a:cubicBezTo>
                  <a:pt x="11580" y="9971"/>
                  <a:pt x="11678" y="10079"/>
                  <a:pt x="11807" y="10170"/>
                </a:cubicBezTo>
                <a:cubicBezTo>
                  <a:pt x="11900" y="10235"/>
                  <a:pt x="11963" y="10304"/>
                  <a:pt x="12055" y="10368"/>
                </a:cubicBezTo>
                <a:cubicBezTo>
                  <a:pt x="12143" y="10429"/>
                  <a:pt x="12231" y="10418"/>
                  <a:pt x="12328" y="10468"/>
                </a:cubicBezTo>
                <a:cubicBezTo>
                  <a:pt x="12447" y="10529"/>
                  <a:pt x="12556" y="10605"/>
                  <a:pt x="12675" y="10666"/>
                </a:cubicBezTo>
                <a:cubicBezTo>
                  <a:pt x="12678" y="10668"/>
                  <a:pt x="12707" y="10682"/>
                  <a:pt x="12725" y="10691"/>
                </a:cubicBezTo>
                <a:cubicBezTo>
                  <a:pt x="12643" y="10630"/>
                  <a:pt x="12600" y="10587"/>
                  <a:pt x="12526" y="10517"/>
                </a:cubicBezTo>
              </a:path>
              <a:path w="14239" h="4491">
                <a:moveTo>
                  <a:pt x="10096" y="9153"/>
                </a:moveTo>
                <a:cubicBezTo>
                  <a:pt x="10056" y="9066"/>
                  <a:pt x="10031" y="9041"/>
                  <a:pt x="9947" y="8979"/>
                </a:cubicBezTo>
                <a:cubicBezTo>
                  <a:pt x="9903" y="8947"/>
                  <a:pt x="9865" y="8916"/>
                  <a:pt x="9823" y="8880"/>
                </a:cubicBezTo>
                <a:cubicBezTo>
                  <a:pt x="9890" y="8984"/>
                  <a:pt x="10001" y="9097"/>
                  <a:pt x="10071" y="9203"/>
                </a:cubicBezTo>
                <a:cubicBezTo>
                  <a:pt x="10228" y="9441"/>
                  <a:pt x="10382" y="9684"/>
                  <a:pt x="10542" y="9922"/>
                </a:cubicBezTo>
                <a:cubicBezTo>
                  <a:pt x="10653" y="10087"/>
                  <a:pt x="10752" y="10273"/>
                  <a:pt x="10889" y="10418"/>
                </a:cubicBezTo>
                <a:cubicBezTo>
                  <a:pt x="10961" y="10494"/>
                  <a:pt x="11006" y="10561"/>
                  <a:pt x="11063" y="10641"/>
                </a:cubicBezTo>
                <a:cubicBezTo>
                  <a:pt x="11099" y="10692"/>
                  <a:pt x="11153" y="10775"/>
                  <a:pt x="11187" y="10815"/>
                </a:cubicBezTo>
                <a:cubicBezTo>
                  <a:pt x="11237" y="10874"/>
                  <a:pt x="11276" y="10922"/>
                  <a:pt x="11311" y="10988"/>
                </a:cubicBezTo>
                <a:cubicBezTo>
                  <a:pt x="11339" y="11041"/>
                  <a:pt x="11387" y="11106"/>
                  <a:pt x="11410" y="11162"/>
                </a:cubicBezTo>
                <a:cubicBezTo>
                  <a:pt x="11443" y="11243"/>
                  <a:pt x="11405" y="11166"/>
                  <a:pt x="11385" y="11112"/>
                </a:cubicBezTo>
              </a:path>
              <a:path w="14239" h="4491">
                <a:moveTo>
                  <a:pt x="9723" y="8781"/>
                </a:moveTo>
                <a:cubicBezTo>
                  <a:pt x="9696" y="8725"/>
                  <a:pt x="9688" y="8703"/>
                  <a:pt x="9699" y="8657"/>
                </a:cubicBezTo>
                <a:cubicBezTo>
                  <a:pt x="9772" y="8722"/>
                  <a:pt x="9802" y="8773"/>
                  <a:pt x="9847" y="8880"/>
                </a:cubicBezTo>
                <a:cubicBezTo>
                  <a:pt x="9918" y="9047"/>
                  <a:pt x="9956" y="9201"/>
                  <a:pt x="9996" y="9376"/>
                </a:cubicBezTo>
                <a:cubicBezTo>
                  <a:pt x="10026" y="9507"/>
                  <a:pt x="10063" y="9647"/>
                  <a:pt x="10096" y="9773"/>
                </a:cubicBezTo>
                <a:cubicBezTo>
                  <a:pt x="10117" y="9851"/>
                  <a:pt x="10145" y="9885"/>
                  <a:pt x="10145" y="9971"/>
                </a:cubicBezTo>
                <a:cubicBezTo>
                  <a:pt x="10145" y="10040"/>
                  <a:pt x="10154" y="10152"/>
                  <a:pt x="10170" y="10220"/>
                </a:cubicBezTo>
                <a:cubicBezTo>
                  <a:pt x="10186" y="10288"/>
                  <a:pt x="10195" y="10344"/>
                  <a:pt x="10195" y="10418"/>
                </a:cubicBezTo>
                <a:cubicBezTo>
                  <a:pt x="10195" y="10610"/>
                  <a:pt x="10189" y="10804"/>
                  <a:pt x="10220" y="10988"/>
                </a:cubicBezTo>
                <a:cubicBezTo>
                  <a:pt x="10226" y="11021"/>
                  <a:pt x="10220" y="11005"/>
                  <a:pt x="10220" y="11038"/>
                </a:cubicBezTo>
              </a:path>
              <a:path w="14239" h="4491">
                <a:moveTo>
                  <a:pt x="15032" y="7590"/>
                </a:moveTo>
                <a:cubicBezTo>
                  <a:pt x="14952" y="7670"/>
                  <a:pt x="14874" y="7699"/>
                  <a:pt x="14759" y="7714"/>
                </a:cubicBezTo>
                <a:cubicBezTo>
                  <a:pt x="14664" y="7726"/>
                  <a:pt x="14647" y="7690"/>
                  <a:pt x="14635" y="7813"/>
                </a:cubicBezTo>
                <a:cubicBezTo>
                  <a:pt x="14626" y="7899"/>
                  <a:pt x="14612" y="8086"/>
                  <a:pt x="14660" y="8161"/>
                </a:cubicBezTo>
                <a:cubicBezTo>
                  <a:pt x="14668" y="8161"/>
                  <a:pt x="14676" y="8161"/>
                  <a:pt x="14684" y="8161"/>
                </a:cubicBezTo>
                <a:cubicBezTo>
                  <a:pt x="14728" y="8103"/>
                  <a:pt x="14867" y="8008"/>
                  <a:pt x="14957" y="7987"/>
                </a:cubicBezTo>
                <a:cubicBezTo>
                  <a:pt x="15079" y="7958"/>
                  <a:pt x="15230" y="8075"/>
                  <a:pt x="15180" y="8210"/>
                </a:cubicBezTo>
                <a:cubicBezTo>
                  <a:pt x="15093" y="8445"/>
                  <a:pt x="14820" y="8396"/>
                  <a:pt x="14635" y="8384"/>
                </a:cubicBezTo>
              </a:path>
              <a:path w="14239" h="4491">
                <a:moveTo>
                  <a:pt x="10815" y="7987"/>
                </a:moveTo>
                <a:cubicBezTo>
                  <a:pt x="10791" y="8039"/>
                  <a:pt x="10778" y="8108"/>
                  <a:pt x="10740" y="8161"/>
                </a:cubicBezTo>
                <a:cubicBezTo>
                  <a:pt x="10671" y="8257"/>
                  <a:pt x="10637" y="8324"/>
                  <a:pt x="10592" y="8434"/>
                </a:cubicBezTo>
                <a:cubicBezTo>
                  <a:pt x="10547" y="8545"/>
                  <a:pt x="10500" y="8625"/>
                  <a:pt x="10443" y="8731"/>
                </a:cubicBezTo>
                <a:cubicBezTo>
                  <a:pt x="10395" y="8820"/>
                  <a:pt x="10334" y="8902"/>
                  <a:pt x="10269" y="8979"/>
                </a:cubicBezTo>
                <a:cubicBezTo>
                  <a:pt x="10209" y="9050"/>
                  <a:pt x="10152" y="9126"/>
                  <a:pt x="10096" y="9203"/>
                </a:cubicBezTo>
                <a:cubicBezTo>
                  <a:pt x="10031" y="9293"/>
                  <a:pt x="9982" y="9386"/>
                  <a:pt x="9922" y="9475"/>
                </a:cubicBezTo>
                <a:cubicBezTo>
                  <a:pt x="9871" y="9552"/>
                  <a:pt x="9803" y="9625"/>
                  <a:pt x="9748" y="9699"/>
                </a:cubicBezTo>
                <a:cubicBezTo>
                  <a:pt x="9699" y="9766"/>
                  <a:pt x="9652" y="9835"/>
                  <a:pt x="9599" y="9897"/>
                </a:cubicBezTo>
                <a:cubicBezTo>
                  <a:pt x="9538" y="9969"/>
                  <a:pt x="9472" y="10038"/>
                  <a:pt x="9426" y="10120"/>
                </a:cubicBezTo>
                <a:cubicBezTo>
                  <a:pt x="9412" y="10145"/>
                  <a:pt x="9419" y="10123"/>
                  <a:pt x="9401" y="10145"/>
                </a:cubicBezTo>
              </a:path>
              <a:path w="14239" h="4491">
                <a:moveTo>
                  <a:pt x="10964" y="7714"/>
                </a:moveTo>
                <a:cubicBezTo>
                  <a:pt x="10985" y="7738"/>
                  <a:pt x="11000" y="7726"/>
                  <a:pt x="11013" y="7764"/>
                </a:cubicBezTo>
                <a:cubicBezTo>
                  <a:pt x="11038" y="7836"/>
                  <a:pt x="11032" y="7913"/>
                  <a:pt x="11013" y="7987"/>
                </a:cubicBezTo>
                <a:cubicBezTo>
                  <a:pt x="10990" y="8078"/>
                  <a:pt x="10940" y="8168"/>
                  <a:pt x="10914" y="8260"/>
                </a:cubicBezTo>
                <a:cubicBezTo>
                  <a:pt x="10884" y="8367"/>
                  <a:pt x="10881" y="8474"/>
                  <a:pt x="10864" y="8582"/>
                </a:cubicBezTo>
                <a:cubicBezTo>
                  <a:pt x="10853" y="8650"/>
                  <a:pt x="10839" y="8766"/>
                  <a:pt x="10815" y="8830"/>
                </a:cubicBezTo>
                <a:cubicBezTo>
                  <a:pt x="10779" y="8924"/>
                  <a:pt x="10733" y="9033"/>
                  <a:pt x="10691" y="9128"/>
                </a:cubicBezTo>
                <a:cubicBezTo>
                  <a:pt x="10658" y="9202"/>
                  <a:pt x="10628" y="9273"/>
                  <a:pt x="10616" y="9351"/>
                </a:cubicBezTo>
                <a:cubicBezTo>
                  <a:pt x="10601" y="9452"/>
                  <a:pt x="10576" y="9526"/>
                  <a:pt x="10542" y="9624"/>
                </a:cubicBezTo>
                <a:cubicBezTo>
                  <a:pt x="10515" y="9703"/>
                  <a:pt x="10474" y="9771"/>
                  <a:pt x="10443" y="9847"/>
                </a:cubicBezTo>
                <a:cubicBezTo>
                  <a:pt x="10410" y="9929"/>
                  <a:pt x="10375" y="10013"/>
                  <a:pt x="10344" y="10096"/>
                </a:cubicBezTo>
                <a:cubicBezTo>
                  <a:pt x="10313" y="10180"/>
                  <a:pt x="10275" y="10261"/>
                  <a:pt x="10244" y="10344"/>
                </a:cubicBezTo>
                <a:cubicBezTo>
                  <a:pt x="10217" y="10416"/>
                  <a:pt x="10185" y="10518"/>
                  <a:pt x="10170" y="10592"/>
                </a:cubicBezTo>
                <a:cubicBezTo>
                  <a:pt x="10152" y="10683"/>
                  <a:pt x="10138" y="10774"/>
                  <a:pt x="10120" y="10864"/>
                </a:cubicBezTo>
                <a:cubicBezTo>
                  <a:pt x="10107" y="10929"/>
                  <a:pt x="10109" y="10997"/>
                  <a:pt x="10096" y="11063"/>
                </a:cubicBezTo>
                <a:cubicBezTo>
                  <a:pt x="10090" y="11096"/>
                  <a:pt x="10085" y="11206"/>
                  <a:pt x="10071" y="11162"/>
                </a:cubicBezTo>
                <a:cubicBezTo>
                  <a:pt x="10063" y="11121"/>
                  <a:pt x="10054" y="11079"/>
                  <a:pt x="10046" y="11038"/>
                </a:cubicBezTo>
              </a:path>
              <a:path w="14239" h="4491">
                <a:moveTo>
                  <a:pt x="10815" y="7640"/>
                </a:moveTo>
                <a:cubicBezTo>
                  <a:pt x="10858" y="7690"/>
                  <a:pt x="10912" y="7726"/>
                  <a:pt x="10939" y="7813"/>
                </a:cubicBezTo>
                <a:cubicBezTo>
                  <a:pt x="10980" y="7945"/>
                  <a:pt x="11003" y="8099"/>
                  <a:pt x="11013" y="8235"/>
                </a:cubicBezTo>
                <a:cubicBezTo>
                  <a:pt x="11024" y="8385"/>
                  <a:pt x="11051" y="8533"/>
                  <a:pt x="11063" y="8682"/>
                </a:cubicBezTo>
                <a:cubicBezTo>
                  <a:pt x="11073" y="8804"/>
                  <a:pt x="11055" y="8910"/>
                  <a:pt x="11088" y="9029"/>
                </a:cubicBezTo>
                <a:cubicBezTo>
                  <a:pt x="11114" y="9120"/>
                  <a:pt x="11150" y="9233"/>
                  <a:pt x="11162" y="9327"/>
                </a:cubicBezTo>
                <a:cubicBezTo>
                  <a:pt x="11178" y="9453"/>
                  <a:pt x="11219" y="9574"/>
                  <a:pt x="11237" y="9699"/>
                </a:cubicBezTo>
                <a:cubicBezTo>
                  <a:pt x="11254" y="9817"/>
                  <a:pt x="11280" y="9933"/>
                  <a:pt x="11311" y="10046"/>
                </a:cubicBezTo>
                <a:cubicBezTo>
                  <a:pt x="11343" y="10162"/>
                  <a:pt x="11357" y="10298"/>
                  <a:pt x="11361" y="10418"/>
                </a:cubicBezTo>
                <a:cubicBezTo>
                  <a:pt x="11368" y="10635"/>
                  <a:pt x="11369" y="10851"/>
                  <a:pt x="11385" y="11063"/>
                </a:cubicBezTo>
                <a:cubicBezTo>
                  <a:pt x="11392" y="11159"/>
                  <a:pt x="11411" y="11221"/>
                  <a:pt x="11435" y="11311"/>
                </a:cubicBezTo>
                <a:cubicBezTo>
                  <a:pt x="11449" y="11365"/>
                  <a:pt x="11411" y="11146"/>
                  <a:pt x="11410" y="11137"/>
                </a:cubicBezTo>
              </a:path>
              <a:path w="14239" h="4491">
                <a:moveTo>
                  <a:pt x="10889" y="7863"/>
                </a:moveTo>
                <a:cubicBezTo>
                  <a:pt x="10939" y="7924"/>
                  <a:pt x="10973" y="7969"/>
                  <a:pt x="11013" y="8062"/>
                </a:cubicBezTo>
                <a:cubicBezTo>
                  <a:pt x="11083" y="8224"/>
                  <a:pt x="11094" y="8395"/>
                  <a:pt x="11162" y="8558"/>
                </a:cubicBezTo>
                <a:cubicBezTo>
                  <a:pt x="11237" y="8737"/>
                  <a:pt x="11345" y="8908"/>
                  <a:pt x="11435" y="9079"/>
                </a:cubicBezTo>
                <a:cubicBezTo>
                  <a:pt x="11498" y="9198"/>
                  <a:pt x="11567" y="9309"/>
                  <a:pt x="11633" y="9426"/>
                </a:cubicBezTo>
                <a:cubicBezTo>
                  <a:pt x="11694" y="9534"/>
                  <a:pt x="11761" y="9624"/>
                  <a:pt x="11832" y="9723"/>
                </a:cubicBezTo>
                <a:cubicBezTo>
                  <a:pt x="11899" y="9816"/>
                  <a:pt x="11941" y="9926"/>
                  <a:pt x="12005" y="10021"/>
                </a:cubicBezTo>
                <a:cubicBezTo>
                  <a:pt x="12054" y="10094"/>
                  <a:pt x="12105" y="10168"/>
                  <a:pt x="12154" y="10244"/>
                </a:cubicBezTo>
                <a:cubicBezTo>
                  <a:pt x="12211" y="10332"/>
                  <a:pt x="12288" y="10388"/>
                  <a:pt x="12353" y="10468"/>
                </a:cubicBezTo>
                <a:cubicBezTo>
                  <a:pt x="12430" y="10563"/>
                  <a:pt x="12519" y="10628"/>
                  <a:pt x="12601" y="10716"/>
                </a:cubicBezTo>
                <a:cubicBezTo>
                  <a:pt x="12636" y="10753"/>
                  <a:pt x="12651" y="10805"/>
                  <a:pt x="12675" y="10840"/>
                </a:cubicBezTo>
                <a:cubicBezTo>
                  <a:pt x="12683" y="10848"/>
                  <a:pt x="12692" y="10856"/>
                  <a:pt x="12700" y="10864"/>
                </a:cubicBezTo>
              </a:path>
              <a:path w="14239" h="4491">
                <a:moveTo>
                  <a:pt x="10964" y="7913"/>
                </a:moveTo>
                <a:cubicBezTo>
                  <a:pt x="10943" y="7878"/>
                  <a:pt x="10929" y="7844"/>
                  <a:pt x="10914" y="7813"/>
                </a:cubicBezTo>
                <a:cubicBezTo>
                  <a:pt x="10974" y="7835"/>
                  <a:pt x="11053" y="7856"/>
                  <a:pt x="11112" y="7888"/>
                </a:cubicBezTo>
                <a:cubicBezTo>
                  <a:pt x="11242" y="7958"/>
                  <a:pt x="11379" y="8017"/>
                  <a:pt x="11509" y="8086"/>
                </a:cubicBezTo>
                <a:cubicBezTo>
                  <a:pt x="11619" y="8144"/>
                  <a:pt x="11716" y="8217"/>
                  <a:pt x="11832" y="8260"/>
                </a:cubicBezTo>
                <a:cubicBezTo>
                  <a:pt x="11902" y="8286"/>
                  <a:pt x="11995" y="8335"/>
                  <a:pt x="12055" y="8384"/>
                </a:cubicBezTo>
                <a:cubicBezTo>
                  <a:pt x="12131" y="8447"/>
                  <a:pt x="12196" y="8501"/>
                  <a:pt x="12278" y="8558"/>
                </a:cubicBezTo>
                <a:cubicBezTo>
                  <a:pt x="12361" y="8616"/>
                  <a:pt x="12441" y="8677"/>
                  <a:pt x="12526" y="8731"/>
                </a:cubicBezTo>
                <a:cubicBezTo>
                  <a:pt x="12608" y="8784"/>
                  <a:pt x="12688" y="8862"/>
                  <a:pt x="12774" y="8905"/>
                </a:cubicBezTo>
                <a:cubicBezTo>
                  <a:pt x="12898" y="8967"/>
                  <a:pt x="13008" y="9045"/>
                  <a:pt x="13122" y="9128"/>
                </a:cubicBezTo>
                <a:cubicBezTo>
                  <a:pt x="13238" y="9213"/>
                  <a:pt x="13386" y="9284"/>
                  <a:pt x="13494" y="9376"/>
                </a:cubicBezTo>
                <a:cubicBezTo>
                  <a:pt x="13486" y="9376"/>
                  <a:pt x="13477" y="9376"/>
                  <a:pt x="13469" y="9376"/>
                </a:cubicBezTo>
              </a:path>
              <a:path w="14239" h="4491">
                <a:moveTo>
                  <a:pt x="15404" y="7615"/>
                </a:moveTo>
                <a:cubicBezTo>
                  <a:pt x="15464" y="7589"/>
                  <a:pt x="15487" y="7590"/>
                  <a:pt x="15553" y="7590"/>
                </a:cubicBezTo>
                <a:cubicBezTo>
                  <a:pt x="15626" y="7590"/>
                  <a:pt x="15602" y="7848"/>
                  <a:pt x="15602" y="7863"/>
                </a:cubicBezTo>
                <a:cubicBezTo>
                  <a:pt x="15604" y="7962"/>
                  <a:pt x="15602" y="8210"/>
                  <a:pt x="15602" y="8111"/>
                </a:cubicBezTo>
              </a:path>
              <a:path w="14239" h="4491">
                <a:moveTo>
                  <a:pt x="15379" y="7863"/>
                </a:moveTo>
                <a:cubicBezTo>
                  <a:pt x="15527" y="7852"/>
                  <a:pt x="15638" y="7795"/>
                  <a:pt x="15776" y="7764"/>
                </a:cubicBezTo>
                <a:cubicBezTo>
                  <a:pt x="15852" y="7764"/>
                  <a:pt x="15878" y="7763"/>
                  <a:pt x="15925" y="7739"/>
                </a:cubicBezTo>
              </a:path>
              <a:path w="14239" h="4491">
                <a:moveTo>
                  <a:pt x="16446" y="7441"/>
                </a:moveTo>
                <a:cubicBezTo>
                  <a:pt x="16369" y="7456"/>
                  <a:pt x="16272" y="7489"/>
                  <a:pt x="16197" y="7516"/>
                </a:cubicBezTo>
                <a:cubicBezTo>
                  <a:pt x="16137" y="7538"/>
                  <a:pt x="16117" y="7579"/>
                  <a:pt x="16098" y="7640"/>
                </a:cubicBezTo>
                <a:cubicBezTo>
                  <a:pt x="16073" y="7720"/>
                  <a:pt x="16073" y="7782"/>
                  <a:pt x="16073" y="7863"/>
                </a:cubicBezTo>
                <a:cubicBezTo>
                  <a:pt x="16153" y="7863"/>
                  <a:pt x="16208" y="7787"/>
                  <a:pt x="16272" y="7739"/>
                </a:cubicBezTo>
                <a:cubicBezTo>
                  <a:pt x="16355" y="7676"/>
                  <a:pt x="16518" y="7568"/>
                  <a:pt x="16594" y="7714"/>
                </a:cubicBezTo>
                <a:cubicBezTo>
                  <a:pt x="16668" y="7856"/>
                  <a:pt x="16524" y="8037"/>
                  <a:pt x="16396" y="8086"/>
                </a:cubicBezTo>
                <a:cubicBezTo>
                  <a:pt x="16296" y="8124"/>
                  <a:pt x="16178" y="8111"/>
                  <a:pt x="16073" y="8111"/>
                </a:cubicBezTo>
              </a:path>
              <a:path w="14239" h="4491">
                <a:moveTo>
                  <a:pt x="13072" y="8037"/>
                </a:moveTo>
                <a:cubicBezTo>
                  <a:pt x="13057" y="8051"/>
                  <a:pt x="13031" y="8088"/>
                  <a:pt x="12998" y="8111"/>
                </a:cubicBezTo>
                <a:cubicBezTo>
                  <a:pt x="12957" y="8140"/>
                  <a:pt x="12877" y="8181"/>
                  <a:pt x="12849" y="8210"/>
                </a:cubicBezTo>
                <a:cubicBezTo>
                  <a:pt x="12793" y="8268"/>
                  <a:pt x="12735" y="8328"/>
                  <a:pt x="12675" y="8384"/>
                </a:cubicBezTo>
                <a:cubicBezTo>
                  <a:pt x="12632" y="8424"/>
                  <a:pt x="12591" y="8449"/>
                  <a:pt x="12551" y="8483"/>
                </a:cubicBezTo>
                <a:cubicBezTo>
                  <a:pt x="12493" y="8533"/>
                  <a:pt x="12430" y="8577"/>
                  <a:pt x="12378" y="8632"/>
                </a:cubicBezTo>
                <a:cubicBezTo>
                  <a:pt x="12320" y="8694"/>
                  <a:pt x="12275" y="8752"/>
                  <a:pt x="12204" y="8806"/>
                </a:cubicBezTo>
                <a:cubicBezTo>
                  <a:pt x="12149" y="8848"/>
                  <a:pt x="12081" y="8884"/>
                  <a:pt x="12030" y="8930"/>
                </a:cubicBezTo>
                <a:cubicBezTo>
                  <a:pt x="11955" y="8997"/>
                  <a:pt x="11890" y="9050"/>
                  <a:pt x="11807" y="9103"/>
                </a:cubicBezTo>
                <a:cubicBezTo>
                  <a:pt x="11725" y="9155"/>
                  <a:pt x="11639" y="9203"/>
                  <a:pt x="11559" y="9252"/>
                </a:cubicBezTo>
                <a:cubicBezTo>
                  <a:pt x="11458" y="9313"/>
                  <a:pt x="11399" y="9374"/>
                  <a:pt x="11311" y="9451"/>
                </a:cubicBezTo>
                <a:cubicBezTo>
                  <a:pt x="11218" y="9532"/>
                  <a:pt x="11115" y="9582"/>
                  <a:pt x="11013" y="9649"/>
                </a:cubicBezTo>
                <a:cubicBezTo>
                  <a:pt x="10884" y="9733"/>
                  <a:pt x="10808" y="9770"/>
                  <a:pt x="10666" y="9823"/>
                </a:cubicBezTo>
                <a:cubicBezTo>
                  <a:pt x="10591" y="9851"/>
                  <a:pt x="10518" y="9899"/>
                  <a:pt x="10443" y="9922"/>
                </a:cubicBezTo>
                <a:cubicBezTo>
                  <a:pt x="10377" y="9942"/>
                  <a:pt x="10317" y="9947"/>
                  <a:pt x="10244" y="9971"/>
                </a:cubicBezTo>
                <a:cubicBezTo>
                  <a:pt x="10199" y="9986"/>
                  <a:pt x="10142" y="10031"/>
                  <a:pt x="10096" y="10046"/>
                </a:cubicBezTo>
                <a:cubicBezTo>
                  <a:pt x="10059" y="10058"/>
                  <a:pt x="9978" y="10051"/>
                  <a:pt x="9947" y="10071"/>
                </a:cubicBezTo>
                <a:cubicBezTo>
                  <a:pt x="9881" y="10112"/>
                  <a:pt x="9828" y="10169"/>
                  <a:pt x="9773" y="10195"/>
                </a:cubicBezTo>
                <a:cubicBezTo>
                  <a:pt x="9724" y="10218"/>
                  <a:pt x="9695" y="10206"/>
                  <a:pt x="9649" y="10220"/>
                </a:cubicBezTo>
                <a:cubicBezTo>
                  <a:pt x="9617" y="10230"/>
                  <a:pt x="9586" y="10235"/>
                  <a:pt x="9550" y="10244"/>
                </a:cubicBezTo>
              </a:path>
              <a:path w="14239" h="4491">
                <a:moveTo>
                  <a:pt x="12973" y="7838"/>
                </a:moveTo>
                <a:cubicBezTo>
                  <a:pt x="12923" y="7974"/>
                  <a:pt x="12874" y="8108"/>
                  <a:pt x="12799" y="8235"/>
                </a:cubicBezTo>
                <a:cubicBezTo>
                  <a:pt x="12662" y="8466"/>
                  <a:pt x="12479" y="8680"/>
                  <a:pt x="12303" y="8880"/>
                </a:cubicBezTo>
                <a:cubicBezTo>
                  <a:pt x="12148" y="9055"/>
                  <a:pt x="11980" y="9244"/>
                  <a:pt x="11807" y="9401"/>
                </a:cubicBezTo>
                <a:cubicBezTo>
                  <a:pt x="11699" y="9499"/>
                  <a:pt x="11597" y="9582"/>
                  <a:pt x="11509" y="9699"/>
                </a:cubicBezTo>
                <a:cubicBezTo>
                  <a:pt x="11460" y="9763"/>
                  <a:pt x="11416" y="9836"/>
                  <a:pt x="11361" y="9897"/>
                </a:cubicBezTo>
                <a:cubicBezTo>
                  <a:pt x="11289" y="9977"/>
                  <a:pt x="11232" y="10064"/>
                  <a:pt x="11162" y="10145"/>
                </a:cubicBezTo>
                <a:cubicBezTo>
                  <a:pt x="11051" y="10275"/>
                  <a:pt x="10914" y="10378"/>
                  <a:pt x="10790" y="10492"/>
                </a:cubicBezTo>
                <a:cubicBezTo>
                  <a:pt x="10686" y="10587"/>
                  <a:pt x="10572" y="10672"/>
                  <a:pt x="10468" y="10765"/>
                </a:cubicBezTo>
                <a:cubicBezTo>
                  <a:pt x="10378" y="10845"/>
                  <a:pt x="10291" y="10940"/>
                  <a:pt x="10195" y="11013"/>
                </a:cubicBezTo>
                <a:cubicBezTo>
                  <a:pt x="10187" y="11013"/>
                  <a:pt x="10178" y="11013"/>
                  <a:pt x="10170" y="11013"/>
                </a:cubicBezTo>
              </a:path>
              <a:path w="14239" h="4491">
                <a:moveTo>
                  <a:pt x="12923" y="7640"/>
                </a:moveTo>
                <a:cubicBezTo>
                  <a:pt x="12899" y="7779"/>
                  <a:pt x="12869" y="7922"/>
                  <a:pt x="12824" y="8062"/>
                </a:cubicBezTo>
                <a:cubicBezTo>
                  <a:pt x="12757" y="8268"/>
                  <a:pt x="12655" y="8467"/>
                  <a:pt x="12551" y="8657"/>
                </a:cubicBezTo>
                <a:cubicBezTo>
                  <a:pt x="12463" y="8816"/>
                  <a:pt x="12428" y="8986"/>
                  <a:pt x="12353" y="9153"/>
                </a:cubicBezTo>
                <a:cubicBezTo>
                  <a:pt x="12284" y="9305"/>
                  <a:pt x="12236" y="9467"/>
                  <a:pt x="12179" y="9624"/>
                </a:cubicBezTo>
                <a:cubicBezTo>
                  <a:pt x="12133" y="9751"/>
                  <a:pt x="12060" y="9842"/>
                  <a:pt x="11981" y="9947"/>
                </a:cubicBezTo>
                <a:cubicBezTo>
                  <a:pt x="11891" y="10067"/>
                  <a:pt x="11790" y="10213"/>
                  <a:pt x="11708" y="10319"/>
                </a:cubicBezTo>
                <a:cubicBezTo>
                  <a:pt x="11645" y="10399"/>
                  <a:pt x="11575" y="10445"/>
                  <a:pt x="11509" y="10517"/>
                </a:cubicBezTo>
                <a:cubicBezTo>
                  <a:pt x="11450" y="10582"/>
                  <a:pt x="11409" y="10685"/>
                  <a:pt x="11385" y="10765"/>
                </a:cubicBezTo>
                <a:cubicBezTo>
                  <a:pt x="11364" y="10835"/>
                  <a:pt x="11354" y="10914"/>
                  <a:pt x="11336" y="10988"/>
                </a:cubicBezTo>
                <a:cubicBezTo>
                  <a:pt x="11322" y="11046"/>
                  <a:pt x="11302" y="11221"/>
                  <a:pt x="11311" y="11162"/>
                </a:cubicBezTo>
                <a:cubicBezTo>
                  <a:pt x="11319" y="11104"/>
                  <a:pt x="11323" y="11095"/>
                  <a:pt x="11336" y="11038"/>
                </a:cubicBezTo>
              </a:path>
              <a:path w="14239" h="4491">
                <a:moveTo>
                  <a:pt x="12948" y="7987"/>
                </a:moveTo>
                <a:cubicBezTo>
                  <a:pt x="12970" y="7922"/>
                  <a:pt x="12978" y="7907"/>
                  <a:pt x="12973" y="7863"/>
                </a:cubicBezTo>
                <a:cubicBezTo>
                  <a:pt x="12959" y="8061"/>
                  <a:pt x="12924" y="8260"/>
                  <a:pt x="12898" y="8458"/>
                </a:cubicBezTo>
                <a:cubicBezTo>
                  <a:pt x="12870" y="8672"/>
                  <a:pt x="12855" y="8892"/>
                  <a:pt x="12824" y="9103"/>
                </a:cubicBezTo>
                <a:cubicBezTo>
                  <a:pt x="12803" y="9245"/>
                  <a:pt x="12784" y="9384"/>
                  <a:pt x="12750" y="9525"/>
                </a:cubicBezTo>
                <a:cubicBezTo>
                  <a:pt x="12722" y="9642"/>
                  <a:pt x="12723" y="9757"/>
                  <a:pt x="12700" y="9872"/>
                </a:cubicBezTo>
                <a:cubicBezTo>
                  <a:pt x="12678" y="9980"/>
                  <a:pt x="12638" y="10086"/>
                  <a:pt x="12626" y="10195"/>
                </a:cubicBezTo>
                <a:cubicBezTo>
                  <a:pt x="12616" y="10285"/>
                  <a:pt x="12610" y="10383"/>
                  <a:pt x="12601" y="10468"/>
                </a:cubicBezTo>
                <a:cubicBezTo>
                  <a:pt x="12590" y="10571"/>
                  <a:pt x="12605" y="10691"/>
                  <a:pt x="12626" y="10790"/>
                </a:cubicBezTo>
                <a:cubicBezTo>
                  <a:pt x="12635" y="10833"/>
                  <a:pt x="12644" y="10870"/>
                  <a:pt x="12650" y="10914"/>
                </a:cubicBezTo>
                <a:cubicBezTo>
                  <a:pt x="12664" y="11012"/>
                  <a:pt x="12641" y="10906"/>
                  <a:pt x="12626" y="10864"/>
                </a:cubicBezTo>
              </a:path>
              <a:path w="14239" h="4491">
                <a:moveTo>
                  <a:pt x="17165" y="7392"/>
                </a:moveTo>
                <a:cubicBezTo>
                  <a:pt x="17165" y="7547"/>
                  <a:pt x="17140" y="8021"/>
                  <a:pt x="17190" y="7987"/>
                </a:cubicBezTo>
              </a:path>
              <a:path w="14239" h="4491">
                <a:moveTo>
                  <a:pt x="16991" y="7813"/>
                </a:moveTo>
                <a:cubicBezTo>
                  <a:pt x="17107" y="7721"/>
                  <a:pt x="17208" y="7721"/>
                  <a:pt x="17338" y="7665"/>
                </a:cubicBezTo>
                <a:cubicBezTo>
                  <a:pt x="17346" y="7657"/>
                  <a:pt x="17355" y="7648"/>
                  <a:pt x="17363" y="7640"/>
                </a:cubicBezTo>
              </a:path>
              <a:path w="14239" h="4491">
                <a:moveTo>
                  <a:pt x="17413" y="7516"/>
                </a:moveTo>
                <a:cubicBezTo>
                  <a:pt x="17426" y="7568"/>
                  <a:pt x="17445" y="7635"/>
                  <a:pt x="17462" y="7689"/>
                </a:cubicBezTo>
                <a:cubicBezTo>
                  <a:pt x="17496" y="7797"/>
                  <a:pt x="17617" y="7741"/>
                  <a:pt x="17686" y="7714"/>
                </a:cubicBezTo>
                <a:cubicBezTo>
                  <a:pt x="17816" y="7664"/>
                  <a:pt x="17902" y="7624"/>
                  <a:pt x="18008" y="7541"/>
                </a:cubicBezTo>
              </a:path>
              <a:path w="14239" h="4491">
                <a:moveTo>
                  <a:pt x="17983" y="7243"/>
                </a:moveTo>
                <a:cubicBezTo>
                  <a:pt x="17956" y="7482"/>
                  <a:pt x="17968" y="7700"/>
                  <a:pt x="17983" y="7938"/>
                </a:cubicBezTo>
                <a:cubicBezTo>
                  <a:pt x="17983" y="8012"/>
                  <a:pt x="17983" y="8021"/>
                  <a:pt x="17983" y="8062"/>
                </a:cubicBezTo>
              </a:path>
              <a:path w="14239" h="4491">
                <a:moveTo>
                  <a:pt x="13221" y="9451"/>
                </a:moveTo>
                <a:cubicBezTo>
                  <a:pt x="13221" y="9475"/>
                  <a:pt x="13221" y="9484"/>
                  <a:pt x="13221" y="9500"/>
                </a:cubicBezTo>
              </a:path>
              <a:path w="14239" h="4491">
                <a:moveTo>
                  <a:pt x="13171" y="9451"/>
                </a:moveTo>
                <a:cubicBezTo>
                  <a:pt x="13134" y="9478"/>
                  <a:pt x="13088" y="9528"/>
                  <a:pt x="13047" y="9550"/>
                </a:cubicBezTo>
                <a:cubicBezTo>
                  <a:pt x="12996" y="9578"/>
                  <a:pt x="12923" y="9604"/>
                  <a:pt x="12874" y="9624"/>
                </a:cubicBezTo>
                <a:cubicBezTo>
                  <a:pt x="12840" y="9637"/>
                  <a:pt x="12809" y="9637"/>
                  <a:pt x="12774" y="9649"/>
                </a:cubicBezTo>
                <a:cubicBezTo>
                  <a:pt x="12709" y="9671"/>
                  <a:pt x="12676" y="9687"/>
                  <a:pt x="12601" y="9699"/>
                </a:cubicBezTo>
                <a:cubicBezTo>
                  <a:pt x="12519" y="9712"/>
                  <a:pt x="12437" y="9735"/>
                  <a:pt x="12353" y="9748"/>
                </a:cubicBezTo>
                <a:cubicBezTo>
                  <a:pt x="12277" y="9760"/>
                  <a:pt x="12207" y="9770"/>
                  <a:pt x="12129" y="9773"/>
                </a:cubicBezTo>
                <a:cubicBezTo>
                  <a:pt x="12033" y="9776"/>
                  <a:pt x="11949" y="9788"/>
                  <a:pt x="11857" y="9798"/>
                </a:cubicBezTo>
                <a:cubicBezTo>
                  <a:pt x="11758" y="9809"/>
                  <a:pt x="11656" y="9812"/>
                  <a:pt x="11559" y="9823"/>
                </a:cubicBezTo>
                <a:cubicBezTo>
                  <a:pt x="11476" y="9832"/>
                  <a:pt x="11408" y="9829"/>
                  <a:pt x="11336" y="9847"/>
                </a:cubicBezTo>
                <a:cubicBezTo>
                  <a:pt x="11262" y="9865"/>
                  <a:pt x="11188" y="9858"/>
                  <a:pt x="11112" y="9872"/>
                </a:cubicBezTo>
                <a:cubicBezTo>
                  <a:pt x="11018" y="9889"/>
                  <a:pt x="10937" y="9938"/>
                  <a:pt x="10840" y="9947"/>
                </a:cubicBezTo>
                <a:cubicBezTo>
                  <a:pt x="10715" y="9959"/>
                  <a:pt x="10590" y="9975"/>
                  <a:pt x="10468" y="9996"/>
                </a:cubicBezTo>
                <a:cubicBezTo>
                  <a:pt x="10326" y="10020"/>
                  <a:pt x="10187" y="10042"/>
                  <a:pt x="10046" y="10071"/>
                </a:cubicBezTo>
                <a:cubicBezTo>
                  <a:pt x="9911" y="10098"/>
                  <a:pt x="9784" y="10078"/>
                  <a:pt x="9649" y="10096"/>
                </a:cubicBezTo>
                <a:cubicBezTo>
                  <a:pt x="9590" y="10104"/>
                  <a:pt x="9584" y="10112"/>
                  <a:pt x="9525" y="10120"/>
                </a:cubicBezTo>
              </a:path>
              <a:path w="14239" h="4491">
                <a:moveTo>
                  <a:pt x="13221" y="9451"/>
                </a:moveTo>
                <a:cubicBezTo>
                  <a:pt x="13161" y="9491"/>
                  <a:pt x="13106" y="9513"/>
                  <a:pt x="13047" y="9550"/>
                </a:cubicBezTo>
                <a:cubicBezTo>
                  <a:pt x="12971" y="9598"/>
                  <a:pt x="12908" y="9639"/>
                  <a:pt x="12824" y="9674"/>
                </a:cubicBezTo>
                <a:cubicBezTo>
                  <a:pt x="12729" y="9713"/>
                  <a:pt x="12643" y="9756"/>
                  <a:pt x="12551" y="9798"/>
                </a:cubicBezTo>
                <a:cubicBezTo>
                  <a:pt x="12448" y="9845"/>
                  <a:pt x="12347" y="9888"/>
                  <a:pt x="12254" y="9947"/>
                </a:cubicBezTo>
                <a:cubicBezTo>
                  <a:pt x="12174" y="9998"/>
                  <a:pt x="12122" y="10035"/>
                  <a:pt x="12030" y="10071"/>
                </a:cubicBezTo>
                <a:cubicBezTo>
                  <a:pt x="11931" y="10110"/>
                  <a:pt x="11830" y="10151"/>
                  <a:pt x="11733" y="10195"/>
                </a:cubicBezTo>
                <a:cubicBezTo>
                  <a:pt x="11623" y="10244"/>
                  <a:pt x="11520" y="10300"/>
                  <a:pt x="11410" y="10344"/>
                </a:cubicBezTo>
                <a:cubicBezTo>
                  <a:pt x="11330" y="10376"/>
                  <a:pt x="11239" y="10404"/>
                  <a:pt x="11162" y="10443"/>
                </a:cubicBezTo>
                <a:cubicBezTo>
                  <a:pt x="11075" y="10487"/>
                  <a:pt x="10978" y="10544"/>
                  <a:pt x="10889" y="10592"/>
                </a:cubicBezTo>
                <a:cubicBezTo>
                  <a:pt x="10808" y="10635"/>
                  <a:pt x="10726" y="10695"/>
                  <a:pt x="10641" y="10740"/>
                </a:cubicBezTo>
                <a:cubicBezTo>
                  <a:pt x="10568" y="10778"/>
                  <a:pt x="10482" y="10813"/>
                  <a:pt x="10418" y="10864"/>
                </a:cubicBezTo>
                <a:cubicBezTo>
                  <a:pt x="10350" y="10918"/>
                  <a:pt x="10295" y="10995"/>
                  <a:pt x="10220" y="11038"/>
                </a:cubicBezTo>
                <a:cubicBezTo>
                  <a:pt x="10153" y="11077"/>
                  <a:pt x="10086" y="11125"/>
                  <a:pt x="10021" y="11162"/>
                </a:cubicBezTo>
                <a:cubicBezTo>
                  <a:pt x="10013" y="11162"/>
                  <a:pt x="10004" y="11162"/>
                  <a:pt x="9996" y="11162"/>
                </a:cubicBezTo>
              </a:path>
              <a:path w="14239" h="4491">
                <a:moveTo>
                  <a:pt x="13271" y="9575"/>
                </a:moveTo>
                <a:cubicBezTo>
                  <a:pt x="13259" y="9577"/>
                  <a:pt x="13218" y="9595"/>
                  <a:pt x="13171" y="9649"/>
                </a:cubicBezTo>
                <a:cubicBezTo>
                  <a:pt x="13129" y="9698"/>
                  <a:pt x="13081" y="9762"/>
                  <a:pt x="13047" y="9798"/>
                </a:cubicBezTo>
                <a:cubicBezTo>
                  <a:pt x="12995" y="9853"/>
                  <a:pt x="12997" y="9877"/>
                  <a:pt x="12948" y="9922"/>
                </a:cubicBezTo>
                <a:cubicBezTo>
                  <a:pt x="12887" y="9977"/>
                  <a:pt x="12875" y="10001"/>
                  <a:pt x="12824" y="10071"/>
                </a:cubicBezTo>
                <a:cubicBezTo>
                  <a:pt x="12738" y="10189"/>
                  <a:pt x="12612" y="10266"/>
                  <a:pt x="12502" y="10344"/>
                </a:cubicBezTo>
                <a:cubicBezTo>
                  <a:pt x="12434" y="10392"/>
                  <a:pt x="12382" y="10463"/>
                  <a:pt x="12328" y="10517"/>
                </a:cubicBezTo>
                <a:cubicBezTo>
                  <a:pt x="12266" y="10579"/>
                  <a:pt x="12220" y="10662"/>
                  <a:pt x="12154" y="10716"/>
                </a:cubicBezTo>
                <a:cubicBezTo>
                  <a:pt x="12114" y="10749"/>
                  <a:pt x="12032" y="10808"/>
                  <a:pt x="11981" y="10840"/>
                </a:cubicBezTo>
                <a:cubicBezTo>
                  <a:pt x="11901" y="10890"/>
                  <a:pt x="11835" y="10960"/>
                  <a:pt x="11757" y="11013"/>
                </a:cubicBezTo>
                <a:cubicBezTo>
                  <a:pt x="11694" y="11056"/>
                  <a:pt x="11623" y="11099"/>
                  <a:pt x="11559" y="11137"/>
                </a:cubicBezTo>
                <a:cubicBezTo>
                  <a:pt x="11503" y="11170"/>
                  <a:pt x="11451" y="11208"/>
                  <a:pt x="11410" y="11261"/>
                </a:cubicBezTo>
                <a:cubicBezTo>
                  <a:pt x="11386" y="11291"/>
                  <a:pt x="11388" y="11284"/>
                  <a:pt x="11361" y="11311"/>
                </a:cubicBezTo>
              </a:path>
              <a:path w="14239" h="4491">
                <a:moveTo>
                  <a:pt x="18430" y="7565"/>
                </a:moveTo>
                <a:cubicBezTo>
                  <a:pt x="18466" y="7682"/>
                  <a:pt x="18533" y="7838"/>
                  <a:pt x="18504" y="7962"/>
                </a:cubicBezTo>
                <a:cubicBezTo>
                  <a:pt x="18496" y="7962"/>
                  <a:pt x="18487" y="7962"/>
                  <a:pt x="18479" y="7962"/>
                </a:cubicBezTo>
              </a:path>
              <a:path w="14239" h="4491">
                <a:moveTo>
                  <a:pt x="18306" y="7913"/>
                </a:moveTo>
                <a:cubicBezTo>
                  <a:pt x="18426" y="7861"/>
                  <a:pt x="18558" y="7780"/>
                  <a:pt x="18678" y="7714"/>
                </a:cubicBezTo>
              </a:path>
              <a:path w="14239" h="4491">
                <a:moveTo>
                  <a:pt x="18802" y="7516"/>
                </a:moveTo>
                <a:cubicBezTo>
                  <a:pt x="18878" y="7440"/>
                  <a:pt x="18924" y="7390"/>
                  <a:pt x="19025" y="7367"/>
                </a:cubicBezTo>
                <a:cubicBezTo>
                  <a:pt x="19085" y="7516"/>
                  <a:pt x="19064" y="7569"/>
                  <a:pt x="19000" y="7714"/>
                </a:cubicBezTo>
                <a:cubicBezTo>
                  <a:pt x="19013" y="7664"/>
                  <a:pt x="19082" y="7577"/>
                  <a:pt x="19149" y="7590"/>
                </a:cubicBezTo>
                <a:cubicBezTo>
                  <a:pt x="19330" y="7625"/>
                  <a:pt x="19230" y="7887"/>
                  <a:pt x="19149" y="7962"/>
                </a:cubicBezTo>
                <a:cubicBezTo>
                  <a:pt x="19004" y="8094"/>
                  <a:pt x="18947" y="8031"/>
                  <a:pt x="18802" y="7962"/>
                </a:cubicBezTo>
              </a:path>
              <a:path w="14239" h="4491">
                <a:moveTo>
                  <a:pt x="19745" y="7367"/>
                </a:moveTo>
                <a:cubicBezTo>
                  <a:pt x="19807" y="7478"/>
                  <a:pt x="19794" y="7587"/>
                  <a:pt x="19794" y="7714"/>
                </a:cubicBezTo>
                <a:cubicBezTo>
                  <a:pt x="19794" y="7764"/>
                  <a:pt x="19794" y="7813"/>
                  <a:pt x="19794" y="7863"/>
                </a:cubicBezTo>
              </a:path>
              <a:path w="14239" h="4491">
                <a:moveTo>
                  <a:pt x="19645" y="7739"/>
                </a:moveTo>
                <a:cubicBezTo>
                  <a:pt x="19604" y="7718"/>
                  <a:pt x="19728" y="7679"/>
                  <a:pt x="19769" y="7665"/>
                </a:cubicBezTo>
                <a:cubicBezTo>
                  <a:pt x="19779" y="7662"/>
                  <a:pt x="19964" y="7600"/>
                  <a:pt x="19968" y="7590"/>
                </a:cubicBezTo>
                <a:cubicBezTo>
                  <a:pt x="19968" y="7574"/>
                  <a:pt x="19968" y="7557"/>
                  <a:pt x="19968" y="7541"/>
                </a:cubicBezTo>
              </a:path>
              <a:path w="14239" h="4491">
                <a:moveTo>
                  <a:pt x="20141" y="7392"/>
                </a:moveTo>
                <a:cubicBezTo>
                  <a:pt x="20170" y="7306"/>
                  <a:pt x="20222" y="7263"/>
                  <a:pt x="20315" y="7243"/>
                </a:cubicBezTo>
                <a:cubicBezTo>
                  <a:pt x="20332" y="7243"/>
                  <a:pt x="20348" y="7243"/>
                  <a:pt x="20365" y="7243"/>
                </a:cubicBezTo>
                <a:cubicBezTo>
                  <a:pt x="20386" y="7397"/>
                  <a:pt x="20373" y="7488"/>
                  <a:pt x="20315" y="7640"/>
                </a:cubicBezTo>
                <a:cubicBezTo>
                  <a:pt x="20298" y="7685"/>
                  <a:pt x="20180" y="7920"/>
                  <a:pt x="20216" y="7938"/>
                </a:cubicBezTo>
                <a:cubicBezTo>
                  <a:pt x="20282" y="7886"/>
                  <a:pt x="20376" y="7828"/>
                  <a:pt x="20464" y="7813"/>
                </a:cubicBezTo>
                <a:cubicBezTo>
                  <a:pt x="20527" y="7802"/>
                  <a:pt x="20598" y="7813"/>
                  <a:pt x="20662" y="7813"/>
                </a:cubicBezTo>
              </a:path>
              <a:path w="14239" h="4491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</a:path>
              <a:path w="14239" h="4491">
                <a:moveTo>
                  <a:pt x="11435" y="11385"/>
                </a:moveTo>
                <a:cubicBezTo>
                  <a:pt x="11410" y="11385"/>
                  <a:pt x="11402" y="11385"/>
                  <a:pt x="11385" y="11385"/>
                </a:cubicBezTo>
                <a:cubicBezTo>
                  <a:pt x="11371" y="11362"/>
                  <a:pt x="11321" y="11313"/>
                  <a:pt x="11311" y="11286"/>
                </a:cubicBezTo>
                <a:cubicBezTo>
                  <a:pt x="11311" y="11261"/>
                  <a:pt x="11311" y="11253"/>
                  <a:pt x="11311" y="11237"/>
                </a:cubicBezTo>
                <a:cubicBezTo>
                  <a:pt x="11288" y="11219"/>
                  <a:pt x="11244" y="11199"/>
                  <a:pt x="11212" y="11162"/>
                </a:cubicBezTo>
                <a:cubicBezTo>
                  <a:pt x="11189" y="11139"/>
                  <a:pt x="11181" y="11135"/>
                  <a:pt x="11187" y="11112"/>
                </a:cubicBezTo>
                <a:cubicBezTo>
                  <a:pt x="11155" y="11091"/>
                  <a:pt x="11158" y="11094"/>
                  <a:pt x="11137" y="11063"/>
                </a:cubicBezTo>
                <a:cubicBezTo>
                  <a:pt x="11078" y="11036"/>
                  <a:pt x="11033" y="11019"/>
                  <a:pt x="10988" y="10964"/>
                </a:cubicBezTo>
                <a:cubicBezTo>
                  <a:pt x="10941" y="10906"/>
                  <a:pt x="10927" y="10895"/>
                  <a:pt x="10864" y="10864"/>
                </a:cubicBezTo>
                <a:cubicBezTo>
                  <a:pt x="10787" y="10826"/>
                  <a:pt x="10714" y="10781"/>
                  <a:pt x="10641" y="10740"/>
                </a:cubicBezTo>
                <a:cubicBezTo>
                  <a:pt x="10588" y="10710"/>
                  <a:pt x="10539" y="10679"/>
                  <a:pt x="10492" y="10641"/>
                </a:cubicBezTo>
                <a:cubicBezTo>
                  <a:pt x="10446" y="10603"/>
                  <a:pt x="10418" y="10591"/>
                  <a:pt x="10368" y="10567"/>
                </a:cubicBezTo>
                <a:cubicBezTo>
                  <a:pt x="10297" y="10533"/>
                  <a:pt x="10236" y="10482"/>
                  <a:pt x="10170" y="10443"/>
                </a:cubicBezTo>
                <a:cubicBezTo>
                  <a:pt x="10111" y="10408"/>
                  <a:pt x="10084" y="10384"/>
                  <a:pt x="10021" y="10368"/>
                </a:cubicBezTo>
                <a:cubicBezTo>
                  <a:pt x="10011" y="10360"/>
                  <a:pt x="9965" y="10333"/>
                  <a:pt x="9947" y="10319"/>
                </a:cubicBezTo>
                <a:cubicBezTo>
                  <a:pt x="9889" y="10271"/>
                  <a:pt x="9837" y="10235"/>
                  <a:pt x="9773" y="10195"/>
                </a:cubicBezTo>
                <a:cubicBezTo>
                  <a:pt x="9732" y="10169"/>
                  <a:pt x="9698" y="10157"/>
                  <a:pt x="9649" y="10145"/>
                </a:cubicBezTo>
                <a:cubicBezTo>
                  <a:pt x="9631" y="10131"/>
                  <a:pt x="9610" y="10116"/>
                  <a:pt x="9575" y="10096"/>
                </a:cubicBezTo>
              </a:path>
              <a:path w="14239" h="4491">
                <a:moveTo>
                  <a:pt x="20910" y="7441"/>
                </a:moveTo>
                <a:cubicBezTo>
                  <a:pt x="20920" y="7412"/>
                  <a:pt x="20928" y="7385"/>
                  <a:pt x="20935" y="7417"/>
                </a:cubicBezTo>
                <a:cubicBezTo>
                  <a:pt x="20955" y="7504"/>
                  <a:pt x="20974" y="7618"/>
                  <a:pt x="21010" y="7689"/>
                </a:cubicBezTo>
              </a:path>
              <a:path w="14239" h="4491">
                <a:moveTo>
                  <a:pt x="20836" y="7590"/>
                </a:moveTo>
                <a:cubicBezTo>
                  <a:pt x="20904" y="7563"/>
                  <a:pt x="20977" y="7508"/>
                  <a:pt x="21059" y="7491"/>
                </a:cubicBezTo>
                <a:cubicBezTo>
                  <a:pt x="21101" y="7491"/>
                  <a:pt x="21109" y="7491"/>
                  <a:pt x="21134" y="7491"/>
                </a:cubicBezTo>
              </a:path>
              <a:path w="14239" h="4491">
                <a:moveTo>
                  <a:pt x="21481" y="7169"/>
                </a:moveTo>
                <a:cubicBezTo>
                  <a:pt x="21481" y="7069"/>
                  <a:pt x="21501" y="7317"/>
                  <a:pt x="21506" y="7417"/>
                </a:cubicBezTo>
                <a:cubicBezTo>
                  <a:pt x="21513" y="7555"/>
                  <a:pt x="21543" y="7680"/>
                  <a:pt x="21555" y="7813"/>
                </a:cubicBezTo>
                <a:cubicBezTo>
                  <a:pt x="21555" y="7821"/>
                  <a:pt x="21555" y="7830"/>
                  <a:pt x="21555" y="7838"/>
                </a:cubicBezTo>
              </a:path>
              <a:path w="14239" h="4491">
                <a:moveTo>
                  <a:pt x="10220" y="11038"/>
                </a:moveTo>
                <a:cubicBezTo>
                  <a:pt x="10179" y="11038"/>
                  <a:pt x="10207" y="11025"/>
                  <a:pt x="10170" y="11013"/>
                </a:cubicBezTo>
              </a:path>
              <a:path w="14239" h="4491">
                <a:moveTo>
                  <a:pt x="22002" y="7169"/>
                </a:moveTo>
                <a:cubicBezTo>
                  <a:pt x="22089" y="7201"/>
                  <a:pt x="22205" y="7210"/>
                  <a:pt x="22299" y="7193"/>
                </a:cubicBezTo>
                <a:cubicBezTo>
                  <a:pt x="22340" y="7174"/>
                  <a:pt x="22356" y="7155"/>
                  <a:pt x="22349" y="7193"/>
                </a:cubicBezTo>
              </a:path>
              <a:path w="14239" h="4491">
                <a:moveTo>
                  <a:pt x="22076" y="7565"/>
                </a:moveTo>
                <a:cubicBezTo>
                  <a:pt x="22165" y="7582"/>
                  <a:pt x="22295" y="7620"/>
                  <a:pt x="22349" y="7565"/>
                </a:cubicBezTo>
              </a:path>
              <a:path w="14239" h="4491">
                <a:moveTo>
                  <a:pt x="22796" y="7193"/>
                </a:moveTo>
                <a:cubicBezTo>
                  <a:pt x="22845" y="7104"/>
                  <a:pt x="22884" y="7049"/>
                  <a:pt x="22969" y="6995"/>
                </a:cubicBezTo>
                <a:cubicBezTo>
                  <a:pt x="22969" y="7167"/>
                  <a:pt x="22934" y="7354"/>
                  <a:pt x="22870" y="7516"/>
                </a:cubicBezTo>
                <a:cubicBezTo>
                  <a:pt x="22811" y="7665"/>
                  <a:pt x="22726" y="7838"/>
                  <a:pt x="22622" y="7962"/>
                </a:cubicBezTo>
                <a:cubicBezTo>
                  <a:pt x="22635" y="7870"/>
                  <a:pt x="22709" y="7809"/>
                  <a:pt x="22796" y="7764"/>
                </a:cubicBezTo>
                <a:cubicBezTo>
                  <a:pt x="22886" y="7717"/>
                  <a:pt x="22985" y="7736"/>
                  <a:pt x="23068" y="7789"/>
                </a:cubicBezTo>
                <a:cubicBezTo>
                  <a:pt x="23134" y="7831"/>
                  <a:pt x="23080" y="7838"/>
                  <a:pt x="23168" y="7813"/>
                </a:cubicBezTo>
              </a:path>
              <a:path w="14239" h="4491">
                <a:moveTo>
                  <a:pt x="23366" y="7069"/>
                </a:moveTo>
                <a:cubicBezTo>
                  <a:pt x="23259" y="7134"/>
                  <a:pt x="23208" y="7343"/>
                  <a:pt x="23192" y="7466"/>
                </a:cubicBezTo>
                <a:cubicBezTo>
                  <a:pt x="23178" y="7581"/>
                  <a:pt x="23170" y="7883"/>
                  <a:pt x="23366" y="7863"/>
                </a:cubicBezTo>
                <a:cubicBezTo>
                  <a:pt x="23541" y="7845"/>
                  <a:pt x="23667" y="7686"/>
                  <a:pt x="23639" y="7516"/>
                </a:cubicBezTo>
                <a:cubicBezTo>
                  <a:pt x="23620" y="7402"/>
                  <a:pt x="23518" y="7156"/>
                  <a:pt x="23391" y="7119"/>
                </a:cubicBezTo>
                <a:cubicBezTo>
                  <a:pt x="23366" y="7119"/>
                  <a:pt x="23341" y="7119"/>
                  <a:pt x="23316" y="71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3679920"/>
            <a:ext cx="1135080" cy="320760"/>
          </a:xfrm>
          <a:custGeom>
            <a:avLst/>
            <a:gdLst/>
            <a:ahLst/>
            <a:rect l="l" t="t" r="r" b="b"/>
            <a:pathLst>
              <a:path w="3151" h="893">
                <a:moveTo>
                  <a:pt x="12601" y="10765"/>
                </a:moveTo>
                <a:cubicBezTo>
                  <a:pt x="12566" y="10774"/>
                  <a:pt x="12535" y="10786"/>
                  <a:pt x="12502" y="10790"/>
                </a:cubicBezTo>
                <a:cubicBezTo>
                  <a:pt x="12386" y="10805"/>
                  <a:pt x="12231" y="10775"/>
                  <a:pt x="12154" y="10765"/>
                </a:cubicBezTo>
                <a:cubicBezTo>
                  <a:pt x="12105" y="10759"/>
                  <a:pt x="12079" y="10751"/>
                  <a:pt x="12030" y="10740"/>
                </a:cubicBezTo>
                <a:cubicBezTo>
                  <a:pt x="11964" y="10725"/>
                  <a:pt x="11895" y="10712"/>
                  <a:pt x="11832" y="10691"/>
                </a:cubicBezTo>
                <a:cubicBezTo>
                  <a:pt x="11798" y="10680"/>
                  <a:pt x="11766" y="10677"/>
                  <a:pt x="11733" y="10666"/>
                </a:cubicBezTo>
                <a:cubicBezTo>
                  <a:pt x="11652" y="10639"/>
                  <a:pt x="11568" y="10613"/>
                  <a:pt x="11485" y="10592"/>
                </a:cubicBezTo>
                <a:cubicBezTo>
                  <a:pt x="11416" y="10575"/>
                  <a:pt x="11330" y="10553"/>
                  <a:pt x="11261" y="10542"/>
                </a:cubicBezTo>
                <a:cubicBezTo>
                  <a:pt x="11196" y="10532"/>
                  <a:pt x="11126" y="10535"/>
                  <a:pt x="11063" y="10517"/>
                </a:cubicBezTo>
                <a:cubicBezTo>
                  <a:pt x="10972" y="10491"/>
                  <a:pt x="10882" y="10488"/>
                  <a:pt x="10790" y="10468"/>
                </a:cubicBezTo>
                <a:cubicBezTo>
                  <a:pt x="10690" y="10446"/>
                  <a:pt x="10595" y="10422"/>
                  <a:pt x="10492" y="10418"/>
                </a:cubicBezTo>
                <a:cubicBezTo>
                  <a:pt x="10408" y="10415"/>
                  <a:pt x="10325" y="10388"/>
                  <a:pt x="10244" y="10368"/>
                </a:cubicBezTo>
                <a:cubicBezTo>
                  <a:pt x="10174" y="10351"/>
                  <a:pt x="10094" y="10329"/>
                  <a:pt x="10021" y="10319"/>
                </a:cubicBezTo>
                <a:cubicBezTo>
                  <a:pt x="9910" y="10303"/>
                  <a:pt x="9784" y="10305"/>
                  <a:pt x="9674" y="10294"/>
                </a:cubicBezTo>
                <a:cubicBezTo>
                  <a:pt x="9611" y="10287"/>
                  <a:pt x="9580" y="10282"/>
                  <a:pt x="9550" y="10269"/>
                </a:cubicBezTo>
                <a:cubicBezTo>
                  <a:pt x="9509" y="10252"/>
                  <a:pt x="9409" y="10234"/>
                  <a:pt x="9451" y="10220"/>
                </a:cubicBezTo>
                <a:cubicBezTo>
                  <a:pt x="9492" y="10220"/>
                  <a:pt x="9517" y="10220"/>
                  <a:pt x="9550" y="10220"/>
                </a:cubicBezTo>
              </a:path>
              <a:path w="3151" h="893">
                <a:moveTo>
                  <a:pt x="12526" y="10840"/>
                </a:moveTo>
                <a:cubicBezTo>
                  <a:pt x="12483" y="10851"/>
                  <a:pt x="12447" y="10862"/>
                  <a:pt x="12402" y="10864"/>
                </a:cubicBezTo>
                <a:cubicBezTo>
                  <a:pt x="12243" y="10873"/>
                  <a:pt x="12083" y="10859"/>
                  <a:pt x="11931" y="10840"/>
                </a:cubicBezTo>
                <a:cubicBezTo>
                  <a:pt x="11874" y="10833"/>
                  <a:pt x="11835" y="10857"/>
                  <a:pt x="11782" y="10864"/>
                </a:cubicBezTo>
                <a:cubicBezTo>
                  <a:pt x="11642" y="10883"/>
                  <a:pt x="11497" y="10866"/>
                  <a:pt x="11361" y="10889"/>
                </a:cubicBezTo>
                <a:cubicBezTo>
                  <a:pt x="11192" y="10917"/>
                  <a:pt x="11006" y="10888"/>
                  <a:pt x="10840" y="10914"/>
                </a:cubicBezTo>
                <a:cubicBezTo>
                  <a:pt x="10773" y="10925"/>
                  <a:pt x="10705" y="10917"/>
                  <a:pt x="10641" y="10939"/>
                </a:cubicBezTo>
                <a:cubicBezTo>
                  <a:pt x="10594" y="10955"/>
                  <a:pt x="10536" y="10970"/>
                  <a:pt x="10492" y="10988"/>
                </a:cubicBezTo>
                <a:cubicBezTo>
                  <a:pt x="10439" y="11010"/>
                  <a:pt x="10377" y="11036"/>
                  <a:pt x="10319" y="11063"/>
                </a:cubicBezTo>
                <a:cubicBezTo>
                  <a:pt x="10287" y="11078"/>
                  <a:pt x="10234" y="11103"/>
                  <a:pt x="10195" y="11112"/>
                </a:cubicBezTo>
                <a:cubicBezTo>
                  <a:pt x="10170" y="11112"/>
                  <a:pt x="10162" y="11112"/>
                  <a:pt x="10145" y="111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4340160"/>
            <a:ext cx="3456000" cy="1071720"/>
          </a:xfrm>
          <a:custGeom>
            <a:avLst/>
            <a:gdLst/>
            <a:ahLst/>
            <a:rect l="l" t="t" r="r" b="b"/>
            <a:pathLst>
              <a:path w="9600" h="2978">
                <a:moveTo>
                  <a:pt x="11063" y="12353"/>
                </a:moveTo>
                <a:cubicBezTo>
                  <a:pt x="11212" y="12370"/>
                  <a:pt x="11312" y="12380"/>
                  <a:pt x="11460" y="12353"/>
                </a:cubicBezTo>
                <a:cubicBezTo>
                  <a:pt x="11795" y="12291"/>
                  <a:pt x="12115" y="12141"/>
                  <a:pt x="12452" y="12105"/>
                </a:cubicBezTo>
                <a:cubicBezTo>
                  <a:pt x="12544" y="12095"/>
                  <a:pt x="12623" y="12104"/>
                  <a:pt x="12700" y="12129"/>
                </a:cubicBezTo>
              </a:path>
              <a:path w="9600" h="2978">
                <a:moveTo>
                  <a:pt x="11261" y="12378"/>
                </a:moveTo>
                <a:cubicBezTo>
                  <a:pt x="11228" y="12423"/>
                  <a:pt x="11214" y="12437"/>
                  <a:pt x="11162" y="12477"/>
                </a:cubicBezTo>
                <a:cubicBezTo>
                  <a:pt x="11125" y="12506"/>
                  <a:pt x="11132" y="12497"/>
                  <a:pt x="11112" y="12452"/>
                </a:cubicBezTo>
                <a:cubicBezTo>
                  <a:pt x="11085" y="12424"/>
                  <a:pt x="11077" y="12410"/>
                  <a:pt x="11088" y="12378"/>
                </a:cubicBezTo>
                <a:cubicBezTo>
                  <a:pt x="11003" y="12512"/>
                  <a:pt x="10879" y="12720"/>
                  <a:pt x="10790" y="12874"/>
                </a:cubicBezTo>
                <a:cubicBezTo>
                  <a:pt x="10624" y="13164"/>
                  <a:pt x="10453" y="13440"/>
                  <a:pt x="10269" y="13717"/>
                </a:cubicBezTo>
                <a:cubicBezTo>
                  <a:pt x="10250" y="13746"/>
                  <a:pt x="10259" y="13736"/>
                  <a:pt x="10244" y="13767"/>
                </a:cubicBezTo>
              </a:path>
              <a:path w="9600" h="2978">
                <a:moveTo>
                  <a:pt x="12923" y="12154"/>
                </a:moveTo>
                <a:cubicBezTo>
                  <a:pt x="12902" y="12118"/>
                  <a:pt x="12910" y="12093"/>
                  <a:pt x="12874" y="12080"/>
                </a:cubicBezTo>
                <a:cubicBezTo>
                  <a:pt x="12849" y="12080"/>
                  <a:pt x="12841" y="12080"/>
                  <a:pt x="12824" y="12080"/>
                </a:cubicBezTo>
                <a:cubicBezTo>
                  <a:pt x="12892" y="12223"/>
                  <a:pt x="12982" y="12342"/>
                  <a:pt x="13072" y="12477"/>
                </a:cubicBezTo>
                <a:cubicBezTo>
                  <a:pt x="13191" y="12655"/>
                  <a:pt x="13316" y="12775"/>
                  <a:pt x="13469" y="12923"/>
                </a:cubicBezTo>
                <a:cubicBezTo>
                  <a:pt x="13618" y="13068"/>
                  <a:pt x="13646" y="13225"/>
                  <a:pt x="13742" y="13395"/>
                </a:cubicBezTo>
                <a:cubicBezTo>
                  <a:pt x="13775" y="13453"/>
                  <a:pt x="13832" y="13477"/>
                  <a:pt x="13866" y="13519"/>
                </a:cubicBezTo>
                <a:cubicBezTo>
                  <a:pt x="13896" y="13556"/>
                  <a:pt x="13917" y="13596"/>
                  <a:pt x="13940" y="13643"/>
                </a:cubicBezTo>
                <a:cubicBezTo>
                  <a:pt x="13975" y="13712"/>
                  <a:pt x="13977" y="13679"/>
                  <a:pt x="13915" y="13618"/>
                </a:cubicBezTo>
              </a:path>
              <a:path w="9600" h="2978">
                <a:moveTo>
                  <a:pt x="13915" y="13543"/>
                </a:moveTo>
                <a:cubicBezTo>
                  <a:pt x="13909" y="13590"/>
                  <a:pt x="13925" y="13606"/>
                  <a:pt x="13891" y="13643"/>
                </a:cubicBezTo>
                <a:cubicBezTo>
                  <a:pt x="13784" y="13762"/>
                  <a:pt x="13668" y="13866"/>
                  <a:pt x="13568" y="13990"/>
                </a:cubicBezTo>
                <a:cubicBezTo>
                  <a:pt x="13464" y="14119"/>
                  <a:pt x="13372" y="14266"/>
                  <a:pt x="13295" y="14412"/>
                </a:cubicBezTo>
                <a:cubicBezTo>
                  <a:pt x="13230" y="14535"/>
                  <a:pt x="13148" y="14624"/>
                  <a:pt x="13072" y="14734"/>
                </a:cubicBezTo>
                <a:cubicBezTo>
                  <a:pt x="13061" y="14751"/>
                  <a:pt x="13057" y="14789"/>
                  <a:pt x="13047" y="14808"/>
                </a:cubicBezTo>
              </a:path>
              <a:path w="9600" h="2978">
                <a:moveTo>
                  <a:pt x="13146" y="14734"/>
                </a:moveTo>
                <a:cubicBezTo>
                  <a:pt x="13118" y="14696"/>
                  <a:pt x="13118" y="14692"/>
                  <a:pt x="13072" y="14684"/>
                </a:cubicBezTo>
                <a:cubicBezTo>
                  <a:pt x="12948" y="14662"/>
                  <a:pt x="12746" y="14739"/>
                  <a:pt x="12626" y="14759"/>
                </a:cubicBezTo>
                <a:cubicBezTo>
                  <a:pt x="12472" y="14784"/>
                  <a:pt x="12336" y="14759"/>
                  <a:pt x="12179" y="14759"/>
                </a:cubicBezTo>
                <a:cubicBezTo>
                  <a:pt x="12081" y="14759"/>
                  <a:pt x="11989" y="14768"/>
                  <a:pt x="11906" y="14784"/>
                </a:cubicBezTo>
                <a:cubicBezTo>
                  <a:pt x="11858" y="14793"/>
                  <a:pt x="11805" y="14802"/>
                  <a:pt x="11757" y="14808"/>
                </a:cubicBezTo>
                <a:cubicBezTo>
                  <a:pt x="11678" y="14818"/>
                  <a:pt x="11575" y="14808"/>
                  <a:pt x="11534" y="14784"/>
                </a:cubicBezTo>
              </a:path>
              <a:path w="9600" h="2978">
                <a:moveTo>
                  <a:pt x="10319" y="13866"/>
                </a:moveTo>
                <a:cubicBezTo>
                  <a:pt x="10415" y="13911"/>
                  <a:pt x="10503" y="13970"/>
                  <a:pt x="10592" y="14039"/>
                </a:cubicBezTo>
                <a:cubicBezTo>
                  <a:pt x="10741" y="14156"/>
                  <a:pt x="10855" y="14282"/>
                  <a:pt x="10964" y="14436"/>
                </a:cubicBezTo>
                <a:cubicBezTo>
                  <a:pt x="11021" y="14516"/>
                  <a:pt x="11073" y="14579"/>
                  <a:pt x="11137" y="14635"/>
                </a:cubicBezTo>
                <a:cubicBezTo>
                  <a:pt x="11178" y="14671"/>
                  <a:pt x="11221" y="14694"/>
                  <a:pt x="11261" y="14734"/>
                </a:cubicBezTo>
                <a:cubicBezTo>
                  <a:pt x="11291" y="14764"/>
                  <a:pt x="11325" y="14770"/>
                  <a:pt x="11361" y="14784"/>
                </a:cubicBezTo>
                <a:cubicBezTo>
                  <a:pt x="11406" y="14801"/>
                  <a:pt x="11448" y="14802"/>
                  <a:pt x="11485" y="14833"/>
                </a:cubicBezTo>
                <a:cubicBezTo>
                  <a:pt x="11493" y="14841"/>
                  <a:pt x="11501" y="14850"/>
                  <a:pt x="11509" y="14858"/>
                </a:cubicBezTo>
              </a:path>
              <a:path w="9600" h="2978">
                <a:moveTo>
                  <a:pt x="11212" y="12526"/>
                </a:moveTo>
                <a:cubicBezTo>
                  <a:pt x="11159" y="12513"/>
                  <a:pt x="11171" y="12490"/>
                  <a:pt x="11137" y="12452"/>
                </a:cubicBezTo>
                <a:cubicBezTo>
                  <a:pt x="11114" y="12429"/>
                  <a:pt x="11106" y="12425"/>
                  <a:pt x="11112" y="12402"/>
                </a:cubicBezTo>
                <a:cubicBezTo>
                  <a:pt x="11084" y="12460"/>
                  <a:pt x="11088" y="12506"/>
                  <a:pt x="11088" y="12576"/>
                </a:cubicBezTo>
                <a:cubicBezTo>
                  <a:pt x="11174" y="12576"/>
                  <a:pt x="11196" y="12508"/>
                  <a:pt x="11187" y="12427"/>
                </a:cubicBezTo>
                <a:cubicBezTo>
                  <a:pt x="11172" y="12289"/>
                  <a:pt x="11057" y="12369"/>
                  <a:pt x="11063" y="12427"/>
                </a:cubicBezTo>
                <a:cubicBezTo>
                  <a:pt x="11071" y="12435"/>
                  <a:pt x="11080" y="12444"/>
                  <a:pt x="11088" y="12452"/>
                </a:cubicBezTo>
              </a:path>
              <a:path w="9600" h="2978">
                <a:moveTo>
                  <a:pt x="11063" y="12576"/>
                </a:moveTo>
                <a:cubicBezTo>
                  <a:pt x="11085" y="12574"/>
                  <a:pt x="11120" y="12555"/>
                  <a:pt x="11187" y="12576"/>
                </a:cubicBezTo>
                <a:cubicBezTo>
                  <a:pt x="11333" y="12622"/>
                  <a:pt x="11491" y="12672"/>
                  <a:pt x="11633" y="12725"/>
                </a:cubicBezTo>
                <a:cubicBezTo>
                  <a:pt x="11752" y="12769"/>
                  <a:pt x="11856" y="12821"/>
                  <a:pt x="11981" y="12849"/>
                </a:cubicBezTo>
                <a:cubicBezTo>
                  <a:pt x="12080" y="12871"/>
                  <a:pt x="12181" y="12899"/>
                  <a:pt x="12278" y="12923"/>
                </a:cubicBezTo>
                <a:cubicBezTo>
                  <a:pt x="12386" y="12950"/>
                  <a:pt x="12473" y="13009"/>
                  <a:pt x="12576" y="13047"/>
                </a:cubicBezTo>
                <a:cubicBezTo>
                  <a:pt x="12661" y="13079"/>
                  <a:pt x="12744" y="13102"/>
                  <a:pt x="12824" y="13146"/>
                </a:cubicBezTo>
                <a:cubicBezTo>
                  <a:pt x="12906" y="13191"/>
                  <a:pt x="12974" y="13241"/>
                  <a:pt x="13047" y="13295"/>
                </a:cubicBezTo>
                <a:cubicBezTo>
                  <a:pt x="13094" y="13329"/>
                  <a:pt x="13148" y="13363"/>
                  <a:pt x="13196" y="13395"/>
                </a:cubicBezTo>
                <a:cubicBezTo>
                  <a:pt x="13252" y="13432"/>
                  <a:pt x="13291" y="13458"/>
                  <a:pt x="13345" y="13494"/>
                </a:cubicBezTo>
                <a:cubicBezTo>
                  <a:pt x="13436" y="13554"/>
                  <a:pt x="13542" y="13603"/>
                  <a:pt x="13643" y="13643"/>
                </a:cubicBezTo>
                <a:cubicBezTo>
                  <a:pt x="13677" y="13656"/>
                  <a:pt x="13664" y="13644"/>
                  <a:pt x="13692" y="13667"/>
                </a:cubicBezTo>
              </a:path>
              <a:path w="9600" h="2978">
                <a:moveTo>
                  <a:pt x="11162" y="12526"/>
                </a:moveTo>
                <a:cubicBezTo>
                  <a:pt x="11162" y="12518"/>
                  <a:pt x="11162" y="12510"/>
                  <a:pt x="11162" y="12502"/>
                </a:cubicBezTo>
                <a:cubicBezTo>
                  <a:pt x="11224" y="12563"/>
                  <a:pt x="11311" y="12680"/>
                  <a:pt x="11385" y="12750"/>
                </a:cubicBezTo>
                <a:cubicBezTo>
                  <a:pt x="11555" y="12912"/>
                  <a:pt x="11708" y="13062"/>
                  <a:pt x="11857" y="13246"/>
                </a:cubicBezTo>
                <a:cubicBezTo>
                  <a:pt x="11988" y="13408"/>
                  <a:pt x="12168" y="13593"/>
                  <a:pt x="12278" y="13767"/>
                </a:cubicBezTo>
                <a:cubicBezTo>
                  <a:pt x="12323" y="13838"/>
                  <a:pt x="12342" y="13875"/>
                  <a:pt x="12402" y="13940"/>
                </a:cubicBezTo>
                <a:cubicBezTo>
                  <a:pt x="12492" y="14039"/>
                  <a:pt x="12612" y="14117"/>
                  <a:pt x="12700" y="14213"/>
                </a:cubicBezTo>
                <a:cubicBezTo>
                  <a:pt x="12767" y="14287"/>
                  <a:pt x="12832" y="14364"/>
                  <a:pt x="12898" y="14436"/>
                </a:cubicBezTo>
                <a:cubicBezTo>
                  <a:pt x="12943" y="14485"/>
                  <a:pt x="12980" y="14531"/>
                  <a:pt x="13022" y="14585"/>
                </a:cubicBezTo>
                <a:cubicBezTo>
                  <a:pt x="13058" y="14631"/>
                  <a:pt x="13059" y="14640"/>
                  <a:pt x="13097" y="14684"/>
                </a:cubicBezTo>
              </a:path>
              <a:path w="9600" h="2978">
                <a:moveTo>
                  <a:pt x="11137" y="12477"/>
                </a:moveTo>
                <a:cubicBezTo>
                  <a:pt x="11137" y="12449"/>
                  <a:pt x="11135" y="12438"/>
                  <a:pt x="11112" y="12427"/>
                </a:cubicBezTo>
                <a:cubicBezTo>
                  <a:pt x="11129" y="12527"/>
                  <a:pt x="11144" y="12575"/>
                  <a:pt x="11162" y="12675"/>
                </a:cubicBezTo>
                <a:cubicBezTo>
                  <a:pt x="11203" y="12908"/>
                  <a:pt x="11236" y="13139"/>
                  <a:pt x="11286" y="13370"/>
                </a:cubicBezTo>
                <a:cubicBezTo>
                  <a:pt x="11314" y="13501"/>
                  <a:pt x="11347" y="13637"/>
                  <a:pt x="11361" y="13767"/>
                </a:cubicBezTo>
                <a:cubicBezTo>
                  <a:pt x="11371" y="13856"/>
                  <a:pt x="11381" y="13951"/>
                  <a:pt x="11385" y="14039"/>
                </a:cubicBezTo>
                <a:cubicBezTo>
                  <a:pt x="11390" y="14172"/>
                  <a:pt x="11395" y="14319"/>
                  <a:pt x="11410" y="14436"/>
                </a:cubicBezTo>
                <a:cubicBezTo>
                  <a:pt x="11419" y="14507"/>
                  <a:pt x="11449" y="14549"/>
                  <a:pt x="11460" y="14610"/>
                </a:cubicBezTo>
                <a:cubicBezTo>
                  <a:pt x="11461" y="14616"/>
                  <a:pt x="11453" y="14770"/>
                  <a:pt x="11485" y="14759"/>
                </a:cubicBezTo>
                <a:cubicBezTo>
                  <a:pt x="11485" y="14742"/>
                  <a:pt x="11485" y="14726"/>
                  <a:pt x="11485" y="14709"/>
                </a:cubicBezTo>
              </a:path>
              <a:path w="9600" h="2978">
                <a:moveTo>
                  <a:pt x="15205" y="12328"/>
                </a:moveTo>
                <a:cubicBezTo>
                  <a:pt x="15179" y="12236"/>
                  <a:pt x="15250" y="12189"/>
                  <a:pt x="15354" y="12154"/>
                </a:cubicBezTo>
                <a:cubicBezTo>
                  <a:pt x="15566" y="12083"/>
                  <a:pt x="15638" y="12268"/>
                  <a:pt x="15577" y="12452"/>
                </a:cubicBezTo>
                <a:cubicBezTo>
                  <a:pt x="15554" y="12521"/>
                  <a:pt x="15426" y="12800"/>
                  <a:pt x="15404" y="12626"/>
                </a:cubicBezTo>
                <a:cubicBezTo>
                  <a:pt x="15513" y="12558"/>
                  <a:pt x="15664" y="12456"/>
                  <a:pt x="15726" y="12650"/>
                </a:cubicBezTo>
                <a:cubicBezTo>
                  <a:pt x="15790" y="12851"/>
                  <a:pt x="15472" y="13024"/>
                  <a:pt x="15329" y="13072"/>
                </a:cubicBezTo>
                <a:cubicBezTo>
                  <a:pt x="15271" y="13080"/>
                  <a:pt x="15214" y="13089"/>
                  <a:pt x="15156" y="13097"/>
                </a:cubicBezTo>
              </a:path>
              <a:path w="9600" h="2978">
                <a:moveTo>
                  <a:pt x="12874" y="12179"/>
                </a:moveTo>
                <a:cubicBezTo>
                  <a:pt x="12861" y="12141"/>
                  <a:pt x="12852" y="12149"/>
                  <a:pt x="12824" y="12129"/>
                </a:cubicBezTo>
                <a:cubicBezTo>
                  <a:pt x="12816" y="12121"/>
                  <a:pt x="12807" y="12113"/>
                  <a:pt x="12799" y="12105"/>
                </a:cubicBezTo>
                <a:cubicBezTo>
                  <a:pt x="12799" y="12181"/>
                  <a:pt x="12783" y="12359"/>
                  <a:pt x="12874" y="12402"/>
                </a:cubicBezTo>
                <a:cubicBezTo>
                  <a:pt x="13010" y="12467"/>
                  <a:pt x="12939" y="12158"/>
                  <a:pt x="12923" y="12129"/>
                </a:cubicBezTo>
                <a:cubicBezTo>
                  <a:pt x="12876" y="12146"/>
                  <a:pt x="12687" y="12281"/>
                  <a:pt x="12774" y="12378"/>
                </a:cubicBezTo>
                <a:cubicBezTo>
                  <a:pt x="12814" y="12422"/>
                  <a:pt x="12844" y="12314"/>
                  <a:pt x="12849" y="12254"/>
                </a:cubicBezTo>
              </a:path>
              <a:path w="9600" h="2978">
                <a:moveTo>
                  <a:pt x="11137" y="12303"/>
                </a:moveTo>
                <a:cubicBezTo>
                  <a:pt x="11043" y="12351"/>
                  <a:pt x="11095" y="12430"/>
                  <a:pt x="11137" y="12502"/>
                </a:cubicBezTo>
                <a:cubicBezTo>
                  <a:pt x="11157" y="12489"/>
                  <a:pt x="11205" y="12330"/>
                  <a:pt x="11112" y="12353"/>
                </a:cubicBezTo>
                <a:cubicBezTo>
                  <a:pt x="10928" y="12398"/>
                  <a:pt x="11082" y="12558"/>
                  <a:pt x="11162" y="12576"/>
                </a:cubicBezTo>
              </a:path>
              <a:path w="9600" h="2978">
                <a:moveTo>
                  <a:pt x="12849" y="12229"/>
                </a:moveTo>
                <a:lnTo>
                  <a:pt x="12849" y="12229"/>
                </a:lnTo>
              </a:path>
              <a:path w="9600" h="2978">
                <a:moveTo>
                  <a:pt x="12898" y="12229"/>
                </a:moveTo>
                <a:cubicBezTo>
                  <a:pt x="12842" y="12270"/>
                  <a:pt x="12781" y="12323"/>
                  <a:pt x="12725" y="12378"/>
                </a:cubicBezTo>
                <a:cubicBezTo>
                  <a:pt x="12628" y="12475"/>
                  <a:pt x="12544" y="12531"/>
                  <a:pt x="12427" y="12601"/>
                </a:cubicBezTo>
                <a:cubicBezTo>
                  <a:pt x="12338" y="12654"/>
                  <a:pt x="12276" y="12732"/>
                  <a:pt x="12179" y="12774"/>
                </a:cubicBezTo>
                <a:cubicBezTo>
                  <a:pt x="12108" y="12805"/>
                  <a:pt x="12032" y="12824"/>
                  <a:pt x="11956" y="12849"/>
                </a:cubicBezTo>
                <a:cubicBezTo>
                  <a:pt x="11828" y="12890"/>
                  <a:pt x="11709" y="12950"/>
                  <a:pt x="11584" y="12998"/>
                </a:cubicBezTo>
                <a:cubicBezTo>
                  <a:pt x="11495" y="13032"/>
                  <a:pt x="11396" y="13053"/>
                  <a:pt x="11311" y="13097"/>
                </a:cubicBezTo>
                <a:cubicBezTo>
                  <a:pt x="11188" y="13160"/>
                  <a:pt x="11120" y="13233"/>
                  <a:pt x="11013" y="13320"/>
                </a:cubicBezTo>
                <a:cubicBezTo>
                  <a:pt x="10941" y="13379"/>
                  <a:pt x="10889" y="13441"/>
                  <a:pt x="10815" y="13494"/>
                </a:cubicBezTo>
                <a:cubicBezTo>
                  <a:pt x="10713" y="13568"/>
                  <a:pt x="10632" y="13653"/>
                  <a:pt x="10542" y="13742"/>
                </a:cubicBezTo>
                <a:cubicBezTo>
                  <a:pt x="10509" y="13775"/>
                  <a:pt x="10476" y="13808"/>
                  <a:pt x="10443" y="13841"/>
                </a:cubicBezTo>
                <a:cubicBezTo>
                  <a:pt x="10497" y="13741"/>
                  <a:pt x="10487" y="13756"/>
                  <a:pt x="10592" y="13618"/>
                </a:cubicBezTo>
              </a:path>
              <a:path w="9600" h="2978">
                <a:moveTo>
                  <a:pt x="12774" y="12229"/>
                </a:moveTo>
                <a:cubicBezTo>
                  <a:pt x="12737" y="12299"/>
                  <a:pt x="12702" y="12372"/>
                  <a:pt x="12650" y="12452"/>
                </a:cubicBezTo>
                <a:cubicBezTo>
                  <a:pt x="12529" y="12636"/>
                  <a:pt x="12394" y="12811"/>
                  <a:pt x="12278" y="12998"/>
                </a:cubicBezTo>
                <a:cubicBezTo>
                  <a:pt x="12191" y="13138"/>
                  <a:pt x="12098" y="13294"/>
                  <a:pt x="12030" y="13444"/>
                </a:cubicBezTo>
                <a:cubicBezTo>
                  <a:pt x="11987" y="13540"/>
                  <a:pt x="11970" y="13646"/>
                  <a:pt x="11931" y="13742"/>
                </a:cubicBezTo>
                <a:cubicBezTo>
                  <a:pt x="11875" y="13881"/>
                  <a:pt x="11800" y="14019"/>
                  <a:pt x="11757" y="14163"/>
                </a:cubicBezTo>
                <a:cubicBezTo>
                  <a:pt x="11724" y="14275"/>
                  <a:pt x="11675" y="14375"/>
                  <a:pt x="11633" y="14486"/>
                </a:cubicBezTo>
                <a:cubicBezTo>
                  <a:pt x="11605" y="14560"/>
                  <a:pt x="11560" y="14679"/>
                  <a:pt x="11509" y="14734"/>
                </a:cubicBezTo>
                <a:cubicBezTo>
                  <a:pt x="11478" y="14767"/>
                  <a:pt x="11460" y="14788"/>
                  <a:pt x="11460" y="14759"/>
                </a:cubicBezTo>
                <a:cubicBezTo>
                  <a:pt x="11468" y="14726"/>
                  <a:pt x="11477" y="14693"/>
                  <a:pt x="11485" y="14660"/>
                </a:cubicBezTo>
              </a:path>
              <a:path w="9600" h="2978">
                <a:moveTo>
                  <a:pt x="12923" y="12204"/>
                </a:moveTo>
                <a:lnTo>
                  <a:pt x="12923" y="12204"/>
                </a:lnTo>
              </a:path>
              <a:path w="9600" h="2978">
                <a:moveTo>
                  <a:pt x="12923" y="12105"/>
                </a:moveTo>
                <a:cubicBezTo>
                  <a:pt x="12898" y="12105"/>
                  <a:pt x="12874" y="12105"/>
                  <a:pt x="12849" y="12105"/>
                </a:cubicBezTo>
                <a:cubicBezTo>
                  <a:pt x="12837" y="12214"/>
                  <a:pt x="12824" y="12314"/>
                  <a:pt x="12824" y="12427"/>
                </a:cubicBezTo>
                <a:cubicBezTo>
                  <a:pt x="12824" y="12587"/>
                  <a:pt x="12860" y="12739"/>
                  <a:pt x="12874" y="12898"/>
                </a:cubicBezTo>
                <a:cubicBezTo>
                  <a:pt x="12887" y="13049"/>
                  <a:pt x="12935" y="13195"/>
                  <a:pt x="12948" y="13345"/>
                </a:cubicBezTo>
                <a:cubicBezTo>
                  <a:pt x="12961" y="13493"/>
                  <a:pt x="12945" y="13645"/>
                  <a:pt x="12973" y="13791"/>
                </a:cubicBezTo>
                <a:cubicBezTo>
                  <a:pt x="12992" y="13889"/>
                  <a:pt x="13017" y="13988"/>
                  <a:pt x="13022" y="14089"/>
                </a:cubicBezTo>
                <a:cubicBezTo>
                  <a:pt x="13026" y="14161"/>
                  <a:pt x="13060" y="14219"/>
                  <a:pt x="13072" y="14288"/>
                </a:cubicBezTo>
                <a:cubicBezTo>
                  <a:pt x="13085" y="14368"/>
                  <a:pt x="13101" y="14460"/>
                  <a:pt x="13122" y="14536"/>
                </a:cubicBezTo>
                <a:cubicBezTo>
                  <a:pt x="13145" y="14617"/>
                  <a:pt x="13161" y="14698"/>
                  <a:pt x="13171" y="14784"/>
                </a:cubicBezTo>
                <a:cubicBezTo>
                  <a:pt x="13178" y="14846"/>
                  <a:pt x="13171" y="14768"/>
                  <a:pt x="13171" y="14759"/>
                </a:cubicBezTo>
              </a:path>
              <a:path w="9600" h="2978">
                <a:moveTo>
                  <a:pt x="16073" y="12303"/>
                </a:moveTo>
                <a:lnTo>
                  <a:pt x="16073" y="12353"/>
                </a:lnTo>
                <a:lnTo>
                  <a:pt x="16098" y="12502"/>
                </a:lnTo>
                <a:lnTo>
                  <a:pt x="16123" y="12650"/>
                </a:lnTo>
                <a:lnTo>
                  <a:pt x="16148" y="12774"/>
                </a:lnTo>
                <a:lnTo>
                  <a:pt x="16148" y="12849"/>
                </a:lnTo>
                <a:lnTo>
                  <a:pt x="16148" y="12824"/>
                </a:lnTo>
              </a:path>
              <a:path w="9600" h="2978">
                <a:moveTo>
                  <a:pt x="15999" y="12675"/>
                </a:moveTo>
                <a:cubicBezTo>
                  <a:pt x="16100" y="12636"/>
                  <a:pt x="16197" y="12593"/>
                  <a:pt x="16297" y="12551"/>
                </a:cubicBezTo>
              </a:path>
              <a:path w="9600" h="2978">
                <a:moveTo>
                  <a:pt x="16570" y="12278"/>
                </a:moveTo>
                <a:cubicBezTo>
                  <a:pt x="16642" y="12223"/>
                  <a:pt x="16722" y="12167"/>
                  <a:pt x="16793" y="12179"/>
                </a:cubicBezTo>
                <a:cubicBezTo>
                  <a:pt x="16793" y="12330"/>
                  <a:pt x="16794" y="12388"/>
                  <a:pt x="16694" y="12502"/>
                </a:cubicBezTo>
                <a:cubicBezTo>
                  <a:pt x="16818" y="12470"/>
                  <a:pt x="16820" y="12364"/>
                  <a:pt x="16991" y="12402"/>
                </a:cubicBezTo>
                <a:cubicBezTo>
                  <a:pt x="17189" y="12446"/>
                  <a:pt x="16944" y="12743"/>
                  <a:pt x="16867" y="12774"/>
                </a:cubicBezTo>
                <a:cubicBezTo>
                  <a:pt x="16694" y="12803"/>
                  <a:pt x="16620" y="12809"/>
                  <a:pt x="16495" y="12774"/>
                </a:cubicBezTo>
              </a:path>
              <a:path w="9600" h="2978">
                <a:moveTo>
                  <a:pt x="13965" y="13667"/>
                </a:moveTo>
                <a:cubicBezTo>
                  <a:pt x="13903" y="13667"/>
                  <a:pt x="13917" y="13679"/>
                  <a:pt x="13891" y="13742"/>
                </a:cubicBezTo>
                <a:cubicBezTo>
                  <a:pt x="13962" y="13813"/>
                  <a:pt x="14033" y="13814"/>
                  <a:pt x="14064" y="13692"/>
                </a:cubicBezTo>
                <a:cubicBezTo>
                  <a:pt x="14100" y="13548"/>
                  <a:pt x="13921" y="13663"/>
                  <a:pt x="13891" y="13717"/>
                </a:cubicBezTo>
                <a:cubicBezTo>
                  <a:pt x="13883" y="13742"/>
                  <a:pt x="13874" y="13766"/>
                  <a:pt x="13866" y="13791"/>
                </a:cubicBezTo>
                <a:cubicBezTo>
                  <a:pt x="13866" y="13799"/>
                  <a:pt x="13866" y="13808"/>
                  <a:pt x="13866" y="13816"/>
                </a:cubicBezTo>
                <a:cubicBezTo>
                  <a:pt x="13897" y="13804"/>
                  <a:pt x="14042" y="13696"/>
                  <a:pt x="13940" y="13643"/>
                </a:cubicBezTo>
                <a:cubicBezTo>
                  <a:pt x="13889" y="13617"/>
                  <a:pt x="13870" y="13721"/>
                  <a:pt x="13866" y="13742"/>
                </a:cubicBezTo>
              </a:path>
              <a:path w="9600" h="2978">
                <a:moveTo>
                  <a:pt x="13965" y="13717"/>
                </a:moveTo>
                <a:cubicBezTo>
                  <a:pt x="13926" y="13713"/>
                  <a:pt x="13879" y="13696"/>
                  <a:pt x="13816" y="13692"/>
                </a:cubicBezTo>
                <a:cubicBezTo>
                  <a:pt x="13656" y="13683"/>
                  <a:pt x="13496" y="13704"/>
                  <a:pt x="13345" y="13717"/>
                </a:cubicBezTo>
                <a:cubicBezTo>
                  <a:pt x="13270" y="13723"/>
                  <a:pt x="13191" y="13736"/>
                  <a:pt x="13122" y="13742"/>
                </a:cubicBezTo>
                <a:cubicBezTo>
                  <a:pt x="13029" y="13751"/>
                  <a:pt x="12940" y="13765"/>
                  <a:pt x="12849" y="13767"/>
                </a:cubicBezTo>
                <a:cubicBezTo>
                  <a:pt x="12671" y="13772"/>
                  <a:pt x="12504" y="13828"/>
                  <a:pt x="12328" y="13841"/>
                </a:cubicBezTo>
                <a:cubicBezTo>
                  <a:pt x="12161" y="13853"/>
                  <a:pt x="11973" y="13878"/>
                  <a:pt x="11807" y="13866"/>
                </a:cubicBezTo>
                <a:cubicBezTo>
                  <a:pt x="11611" y="13851"/>
                  <a:pt x="11408" y="13838"/>
                  <a:pt x="11212" y="13816"/>
                </a:cubicBezTo>
                <a:cubicBezTo>
                  <a:pt x="11030" y="13796"/>
                  <a:pt x="10850" y="13770"/>
                  <a:pt x="10666" y="13767"/>
                </a:cubicBezTo>
                <a:cubicBezTo>
                  <a:pt x="10524" y="13764"/>
                  <a:pt x="10115" y="13731"/>
                  <a:pt x="10244" y="13791"/>
                </a:cubicBezTo>
                <a:cubicBezTo>
                  <a:pt x="10329" y="13831"/>
                  <a:pt x="10163" y="13783"/>
                  <a:pt x="10393" y="13816"/>
                </a:cubicBezTo>
              </a:path>
              <a:path w="9600" h="2978">
                <a:moveTo>
                  <a:pt x="13891" y="13692"/>
                </a:moveTo>
                <a:cubicBezTo>
                  <a:pt x="13883" y="13693"/>
                  <a:pt x="13803" y="13690"/>
                  <a:pt x="13742" y="13717"/>
                </a:cubicBezTo>
                <a:cubicBezTo>
                  <a:pt x="13590" y="13784"/>
                  <a:pt x="13444" y="13846"/>
                  <a:pt x="13295" y="13915"/>
                </a:cubicBezTo>
                <a:cubicBezTo>
                  <a:pt x="13144" y="13984"/>
                  <a:pt x="12999" y="14066"/>
                  <a:pt x="12849" y="14139"/>
                </a:cubicBezTo>
                <a:cubicBezTo>
                  <a:pt x="12733" y="14195"/>
                  <a:pt x="12618" y="14261"/>
                  <a:pt x="12502" y="14312"/>
                </a:cubicBezTo>
                <a:cubicBezTo>
                  <a:pt x="12377" y="14367"/>
                  <a:pt x="12286" y="14395"/>
                  <a:pt x="12179" y="14486"/>
                </a:cubicBezTo>
                <a:cubicBezTo>
                  <a:pt x="12045" y="14600"/>
                  <a:pt x="11894" y="14686"/>
                  <a:pt x="11757" y="14784"/>
                </a:cubicBezTo>
                <a:cubicBezTo>
                  <a:pt x="11670" y="14846"/>
                  <a:pt x="11578" y="14900"/>
                  <a:pt x="11485" y="14957"/>
                </a:cubicBezTo>
                <a:cubicBezTo>
                  <a:pt x="11445" y="14982"/>
                  <a:pt x="11430" y="15018"/>
                  <a:pt x="11385" y="15032"/>
                </a:cubicBezTo>
                <a:cubicBezTo>
                  <a:pt x="11385" y="15024"/>
                  <a:pt x="11385" y="15015"/>
                  <a:pt x="11385" y="15007"/>
                </a:cubicBezTo>
              </a:path>
              <a:path w="9600" h="2978">
                <a:moveTo>
                  <a:pt x="17686" y="12154"/>
                </a:moveTo>
                <a:cubicBezTo>
                  <a:pt x="17700" y="12312"/>
                  <a:pt x="17711" y="12465"/>
                  <a:pt x="17711" y="12626"/>
                </a:cubicBezTo>
                <a:cubicBezTo>
                  <a:pt x="17711" y="12667"/>
                  <a:pt x="17711" y="12741"/>
                  <a:pt x="17711" y="12700"/>
                </a:cubicBezTo>
              </a:path>
              <a:path w="9600" h="2978">
                <a:moveTo>
                  <a:pt x="17413" y="12551"/>
                </a:moveTo>
                <a:cubicBezTo>
                  <a:pt x="17607" y="12486"/>
                  <a:pt x="17795" y="12411"/>
                  <a:pt x="17983" y="12328"/>
                </a:cubicBezTo>
              </a:path>
              <a:path w="9600" h="2978">
                <a:moveTo>
                  <a:pt x="18157" y="12105"/>
                </a:moveTo>
                <a:cubicBezTo>
                  <a:pt x="18255" y="12055"/>
                  <a:pt x="18253" y="12045"/>
                  <a:pt x="18355" y="12080"/>
                </a:cubicBezTo>
                <a:cubicBezTo>
                  <a:pt x="18371" y="12273"/>
                  <a:pt x="18235" y="12362"/>
                  <a:pt x="18132" y="12526"/>
                </a:cubicBezTo>
                <a:cubicBezTo>
                  <a:pt x="18096" y="12600"/>
                  <a:pt x="18108" y="12633"/>
                  <a:pt x="18058" y="12626"/>
                </a:cubicBezTo>
                <a:cubicBezTo>
                  <a:pt x="18207" y="12639"/>
                  <a:pt x="18390" y="12572"/>
                  <a:pt x="18554" y="12551"/>
                </a:cubicBezTo>
                <a:cubicBezTo>
                  <a:pt x="18571" y="12551"/>
                  <a:pt x="18587" y="12551"/>
                  <a:pt x="18604" y="12551"/>
                </a:cubicBezTo>
              </a:path>
              <a:path w="9600" h="2978">
                <a:moveTo>
                  <a:pt x="13122" y="14734"/>
                </a:moveTo>
                <a:cubicBezTo>
                  <a:pt x="13051" y="14681"/>
                  <a:pt x="13052" y="14769"/>
                  <a:pt x="13072" y="14833"/>
                </a:cubicBezTo>
                <a:cubicBezTo>
                  <a:pt x="13104" y="14935"/>
                  <a:pt x="13214" y="14800"/>
                  <a:pt x="13221" y="14759"/>
                </a:cubicBezTo>
                <a:cubicBezTo>
                  <a:pt x="13221" y="14726"/>
                  <a:pt x="13221" y="14693"/>
                  <a:pt x="13221" y="14660"/>
                </a:cubicBezTo>
                <a:cubicBezTo>
                  <a:pt x="13086" y="14609"/>
                  <a:pt x="13091" y="14685"/>
                  <a:pt x="13072" y="14808"/>
                </a:cubicBezTo>
                <a:cubicBezTo>
                  <a:pt x="13110" y="14846"/>
                  <a:pt x="13168" y="14882"/>
                  <a:pt x="13146" y="14784"/>
                </a:cubicBezTo>
                <a:cubicBezTo>
                  <a:pt x="13138" y="14767"/>
                  <a:pt x="13130" y="14751"/>
                  <a:pt x="13122" y="14734"/>
                </a:cubicBezTo>
              </a:path>
              <a:path w="9600" h="2978">
                <a:moveTo>
                  <a:pt x="13221" y="14684"/>
                </a:moveTo>
                <a:cubicBezTo>
                  <a:pt x="13188" y="14700"/>
                  <a:pt x="13162" y="14736"/>
                  <a:pt x="13122" y="14734"/>
                </a:cubicBezTo>
                <a:cubicBezTo>
                  <a:pt x="13068" y="14732"/>
                  <a:pt x="13023" y="14700"/>
                  <a:pt x="12973" y="14684"/>
                </a:cubicBezTo>
                <a:cubicBezTo>
                  <a:pt x="12885" y="14655"/>
                  <a:pt x="12811" y="14642"/>
                  <a:pt x="12725" y="14610"/>
                </a:cubicBezTo>
                <a:cubicBezTo>
                  <a:pt x="12666" y="14588"/>
                  <a:pt x="12631" y="14566"/>
                  <a:pt x="12576" y="14536"/>
                </a:cubicBezTo>
                <a:cubicBezTo>
                  <a:pt x="12531" y="14511"/>
                  <a:pt x="12478" y="14502"/>
                  <a:pt x="12427" y="14486"/>
                </a:cubicBezTo>
                <a:cubicBezTo>
                  <a:pt x="12346" y="14461"/>
                  <a:pt x="12252" y="14429"/>
                  <a:pt x="12179" y="14387"/>
                </a:cubicBezTo>
                <a:cubicBezTo>
                  <a:pt x="12104" y="14344"/>
                  <a:pt x="12063" y="14312"/>
                  <a:pt x="11981" y="14288"/>
                </a:cubicBezTo>
                <a:cubicBezTo>
                  <a:pt x="11909" y="14267"/>
                  <a:pt x="11831" y="14228"/>
                  <a:pt x="11757" y="14213"/>
                </a:cubicBezTo>
                <a:cubicBezTo>
                  <a:pt x="11636" y="14188"/>
                  <a:pt x="11505" y="14171"/>
                  <a:pt x="11385" y="14139"/>
                </a:cubicBezTo>
                <a:cubicBezTo>
                  <a:pt x="11308" y="14118"/>
                  <a:pt x="11236" y="14084"/>
                  <a:pt x="11162" y="14064"/>
                </a:cubicBezTo>
                <a:cubicBezTo>
                  <a:pt x="11086" y="14043"/>
                  <a:pt x="11017" y="14032"/>
                  <a:pt x="10939" y="14015"/>
                </a:cubicBezTo>
                <a:cubicBezTo>
                  <a:pt x="10848" y="13995"/>
                  <a:pt x="10726" y="13993"/>
                  <a:pt x="10641" y="13965"/>
                </a:cubicBezTo>
                <a:cubicBezTo>
                  <a:pt x="10558" y="13937"/>
                  <a:pt x="10466" y="13896"/>
                  <a:pt x="10393" y="13866"/>
                </a:cubicBezTo>
                <a:cubicBezTo>
                  <a:pt x="10360" y="13853"/>
                  <a:pt x="10328" y="13853"/>
                  <a:pt x="10294" y="13841"/>
                </a:cubicBezTo>
                <a:cubicBezTo>
                  <a:pt x="10269" y="13841"/>
                  <a:pt x="10261" y="13841"/>
                  <a:pt x="10294" y="13841"/>
                </a:cubicBezTo>
              </a:path>
              <a:path w="9600" h="2978">
                <a:moveTo>
                  <a:pt x="19050" y="12254"/>
                </a:moveTo>
                <a:cubicBezTo>
                  <a:pt x="19050" y="12229"/>
                  <a:pt x="19050" y="12221"/>
                  <a:pt x="19050" y="12204"/>
                </a:cubicBezTo>
                <a:cubicBezTo>
                  <a:pt x="19101" y="12238"/>
                  <a:pt x="19110" y="12430"/>
                  <a:pt x="19124" y="12502"/>
                </a:cubicBezTo>
                <a:cubicBezTo>
                  <a:pt x="19141" y="12589"/>
                  <a:pt x="19176" y="12637"/>
                  <a:pt x="19149" y="12650"/>
                </a:cubicBezTo>
              </a:path>
              <a:path w="9600" h="2978">
                <a:moveTo>
                  <a:pt x="19050" y="12551"/>
                </a:moveTo>
                <a:cubicBezTo>
                  <a:pt x="19166" y="12528"/>
                  <a:pt x="19282" y="12504"/>
                  <a:pt x="19397" y="12477"/>
                </a:cubicBezTo>
              </a:path>
              <a:path w="9600" h="2978">
                <a:moveTo>
                  <a:pt x="19745" y="12129"/>
                </a:moveTo>
                <a:cubicBezTo>
                  <a:pt x="19763" y="12311"/>
                  <a:pt x="19764" y="12494"/>
                  <a:pt x="19794" y="12675"/>
                </a:cubicBezTo>
                <a:cubicBezTo>
                  <a:pt x="19813" y="12749"/>
                  <a:pt x="19821" y="12756"/>
                  <a:pt x="19819" y="12799"/>
                </a:cubicBezTo>
              </a:path>
              <a:path w="9600" h="2978">
                <a:moveTo>
                  <a:pt x="11460" y="14932"/>
                </a:moveTo>
                <a:cubicBezTo>
                  <a:pt x="11408" y="14932"/>
                  <a:pt x="11410" y="14930"/>
                  <a:pt x="11410" y="14982"/>
                </a:cubicBezTo>
                <a:cubicBezTo>
                  <a:pt x="11410" y="15113"/>
                  <a:pt x="11438" y="14904"/>
                  <a:pt x="11435" y="14883"/>
                </a:cubicBezTo>
                <a:cubicBezTo>
                  <a:pt x="11416" y="14825"/>
                  <a:pt x="11425" y="14800"/>
                  <a:pt x="11385" y="14808"/>
                </a:cubicBezTo>
                <a:cubicBezTo>
                  <a:pt x="11385" y="14813"/>
                  <a:pt x="11376" y="15041"/>
                  <a:pt x="11435" y="14982"/>
                </a:cubicBezTo>
                <a:cubicBezTo>
                  <a:pt x="11470" y="14947"/>
                  <a:pt x="11460" y="14901"/>
                  <a:pt x="11460" y="14858"/>
                </a:cubicBezTo>
              </a:path>
              <a:path w="9600" h="2978">
                <a:moveTo>
                  <a:pt x="10368" y="13940"/>
                </a:moveTo>
                <a:cubicBezTo>
                  <a:pt x="10360" y="13932"/>
                  <a:pt x="10352" y="13923"/>
                  <a:pt x="10344" y="13915"/>
                </a:cubicBezTo>
              </a:path>
              <a:path w="9600" h="2978">
                <a:moveTo>
                  <a:pt x="11237" y="12452"/>
                </a:moveTo>
                <a:cubicBezTo>
                  <a:pt x="11229" y="12452"/>
                  <a:pt x="11220" y="12452"/>
                  <a:pt x="11212" y="124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86760" y="4419720"/>
            <a:ext cx="196560" cy="15228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0241" y="12353"/>
                </a:moveTo>
                <a:cubicBezTo>
                  <a:pt x="20364" y="12353"/>
                  <a:pt x="20493" y="12327"/>
                  <a:pt x="20613" y="12303"/>
                </a:cubicBezTo>
                <a:cubicBezTo>
                  <a:pt x="20705" y="12285"/>
                  <a:pt x="20761" y="12254"/>
                  <a:pt x="20762" y="12328"/>
                </a:cubicBezTo>
              </a:path>
              <a:path w="546" h="423">
                <a:moveTo>
                  <a:pt x="20414" y="12700"/>
                </a:moveTo>
                <a:cubicBezTo>
                  <a:pt x="20536" y="12659"/>
                  <a:pt x="20649" y="12629"/>
                  <a:pt x="20762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96160" y="4259160"/>
            <a:ext cx="241200" cy="438120"/>
          </a:xfrm>
          <a:custGeom>
            <a:avLst/>
            <a:gdLst/>
            <a:ahLst/>
            <a:rect l="l" t="t" r="r" b="b"/>
            <a:pathLst>
              <a:path w="671" h="1216">
                <a:moveTo>
                  <a:pt x="22324" y="12204"/>
                </a:moveTo>
                <a:cubicBezTo>
                  <a:pt x="22314" y="12111"/>
                  <a:pt x="22299" y="12056"/>
                  <a:pt x="22225" y="11981"/>
                </a:cubicBezTo>
                <a:cubicBezTo>
                  <a:pt x="22050" y="11806"/>
                  <a:pt x="21813" y="11767"/>
                  <a:pt x="21704" y="12030"/>
                </a:cubicBezTo>
                <a:cubicBezTo>
                  <a:pt x="21623" y="12225"/>
                  <a:pt x="21656" y="12352"/>
                  <a:pt x="21729" y="12526"/>
                </a:cubicBezTo>
                <a:cubicBezTo>
                  <a:pt x="21989" y="12448"/>
                  <a:pt x="22028" y="12363"/>
                  <a:pt x="22126" y="12105"/>
                </a:cubicBezTo>
                <a:cubicBezTo>
                  <a:pt x="22134" y="12080"/>
                  <a:pt x="22143" y="12055"/>
                  <a:pt x="22151" y="12030"/>
                </a:cubicBezTo>
                <a:cubicBezTo>
                  <a:pt x="22151" y="12255"/>
                  <a:pt x="22195" y="12477"/>
                  <a:pt x="22225" y="12700"/>
                </a:cubicBezTo>
                <a:cubicBezTo>
                  <a:pt x="22232" y="12751"/>
                  <a:pt x="22291" y="12999"/>
                  <a:pt x="22275" y="13047"/>
                </a:cubicBezTo>
                <a:cubicBezTo>
                  <a:pt x="22267" y="13039"/>
                  <a:pt x="22258" y="13030"/>
                  <a:pt x="22250" y="130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5589720"/>
            <a:ext cx="1268280" cy="94752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9475" y="15677"/>
                </a:moveTo>
                <a:cubicBezTo>
                  <a:pt x="9356" y="15667"/>
                  <a:pt x="9284" y="15644"/>
                  <a:pt x="9153" y="15677"/>
                </a:cubicBezTo>
                <a:cubicBezTo>
                  <a:pt x="8912" y="15738"/>
                  <a:pt x="8732" y="15908"/>
                  <a:pt x="8582" y="16098"/>
                </a:cubicBezTo>
                <a:cubicBezTo>
                  <a:pt x="8372" y="16364"/>
                  <a:pt x="8310" y="16705"/>
                  <a:pt x="8359" y="17041"/>
                </a:cubicBezTo>
                <a:cubicBezTo>
                  <a:pt x="8399" y="17318"/>
                  <a:pt x="8591" y="17633"/>
                  <a:pt x="8781" y="17835"/>
                </a:cubicBezTo>
                <a:cubicBezTo>
                  <a:pt x="8968" y="18033"/>
                  <a:pt x="9259" y="18136"/>
                  <a:pt x="9525" y="18157"/>
                </a:cubicBezTo>
                <a:cubicBezTo>
                  <a:pt x="9782" y="18177"/>
                  <a:pt x="10178" y="18161"/>
                  <a:pt x="10418" y="18058"/>
                </a:cubicBezTo>
                <a:cubicBezTo>
                  <a:pt x="10747" y="17917"/>
                  <a:pt x="11085" y="17734"/>
                  <a:pt x="11385" y="17537"/>
                </a:cubicBezTo>
                <a:cubicBezTo>
                  <a:pt x="11589" y="17403"/>
                  <a:pt x="11782" y="17208"/>
                  <a:pt x="11857" y="16966"/>
                </a:cubicBezTo>
                <a:cubicBezTo>
                  <a:pt x="11951" y="16662"/>
                  <a:pt x="11875" y="16255"/>
                  <a:pt x="11708" y="15999"/>
                </a:cubicBezTo>
                <a:cubicBezTo>
                  <a:pt x="11607" y="15845"/>
                  <a:pt x="11377" y="15594"/>
                  <a:pt x="11187" y="15553"/>
                </a:cubicBezTo>
                <a:cubicBezTo>
                  <a:pt x="10999" y="15512"/>
                  <a:pt x="10804" y="15541"/>
                  <a:pt x="10616" y="15553"/>
                </a:cubicBezTo>
                <a:cubicBezTo>
                  <a:pt x="10451" y="15563"/>
                  <a:pt x="10285" y="15574"/>
                  <a:pt x="10120" y="15577"/>
                </a:cubicBezTo>
                <a:cubicBezTo>
                  <a:pt x="9941" y="15580"/>
                  <a:pt x="9772" y="15569"/>
                  <a:pt x="9599" y="15627"/>
                </a:cubicBezTo>
                <a:cubicBezTo>
                  <a:pt x="9436" y="15682"/>
                  <a:pt x="9284" y="15782"/>
                  <a:pt x="9128" y="15850"/>
                </a:cubicBezTo>
                <a:cubicBezTo>
                  <a:pt x="9100" y="15862"/>
                  <a:pt x="8990" y="15920"/>
                  <a:pt x="8979" y="159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4760" y="5848200"/>
            <a:ext cx="241200" cy="29556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4337" y="16321"/>
                </a:moveTo>
                <a:cubicBezTo>
                  <a:pt x="14347" y="16284"/>
                  <a:pt x="14364" y="16234"/>
                  <a:pt x="14312" y="16297"/>
                </a:cubicBezTo>
                <a:cubicBezTo>
                  <a:pt x="14193" y="16441"/>
                  <a:pt x="14073" y="16575"/>
                  <a:pt x="14039" y="16768"/>
                </a:cubicBezTo>
                <a:cubicBezTo>
                  <a:pt x="14003" y="16975"/>
                  <a:pt x="14149" y="17074"/>
                  <a:pt x="14337" y="17066"/>
                </a:cubicBezTo>
                <a:cubicBezTo>
                  <a:pt x="14519" y="17058"/>
                  <a:pt x="14626" y="16924"/>
                  <a:pt x="14684" y="16768"/>
                </a:cubicBezTo>
                <a:cubicBezTo>
                  <a:pt x="14736" y="16627"/>
                  <a:pt x="14723" y="16460"/>
                  <a:pt x="14585" y="16371"/>
                </a:cubicBezTo>
                <a:cubicBezTo>
                  <a:pt x="14518" y="16328"/>
                  <a:pt x="14328" y="16245"/>
                  <a:pt x="14288" y="1627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0120" y="1598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417" y="4465"/>
                </a:moveTo>
                <a:cubicBezTo>
                  <a:pt x="7417" y="4457"/>
                  <a:pt x="7417" y="4448"/>
                  <a:pt x="7417" y="44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1704960"/>
            <a:ext cx="884160" cy="938160"/>
          </a:xfrm>
          <a:custGeom>
            <a:avLst/>
            <a:gdLst/>
            <a:ahLst/>
            <a:rect l="l" t="t" r="r" b="b"/>
            <a:pathLst>
              <a:path w="2457" h="2605">
                <a:moveTo>
                  <a:pt x="7888" y="5209"/>
                </a:moveTo>
                <a:cubicBezTo>
                  <a:pt x="7897" y="5173"/>
                  <a:pt x="7897" y="5192"/>
                  <a:pt x="7913" y="5159"/>
                </a:cubicBezTo>
                <a:cubicBezTo>
                  <a:pt x="7913" y="5631"/>
                  <a:pt x="7963" y="6134"/>
                  <a:pt x="7888" y="6598"/>
                </a:cubicBezTo>
                <a:cubicBezTo>
                  <a:pt x="7874" y="6683"/>
                  <a:pt x="7865" y="6758"/>
                  <a:pt x="7863" y="6846"/>
                </a:cubicBezTo>
                <a:cubicBezTo>
                  <a:pt x="7861" y="6927"/>
                  <a:pt x="7844" y="6992"/>
                  <a:pt x="7838" y="7069"/>
                </a:cubicBezTo>
                <a:cubicBezTo>
                  <a:pt x="7830" y="7167"/>
                  <a:pt x="7844" y="7259"/>
                  <a:pt x="7863" y="7342"/>
                </a:cubicBezTo>
                <a:cubicBezTo>
                  <a:pt x="7905" y="7327"/>
                  <a:pt x="7915" y="7301"/>
                  <a:pt x="7962" y="7293"/>
                </a:cubicBezTo>
                <a:cubicBezTo>
                  <a:pt x="8022" y="7282"/>
                  <a:pt x="8078" y="7281"/>
                  <a:pt x="8136" y="7268"/>
                </a:cubicBezTo>
                <a:cubicBezTo>
                  <a:pt x="8243" y="7245"/>
                  <a:pt x="8350" y="7257"/>
                  <a:pt x="8458" y="7243"/>
                </a:cubicBezTo>
                <a:cubicBezTo>
                  <a:pt x="8580" y="7227"/>
                  <a:pt x="8688" y="7202"/>
                  <a:pt x="8806" y="7169"/>
                </a:cubicBezTo>
                <a:cubicBezTo>
                  <a:pt x="8887" y="7146"/>
                  <a:pt x="8970" y="7145"/>
                  <a:pt x="9054" y="7119"/>
                </a:cubicBezTo>
                <a:cubicBezTo>
                  <a:pt x="9160" y="7086"/>
                  <a:pt x="9244" y="7086"/>
                  <a:pt x="9351" y="7069"/>
                </a:cubicBezTo>
                <a:cubicBezTo>
                  <a:pt x="9446" y="7054"/>
                  <a:pt x="9526" y="7047"/>
                  <a:pt x="9624" y="7045"/>
                </a:cubicBezTo>
                <a:cubicBezTo>
                  <a:pt x="9726" y="7043"/>
                  <a:pt x="9824" y="7048"/>
                  <a:pt x="9922" y="7069"/>
                </a:cubicBezTo>
                <a:cubicBezTo>
                  <a:pt x="10007" y="7087"/>
                  <a:pt x="10080" y="7104"/>
                  <a:pt x="10170" y="7094"/>
                </a:cubicBezTo>
                <a:cubicBezTo>
                  <a:pt x="10255" y="7084"/>
                  <a:pt x="10212" y="7095"/>
                  <a:pt x="10244" y="7045"/>
                </a:cubicBezTo>
                <a:cubicBezTo>
                  <a:pt x="10292" y="6971"/>
                  <a:pt x="10269" y="6855"/>
                  <a:pt x="10269" y="6772"/>
                </a:cubicBezTo>
                <a:cubicBezTo>
                  <a:pt x="10269" y="6628"/>
                  <a:pt x="10247" y="6493"/>
                  <a:pt x="10244" y="6350"/>
                </a:cubicBezTo>
                <a:cubicBezTo>
                  <a:pt x="10235" y="5953"/>
                  <a:pt x="10243" y="5548"/>
                  <a:pt x="10220" y="5159"/>
                </a:cubicBezTo>
                <a:cubicBezTo>
                  <a:pt x="10213" y="5040"/>
                  <a:pt x="10212" y="4917"/>
                  <a:pt x="10195" y="4812"/>
                </a:cubicBezTo>
                <a:cubicBezTo>
                  <a:pt x="10195" y="4804"/>
                  <a:pt x="10195" y="4795"/>
                  <a:pt x="10195" y="4787"/>
                </a:cubicBezTo>
                <a:cubicBezTo>
                  <a:pt x="10110" y="4801"/>
                  <a:pt x="10037" y="4810"/>
                  <a:pt x="9947" y="4812"/>
                </a:cubicBezTo>
                <a:cubicBezTo>
                  <a:pt x="9841" y="4815"/>
                  <a:pt x="9752" y="4783"/>
                  <a:pt x="9649" y="4762"/>
                </a:cubicBezTo>
                <a:cubicBezTo>
                  <a:pt x="9543" y="4741"/>
                  <a:pt x="9436" y="4741"/>
                  <a:pt x="9327" y="4738"/>
                </a:cubicBezTo>
                <a:cubicBezTo>
                  <a:pt x="9142" y="4733"/>
                  <a:pt x="8962" y="4749"/>
                  <a:pt x="8781" y="4762"/>
                </a:cubicBezTo>
                <a:cubicBezTo>
                  <a:pt x="8699" y="4768"/>
                  <a:pt x="8635" y="4770"/>
                  <a:pt x="8558" y="4787"/>
                </a:cubicBezTo>
                <a:cubicBezTo>
                  <a:pt x="8492" y="4801"/>
                  <a:pt x="8425" y="4824"/>
                  <a:pt x="8359" y="4837"/>
                </a:cubicBezTo>
                <a:cubicBezTo>
                  <a:pt x="8259" y="4857"/>
                  <a:pt x="8161" y="4858"/>
                  <a:pt x="8062" y="4887"/>
                </a:cubicBezTo>
                <a:cubicBezTo>
                  <a:pt x="7988" y="4909"/>
                  <a:pt x="7911" y="4922"/>
                  <a:pt x="7838" y="4936"/>
                </a:cubicBezTo>
                <a:cubicBezTo>
                  <a:pt x="7830" y="4936"/>
                  <a:pt x="7821" y="4936"/>
                  <a:pt x="7813" y="4936"/>
                </a:cubicBezTo>
                <a:cubicBezTo>
                  <a:pt x="7833" y="5010"/>
                  <a:pt x="7845" y="5117"/>
                  <a:pt x="7888" y="5184"/>
                </a:cubicBezTo>
                <a:cubicBezTo>
                  <a:pt x="7924" y="5240"/>
                  <a:pt x="7917" y="5223"/>
                  <a:pt x="7938" y="52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0680" y="1812960"/>
            <a:ext cx="92052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7863" y="5060"/>
                </a:moveTo>
                <a:cubicBezTo>
                  <a:pt x="7874" y="5062"/>
                  <a:pt x="7928" y="5080"/>
                  <a:pt x="7987" y="5110"/>
                </a:cubicBezTo>
                <a:cubicBezTo>
                  <a:pt x="8114" y="5174"/>
                  <a:pt x="8238" y="5231"/>
                  <a:pt x="8359" y="5308"/>
                </a:cubicBezTo>
                <a:cubicBezTo>
                  <a:pt x="8415" y="5343"/>
                  <a:pt x="8476" y="5401"/>
                  <a:pt x="8533" y="5432"/>
                </a:cubicBezTo>
                <a:cubicBezTo>
                  <a:pt x="8586" y="5460"/>
                  <a:pt x="8607" y="5472"/>
                  <a:pt x="8657" y="5507"/>
                </a:cubicBezTo>
                <a:cubicBezTo>
                  <a:pt x="8703" y="5540"/>
                  <a:pt x="8793" y="5565"/>
                  <a:pt x="8830" y="5606"/>
                </a:cubicBezTo>
                <a:cubicBezTo>
                  <a:pt x="8879" y="5660"/>
                  <a:pt x="8881" y="5725"/>
                  <a:pt x="8930" y="5779"/>
                </a:cubicBezTo>
                <a:cubicBezTo>
                  <a:pt x="8999" y="5855"/>
                  <a:pt x="9079" y="5908"/>
                  <a:pt x="9153" y="5978"/>
                </a:cubicBezTo>
                <a:cubicBezTo>
                  <a:pt x="9211" y="6033"/>
                  <a:pt x="9250" y="6093"/>
                  <a:pt x="9302" y="6152"/>
                </a:cubicBezTo>
                <a:cubicBezTo>
                  <a:pt x="9360" y="6218"/>
                  <a:pt x="9405" y="6293"/>
                  <a:pt x="9475" y="6350"/>
                </a:cubicBezTo>
                <a:cubicBezTo>
                  <a:pt x="9551" y="6412"/>
                  <a:pt x="9605" y="6475"/>
                  <a:pt x="9674" y="6548"/>
                </a:cubicBezTo>
                <a:cubicBezTo>
                  <a:pt x="9755" y="6633"/>
                  <a:pt x="9783" y="6666"/>
                  <a:pt x="9872" y="6722"/>
                </a:cubicBezTo>
                <a:cubicBezTo>
                  <a:pt x="9940" y="6764"/>
                  <a:pt x="10005" y="6801"/>
                  <a:pt x="10071" y="6846"/>
                </a:cubicBezTo>
                <a:cubicBezTo>
                  <a:pt x="10129" y="6885"/>
                  <a:pt x="10186" y="6928"/>
                  <a:pt x="10244" y="6970"/>
                </a:cubicBezTo>
                <a:cubicBezTo>
                  <a:pt x="10256" y="6978"/>
                  <a:pt x="10416" y="7087"/>
                  <a:pt x="10418" y="7069"/>
                </a:cubicBezTo>
                <a:cubicBezTo>
                  <a:pt x="10418" y="7029"/>
                  <a:pt x="10407" y="7010"/>
                  <a:pt x="10368" y="69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30680" y="1731960"/>
            <a:ext cx="857160" cy="9651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0244" y="4837"/>
                </a:moveTo>
                <a:cubicBezTo>
                  <a:pt x="10205" y="4881"/>
                  <a:pt x="10204" y="4888"/>
                  <a:pt x="10170" y="4936"/>
                </a:cubicBezTo>
                <a:cubicBezTo>
                  <a:pt x="10141" y="4977"/>
                  <a:pt x="10125" y="5014"/>
                  <a:pt x="10096" y="5060"/>
                </a:cubicBezTo>
                <a:cubicBezTo>
                  <a:pt x="10060" y="5116"/>
                  <a:pt x="10012" y="5156"/>
                  <a:pt x="9971" y="5209"/>
                </a:cubicBezTo>
                <a:cubicBezTo>
                  <a:pt x="9907" y="5291"/>
                  <a:pt x="9844" y="5340"/>
                  <a:pt x="9773" y="5407"/>
                </a:cubicBezTo>
                <a:cubicBezTo>
                  <a:pt x="9720" y="5457"/>
                  <a:pt x="9689" y="5515"/>
                  <a:pt x="9649" y="5581"/>
                </a:cubicBezTo>
                <a:cubicBezTo>
                  <a:pt x="9596" y="5670"/>
                  <a:pt x="9535" y="5746"/>
                  <a:pt x="9475" y="5829"/>
                </a:cubicBezTo>
                <a:cubicBezTo>
                  <a:pt x="9401" y="5931"/>
                  <a:pt x="9317" y="6066"/>
                  <a:pt x="9227" y="6152"/>
                </a:cubicBezTo>
                <a:cubicBezTo>
                  <a:pt x="9144" y="6232"/>
                  <a:pt x="9057" y="6310"/>
                  <a:pt x="8979" y="6400"/>
                </a:cubicBezTo>
                <a:cubicBezTo>
                  <a:pt x="8910" y="6481"/>
                  <a:pt x="8842" y="6560"/>
                  <a:pt x="8781" y="6648"/>
                </a:cubicBezTo>
                <a:cubicBezTo>
                  <a:pt x="8733" y="6718"/>
                  <a:pt x="8664" y="6798"/>
                  <a:pt x="8607" y="6871"/>
                </a:cubicBezTo>
                <a:cubicBezTo>
                  <a:pt x="8545" y="6951"/>
                  <a:pt x="8480" y="6982"/>
                  <a:pt x="8409" y="7045"/>
                </a:cubicBezTo>
                <a:cubicBezTo>
                  <a:pt x="8331" y="7113"/>
                  <a:pt x="8273" y="7188"/>
                  <a:pt x="8186" y="7243"/>
                </a:cubicBezTo>
                <a:cubicBezTo>
                  <a:pt x="8121" y="7284"/>
                  <a:pt x="8072" y="7321"/>
                  <a:pt x="8012" y="7367"/>
                </a:cubicBezTo>
                <a:cubicBezTo>
                  <a:pt x="7976" y="7394"/>
                  <a:pt x="7950" y="7409"/>
                  <a:pt x="7913" y="7441"/>
                </a:cubicBezTo>
                <a:cubicBezTo>
                  <a:pt x="7832" y="7512"/>
                  <a:pt x="7878" y="7499"/>
                  <a:pt x="7938" y="741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1820880"/>
            <a:ext cx="3222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2303" y="5333"/>
                </a:moveTo>
                <a:cubicBezTo>
                  <a:pt x="12346" y="5248"/>
                  <a:pt x="12383" y="5143"/>
                  <a:pt x="12477" y="5085"/>
                </a:cubicBezTo>
                <a:cubicBezTo>
                  <a:pt x="12567" y="5062"/>
                  <a:pt x="12591" y="5054"/>
                  <a:pt x="12650" y="5060"/>
                </a:cubicBezTo>
                <a:cubicBezTo>
                  <a:pt x="12676" y="5343"/>
                  <a:pt x="12597" y="5626"/>
                  <a:pt x="12526" y="5904"/>
                </a:cubicBezTo>
                <a:cubicBezTo>
                  <a:pt x="12487" y="6058"/>
                  <a:pt x="12345" y="6338"/>
                  <a:pt x="12427" y="6201"/>
                </a:cubicBezTo>
                <a:cubicBezTo>
                  <a:pt x="12475" y="6113"/>
                  <a:pt x="12533" y="5903"/>
                  <a:pt x="12675" y="5928"/>
                </a:cubicBezTo>
                <a:cubicBezTo>
                  <a:pt x="12860" y="5960"/>
                  <a:pt x="12921" y="5936"/>
                  <a:pt x="13072" y="5804"/>
                </a:cubicBezTo>
                <a:cubicBezTo>
                  <a:pt x="13156" y="5720"/>
                  <a:pt x="13183" y="5706"/>
                  <a:pt x="13196" y="56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3000" y="2830680"/>
            <a:ext cx="1285920" cy="1179360"/>
          </a:xfrm>
          <a:custGeom>
            <a:avLst/>
            <a:gdLst/>
            <a:ahLst/>
            <a:rect l="l" t="t" r="r" b="b"/>
            <a:pathLst>
              <a:path w="3573" h="3275">
                <a:moveTo>
                  <a:pt x="9674" y="8830"/>
                </a:moveTo>
                <a:cubicBezTo>
                  <a:pt x="9693" y="8818"/>
                  <a:pt x="9728" y="8822"/>
                  <a:pt x="9748" y="8806"/>
                </a:cubicBezTo>
                <a:cubicBezTo>
                  <a:pt x="9827" y="8743"/>
                  <a:pt x="9895" y="8657"/>
                  <a:pt x="9971" y="8607"/>
                </a:cubicBezTo>
                <a:cubicBezTo>
                  <a:pt x="10086" y="8532"/>
                  <a:pt x="10204" y="8461"/>
                  <a:pt x="10319" y="8384"/>
                </a:cubicBezTo>
                <a:cubicBezTo>
                  <a:pt x="10429" y="8310"/>
                  <a:pt x="10534" y="8235"/>
                  <a:pt x="10641" y="8161"/>
                </a:cubicBezTo>
                <a:cubicBezTo>
                  <a:pt x="10707" y="8115"/>
                  <a:pt x="10740" y="8083"/>
                  <a:pt x="10790" y="8037"/>
                </a:cubicBezTo>
                <a:cubicBezTo>
                  <a:pt x="10857" y="7976"/>
                  <a:pt x="10841" y="7997"/>
                  <a:pt x="10889" y="7962"/>
                </a:cubicBezTo>
                <a:cubicBezTo>
                  <a:pt x="10912" y="7945"/>
                  <a:pt x="10898" y="7918"/>
                  <a:pt x="10939" y="7913"/>
                </a:cubicBezTo>
                <a:cubicBezTo>
                  <a:pt x="10994" y="7906"/>
                  <a:pt x="11017" y="7937"/>
                  <a:pt x="11063" y="7938"/>
                </a:cubicBezTo>
                <a:cubicBezTo>
                  <a:pt x="11206" y="7942"/>
                  <a:pt x="11356" y="7960"/>
                  <a:pt x="11485" y="7938"/>
                </a:cubicBezTo>
                <a:cubicBezTo>
                  <a:pt x="11559" y="7925"/>
                  <a:pt x="11633" y="7924"/>
                  <a:pt x="11708" y="7913"/>
                </a:cubicBezTo>
                <a:cubicBezTo>
                  <a:pt x="11790" y="7901"/>
                  <a:pt x="11874" y="7892"/>
                  <a:pt x="11956" y="7888"/>
                </a:cubicBezTo>
                <a:cubicBezTo>
                  <a:pt x="12099" y="7882"/>
                  <a:pt x="12236" y="7871"/>
                  <a:pt x="12378" y="7863"/>
                </a:cubicBezTo>
                <a:cubicBezTo>
                  <a:pt x="12591" y="7851"/>
                  <a:pt x="12808" y="7863"/>
                  <a:pt x="13022" y="7863"/>
                </a:cubicBezTo>
                <a:cubicBezTo>
                  <a:pt x="13022" y="8064"/>
                  <a:pt x="13017" y="8264"/>
                  <a:pt x="13047" y="8458"/>
                </a:cubicBezTo>
                <a:cubicBezTo>
                  <a:pt x="13055" y="8510"/>
                  <a:pt x="13069" y="8554"/>
                  <a:pt x="13072" y="8607"/>
                </a:cubicBezTo>
                <a:cubicBezTo>
                  <a:pt x="13077" y="8681"/>
                  <a:pt x="13084" y="8737"/>
                  <a:pt x="13097" y="8806"/>
                </a:cubicBezTo>
                <a:cubicBezTo>
                  <a:pt x="13108" y="8865"/>
                  <a:pt x="13108" y="8921"/>
                  <a:pt x="13122" y="8979"/>
                </a:cubicBezTo>
                <a:cubicBezTo>
                  <a:pt x="13132" y="9023"/>
                  <a:pt x="13137" y="9063"/>
                  <a:pt x="13146" y="9103"/>
                </a:cubicBezTo>
                <a:cubicBezTo>
                  <a:pt x="13156" y="9150"/>
                  <a:pt x="13160" y="9180"/>
                  <a:pt x="13171" y="9227"/>
                </a:cubicBezTo>
                <a:cubicBezTo>
                  <a:pt x="13185" y="9284"/>
                  <a:pt x="13204" y="9345"/>
                  <a:pt x="13221" y="9401"/>
                </a:cubicBezTo>
                <a:cubicBezTo>
                  <a:pt x="13233" y="9441"/>
                  <a:pt x="13232" y="9412"/>
                  <a:pt x="13246" y="9451"/>
                </a:cubicBezTo>
                <a:cubicBezTo>
                  <a:pt x="13228" y="9471"/>
                  <a:pt x="13214" y="9475"/>
                  <a:pt x="13196" y="9500"/>
                </a:cubicBezTo>
                <a:cubicBezTo>
                  <a:pt x="13152" y="9563"/>
                  <a:pt x="13106" y="9628"/>
                  <a:pt x="13072" y="9699"/>
                </a:cubicBezTo>
                <a:cubicBezTo>
                  <a:pt x="13034" y="9779"/>
                  <a:pt x="13009" y="9866"/>
                  <a:pt x="12973" y="9947"/>
                </a:cubicBezTo>
                <a:cubicBezTo>
                  <a:pt x="12899" y="10112"/>
                  <a:pt x="12822" y="10294"/>
                  <a:pt x="12725" y="10443"/>
                </a:cubicBezTo>
                <a:cubicBezTo>
                  <a:pt x="12685" y="10504"/>
                  <a:pt x="12648" y="10550"/>
                  <a:pt x="12626" y="10616"/>
                </a:cubicBezTo>
                <a:cubicBezTo>
                  <a:pt x="12609" y="10668"/>
                  <a:pt x="12630" y="10719"/>
                  <a:pt x="12601" y="10765"/>
                </a:cubicBezTo>
                <a:cubicBezTo>
                  <a:pt x="12599" y="10769"/>
                  <a:pt x="12626" y="10757"/>
                  <a:pt x="12576" y="10790"/>
                </a:cubicBezTo>
                <a:cubicBezTo>
                  <a:pt x="12539" y="10815"/>
                  <a:pt x="12497" y="10806"/>
                  <a:pt x="12452" y="10815"/>
                </a:cubicBezTo>
                <a:cubicBezTo>
                  <a:pt x="12386" y="10829"/>
                  <a:pt x="12317" y="10818"/>
                  <a:pt x="12254" y="10840"/>
                </a:cubicBezTo>
                <a:cubicBezTo>
                  <a:pt x="12185" y="10864"/>
                  <a:pt x="12122" y="10889"/>
                  <a:pt x="12055" y="10914"/>
                </a:cubicBezTo>
                <a:cubicBezTo>
                  <a:pt x="11970" y="10945"/>
                  <a:pt x="11892" y="10969"/>
                  <a:pt x="11807" y="10988"/>
                </a:cubicBezTo>
                <a:cubicBezTo>
                  <a:pt x="11719" y="11007"/>
                  <a:pt x="11646" y="11040"/>
                  <a:pt x="11559" y="11063"/>
                </a:cubicBezTo>
                <a:cubicBezTo>
                  <a:pt x="11511" y="11076"/>
                  <a:pt x="11495" y="11083"/>
                  <a:pt x="11435" y="11088"/>
                </a:cubicBezTo>
                <a:cubicBezTo>
                  <a:pt x="11279" y="11101"/>
                  <a:pt x="11120" y="11109"/>
                  <a:pt x="10964" y="11112"/>
                </a:cubicBezTo>
                <a:cubicBezTo>
                  <a:pt x="10788" y="11115"/>
                  <a:pt x="10611" y="11112"/>
                  <a:pt x="10443" y="11112"/>
                </a:cubicBezTo>
                <a:cubicBezTo>
                  <a:pt x="10329" y="11112"/>
                  <a:pt x="10218" y="11120"/>
                  <a:pt x="10120" y="11137"/>
                </a:cubicBezTo>
                <a:cubicBezTo>
                  <a:pt x="10109" y="11076"/>
                  <a:pt x="10109" y="10982"/>
                  <a:pt x="10096" y="10914"/>
                </a:cubicBezTo>
                <a:cubicBezTo>
                  <a:pt x="10062" y="10737"/>
                  <a:pt x="10003" y="10551"/>
                  <a:pt x="9922" y="10393"/>
                </a:cubicBezTo>
                <a:cubicBezTo>
                  <a:pt x="9880" y="10310"/>
                  <a:pt x="9781" y="10227"/>
                  <a:pt x="9748" y="10145"/>
                </a:cubicBezTo>
                <a:cubicBezTo>
                  <a:pt x="9728" y="10096"/>
                  <a:pt x="9710" y="9977"/>
                  <a:pt x="9699" y="9922"/>
                </a:cubicBezTo>
                <a:cubicBezTo>
                  <a:pt x="9699" y="9864"/>
                  <a:pt x="9699" y="9856"/>
                  <a:pt x="9699" y="98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14680" y="4732200"/>
            <a:ext cx="152280" cy="46080"/>
          </a:xfrm>
          <a:custGeom>
            <a:avLst/>
            <a:gdLst/>
            <a:ahLst/>
            <a:rect l="l" t="t" r="r" b="b"/>
            <a:pathLst>
              <a:path w="423" h="126">
                <a:moveTo>
                  <a:pt x="4837" y="13196"/>
                </a:moveTo>
                <a:cubicBezTo>
                  <a:pt x="4825" y="13161"/>
                  <a:pt x="4830" y="13171"/>
                  <a:pt x="4787" y="13171"/>
                </a:cubicBezTo>
                <a:cubicBezTo>
                  <a:pt x="4768" y="13114"/>
                  <a:pt x="4766" y="13158"/>
                  <a:pt x="4787" y="13171"/>
                </a:cubicBezTo>
                <a:cubicBezTo>
                  <a:pt x="4912" y="13248"/>
                  <a:pt x="5048" y="13239"/>
                  <a:pt x="5184" y="13271"/>
                </a:cubicBezTo>
                <a:cubicBezTo>
                  <a:pt x="5171" y="13231"/>
                  <a:pt x="5037" y="13195"/>
                  <a:pt x="4986" y="13196"/>
                </a:cubicBezTo>
                <a:cubicBezTo>
                  <a:pt x="4966" y="13197"/>
                  <a:pt x="4754" y="13233"/>
                  <a:pt x="4812" y="13246"/>
                </a:cubicBezTo>
                <a:cubicBezTo>
                  <a:pt x="4915" y="13270"/>
                  <a:pt x="5005" y="13271"/>
                  <a:pt x="5110" y="13271"/>
                </a:cubicBezTo>
                <a:cubicBezTo>
                  <a:pt x="5019" y="13258"/>
                  <a:pt x="4937" y="13233"/>
                  <a:pt x="4862" y="13246"/>
                </a:cubicBezTo>
                <a:cubicBezTo>
                  <a:pt x="4809" y="13255"/>
                  <a:pt x="5006" y="13248"/>
                  <a:pt x="5035" y="13246"/>
                </a:cubicBezTo>
                <a:cubicBezTo>
                  <a:pt x="5060" y="13246"/>
                  <a:pt x="5085" y="13246"/>
                  <a:pt x="5110" y="1324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40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02040" y="4759200"/>
            <a:ext cx="571680" cy="2779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0864" y="13444"/>
                </a:moveTo>
                <a:cubicBezTo>
                  <a:pt x="10864" y="13452"/>
                  <a:pt x="10864" y="13461"/>
                  <a:pt x="10864" y="13469"/>
                </a:cubicBezTo>
                <a:cubicBezTo>
                  <a:pt x="10865" y="13398"/>
                  <a:pt x="10822" y="13493"/>
                  <a:pt x="10914" y="13419"/>
                </a:cubicBezTo>
                <a:cubicBezTo>
                  <a:pt x="10954" y="13387"/>
                  <a:pt x="11008" y="13333"/>
                  <a:pt x="11063" y="13320"/>
                </a:cubicBezTo>
                <a:cubicBezTo>
                  <a:pt x="11098" y="13312"/>
                  <a:pt x="11134" y="13315"/>
                  <a:pt x="11162" y="13295"/>
                </a:cubicBezTo>
                <a:cubicBezTo>
                  <a:pt x="11208" y="13263"/>
                  <a:pt x="11214" y="13263"/>
                  <a:pt x="11261" y="13246"/>
                </a:cubicBezTo>
                <a:cubicBezTo>
                  <a:pt x="11298" y="13233"/>
                  <a:pt x="11318" y="13224"/>
                  <a:pt x="11361" y="13221"/>
                </a:cubicBezTo>
                <a:cubicBezTo>
                  <a:pt x="11432" y="13217"/>
                  <a:pt x="11492" y="13220"/>
                  <a:pt x="11559" y="13246"/>
                </a:cubicBezTo>
                <a:cubicBezTo>
                  <a:pt x="11606" y="13264"/>
                  <a:pt x="11660" y="13312"/>
                  <a:pt x="11708" y="13345"/>
                </a:cubicBezTo>
                <a:cubicBezTo>
                  <a:pt x="11739" y="13366"/>
                  <a:pt x="11783" y="13401"/>
                  <a:pt x="11807" y="13419"/>
                </a:cubicBezTo>
                <a:cubicBezTo>
                  <a:pt x="11830" y="13442"/>
                  <a:pt x="11834" y="13450"/>
                  <a:pt x="11857" y="13444"/>
                </a:cubicBezTo>
                <a:cubicBezTo>
                  <a:pt x="11877" y="13465"/>
                  <a:pt x="11916" y="13514"/>
                  <a:pt x="11956" y="13543"/>
                </a:cubicBezTo>
                <a:cubicBezTo>
                  <a:pt x="11991" y="13568"/>
                  <a:pt x="12041" y="13594"/>
                  <a:pt x="12080" y="13618"/>
                </a:cubicBezTo>
                <a:cubicBezTo>
                  <a:pt x="12144" y="13657"/>
                  <a:pt x="12153" y="13698"/>
                  <a:pt x="12204" y="13742"/>
                </a:cubicBezTo>
                <a:cubicBezTo>
                  <a:pt x="12236" y="13769"/>
                  <a:pt x="12255" y="13775"/>
                  <a:pt x="12278" y="13816"/>
                </a:cubicBezTo>
                <a:cubicBezTo>
                  <a:pt x="12294" y="13832"/>
                  <a:pt x="12330" y="13856"/>
                  <a:pt x="12353" y="13891"/>
                </a:cubicBezTo>
                <a:cubicBezTo>
                  <a:pt x="12374" y="13923"/>
                  <a:pt x="12420" y="13951"/>
                  <a:pt x="12427" y="13965"/>
                </a:cubicBezTo>
                <a:cubicBezTo>
                  <a:pt x="12446" y="14004"/>
                  <a:pt x="12427" y="13925"/>
                  <a:pt x="12427" y="138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540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080" y="633096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3125" y="17661"/>
                </a:moveTo>
                <a:cubicBezTo>
                  <a:pt x="3125" y="17626"/>
                  <a:pt x="3088" y="17632"/>
                  <a:pt x="3076" y="175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375000"/>
            <a:ext cx="2197080" cy="492120"/>
          </a:xfrm>
          <a:custGeom>
            <a:avLst/>
            <a:gdLst/>
            <a:ahLst/>
            <a:rect l="l" t="t" r="r" b="b"/>
            <a:pathLst>
              <a:path w="6103" h="1365">
                <a:moveTo>
                  <a:pt x="12750" y="9575"/>
                </a:moveTo>
                <a:cubicBezTo>
                  <a:pt x="12798" y="9542"/>
                  <a:pt x="12781" y="9636"/>
                  <a:pt x="12774" y="9699"/>
                </a:cubicBezTo>
                <a:cubicBezTo>
                  <a:pt x="12758" y="9845"/>
                  <a:pt x="12643" y="10108"/>
                  <a:pt x="12725" y="10244"/>
                </a:cubicBezTo>
                <a:cubicBezTo>
                  <a:pt x="12807" y="10380"/>
                  <a:pt x="13115" y="10253"/>
                  <a:pt x="13221" y="10220"/>
                </a:cubicBezTo>
                <a:cubicBezTo>
                  <a:pt x="13265" y="10198"/>
                  <a:pt x="13276" y="10195"/>
                  <a:pt x="13295" y="10170"/>
                </a:cubicBezTo>
              </a:path>
              <a:path w="6103" h="1365">
                <a:moveTo>
                  <a:pt x="12700" y="10145"/>
                </a:moveTo>
                <a:cubicBezTo>
                  <a:pt x="12826" y="10095"/>
                  <a:pt x="13077" y="10047"/>
                  <a:pt x="13171" y="9947"/>
                </a:cubicBezTo>
                <a:cubicBezTo>
                  <a:pt x="13171" y="9930"/>
                  <a:pt x="13171" y="9914"/>
                  <a:pt x="13171" y="9897"/>
                </a:cubicBezTo>
              </a:path>
              <a:path w="6103" h="1365">
                <a:moveTo>
                  <a:pt x="12774" y="9699"/>
                </a:moveTo>
                <a:cubicBezTo>
                  <a:pt x="12921" y="9601"/>
                  <a:pt x="13046" y="9525"/>
                  <a:pt x="13221" y="9500"/>
                </a:cubicBezTo>
              </a:path>
              <a:path w="6103" h="1365">
                <a:moveTo>
                  <a:pt x="13444" y="10071"/>
                </a:moveTo>
                <a:cubicBezTo>
                  <a:pt x="13496" y="9993"/>
                  <a:pt x="13484" y="9987"/>
                  <a:pt x="13469" y="9897"/>
                </a:cubicBezTo>
                <a:cubicBezTo>
                  <a:pt x="13325" y="9865"/>
                  <a:pt x="13230" y="9969"/>
                  <a:pt x="13196" y="10120"/>
                </a:cubicBezTo>
                <a:cubicBezTo>
                  <a:pt x="13196" y="10233"/>
                  <a:pt x="13187" y="10268"/>
                  <a:pt x="13271" y="10294"/>
                </a:cubicBezTo>
                <a:cubicBezTo>
                  <a:pt x="13422" y="10227"/>
                  <a:pt x="13469" y="10172"/>
                  <a:pt x="13543" y="10021"/>
                </a:cubicBezTo>
                <a:cubicBezTo>
                  <a:pt x="13543" y="10117"/>
                  <a:pt x="13554" y="10199"/>
                  <a:pt x="13568" y="10294"/>
                </a:cubicBezTo>
                <a:cubicBezTo>
                  <a:pt x="13596" y="10484"/>
                  <a:pt x="13609" y="10641"/>
                  <a:pt x="13767" y="10740"/>
                </a:cubicBezTo>
                <a:cubicBezTo>
                  <a:pt x="13906" y="10648"/>
                  <a:pt x="13995" y="10518"/>
                  <a:pt x="13891" y="10344"/>
                </a:cubicBezTo>
                <a:cubicBezTo>
                  <a:pt x="13858" y="10289"/>
                  <a:pt x="13677" y="10283"/>
                  <a:pt x="13618" y="10269"/>
                </a:cubicBezTo>
              </a:path>
              <a:path w="6103" h="1365">
                <a:moveTo>
                  <a:pt x="13816" y="9847"/>
                </a:moveTo>
                <a:cubicBezTo>
                  <a:pt x="13827" y="9948"/>
                  <a:pt x="13832" y="10119"/>
                  <a:pt x="13940" y="10170"/>
                </a:cubicBezTo>
                <a:cubicBezTo>
                  <a:pt x="14114" y="10252"/>
                  <a:pt x="14181" y="9995"/>
                  <a:pt x="14213" y="9897"/>
                </a:cubicBezTo>
                <a:cubicBezTo>
                  <a:pt x="14221" y="9872"/>
                  <a:pt x="14230" y="9848"/>
                  <a:pt x="14238" y="9823"/>
                </a:cubicBezTo>
                <a:cubicBezTo>
                  <a:pt x="14238" y="9704"/>
                  <a:pt x="14289" y="10002"/>
                  <a:pt x="14362" y="10096"/>
                </a:cubicBezTo>
                <a:cubicBezTo>
                  <a:pt x="14379" y="10112"/>
                  <a:pt x="14395" y="10129"/>
                  <a:pt x="14412" y="10145"/>
                </a:cubicBezTo>
              </a:path>
              <a:path w="6103" h="1365">
                <a:moveTo>
                  <a:pt x="14288" y="9599"/>
                </a:moveTo>
                <a:lnTo>
                  <a:pt x="14288" y="9599"/>
                </a:lnTo>
              </a:path>
              <a:path w="6103" h="1365">
                <a:moveTo>
                  <a:pt x="14585" y="9798"/>
                </a:moveTo>
                <a:cubicBezTo>
                  <a:pt x="14585" y="9886"/>
                  <a:pt x="14628" y="9940"/>
                  <a:pt x="14660" y="10021"/>
                </a:cubicBezTo>
                <a:cubicBezTo>
                  <a:pt x="14676" y="10061"/>
                  <a:pt x="14684" y="10144"/>
                  <a:pt x="14709" y="10096"/>
                </a:cubicBezTo>
              </a:path>
              <a:path w="6103" h="1365">
                <a:moveTo>
                  <a:pt x="15354" y="9847"/>
                </a:moveTo>
                <a:cubicBezTo>
                  <a:pt x="15319" y="9805"/>
                  <a:pt x="15291" y="9765"/>
                  <a:pt x="15255" y="9723"/>
                </a:cubicBezTo>
                <a:cubicBezTo>
                  <a:pt x="15157" y="9813"/>
                  <a:pt x="14993" y="9992"/>
                  <a:pt x="15106" y="10145"/>
                </a:cubicBezTo>
                <a:cubicBezTo>
                  <a:pt x="15131" y="10153"/>
                  <a:pt x="15155" y="10162"/>
                  <a:pt x="15180" y="10170"/>
                </a:cubicBezTo>
                <a:cubicBezTo>
                  <a:pt x="15281" y="10086"/>
                  <a:pt x="15308" y="10045"/>
                  <a:pt x="15354" y="9922"/>
                </a:cubicBezTo>
                <a:cubicBezTo>
                  <a:pt x="15363" y="9958"/>
                  <a:pt x="15427" y="10057"/>
                  <a:pt x="15478" y="10046"/>
                </a:cubicBezTo>
                <a:cubicBezTo>
                  <a:pt x="15552" y="10030"/>
                  <a:pt x="15688" y="9826"/>
                  <a:pt x="15726" y="9947"/>
                </a:cubicBezTo>
                <a:cubicBezTo>
                  <a:pt x="15726" y="10013"/>
                  <a:pt x="15726" y="10046"/>
                  <a:pt x="15726" y="9971"/>
                </a:cubicBezTo>
                <a:cubicBezTo>
                  <a:pt x="15738" y="9903"/>
                  <a:pt x="15782" y="9646"/>
                  <a:pt x="15925" y="9699"/>
                </a:cubicBezTo>
                <a:cubicBezTo>
                  <a:pt x="16055" y="9747"/>
                  <a:pt x="16069" y="9932"/>
                  <a:pt x="16123" y="10021"/>
                </a:cubicBezTo>
              </a:path>
              <a:path w="6103" h="1365">
                <a:moveTo>
                  <a:pt x="16520" y="9748"/>
                </a:moveTo>
                <a:cubicBezTo>
                  <a:pt x="16382" y="9771"/>
                  <a:pt x="16250" y="9874"/>
                  <a:pt x="16272" y="10046"/>
                </a:cubicBezTo>
                <a:cubicBezTo>
                  <a:pt x="16288" y="10063"/>
                  <a:pt x="16305" y="10079"/>
                  <a:pt x="16321" y="10096"/>
                </a:cubicBezTo>
                <a:cubicBezTo>
                  <a:pt x="16461" y="10059"/>
                  <a:pt x="16500" y="10030"/>
                  <a:pt x="16545" y="9872"/>
                </a:cubicBezTo>
                <a:cubicBezTo>
                  <a:pt x="16666" y="9945"/>
                  <a:pt x="16733" y="10222"/>
                  <a:pt x="16743" y="10368"/>
                </a:cubicBezTo>
                <a:cubicBezTo>
                  <a:pt x="16760" y="10621"/>
                  <a:pt x="16492" y="10645"/>
                  <a:pt x="16321" y="10567"/>
                </a:cubicBezTo>
                <a:cubicBezTo>
                  <a:pt x="16222" y="10492"/>
                  <a:pt x="16189" y="10467"/>
                  <a:pt x="16222" y="10368"/>
                </a:cubicBezTo>
              </a:path>
              <a:path w="6103" h="1365">
                <a:moveTo>
                  <a:pt x="16768" y="9699"/>
                </a:moveTo>
                <a:cubicBezTo>
                  <a:pt x="16787" y="9813"/>
                  <a:pt x="16798" y="9974"/>
                  <a:pt x="16867" y="10071"/>
                </a:cubicBezTo>
                <a:cubicBezTo>
                  <a:pt x="16967" y="10211"/>
                  <a:pt x="17097" y="10007"/>
                  <a:pt x="17115" y="9922"/>
                </a:cubicBezTo>
                <a:cubicBezTo>
                  <a:pt x="17115" y="9831"/>
                  <a:pt x="17115" y="9823"/>
                  <a:pt x="17115" y="9773"/>
                </a:cubicBezTo>
                <a:cubicBezTo>
                  <a:pt x="17167" y="9877"/>
                  <a:pt x="17223" y="10015"/>
                  <a:pt x="17363" y="10021"/>
                </a:cubicBezTo>
                <a:cubicBezTo>
                  <a:pt x="17429" y="9988"/>
                  <a:pt x="17454" y="9963"/>
                  <a:pt x="17462" y="9897"/>
                </a:cubicBezTo>
              </a:path>
              <a:path w="6103" h="1365">
                <a:moveTo>
                  <a:pt x="17413" y="9376"/>
                </a:moveTo>
                <a:cubicBezTo>
                  <a:pt x="17528" y="9558"/>
                  <a:pt x="17599" y="9750"/>
                  <a:pt x="17686" y="9947"/>
                </a:cubicBezTo>
                <a:cubicBezTo>
                  <a:pt x="17694" y="9963"/>
                  <a:pt x="17703" y="9980"/>
                  <a:pt x="17711" y="9996"/>
                </a:cubicBezTo>
              </a:path>
              <a:path w="6103" h="1365">
                <a:moveTo>
                  <a:pt x="18058" y="9699"/>
                </a:moveTo>
                <a:cubicBezTo>
                  <a:pt x="18058" y="9647"/>
                  <a:pt x="18059" y="9629"/>
                  <a:pt x="18083" y="9599"/>
                </a:cubicBezTo>
                <a:cubicBezTo>
                  <a:pt x="17954" y="9525"/>
                  <a:pt x="17886" y="9650"/>
                  <a:pt x="17859" y="9773"/>
                </a:cubicBezTo>
                <a:cubicBezTo>
                  <a:pt x="17815" y="9970"/>
                  <a:pt x="17980" y="9984"/>
                  <a:pt x="18083" y="9872"/>
                </a:cubicBezTo>
                <a:cubicBezTo>
                  <a:pt x="18125" y="9809"/>
                  <a:pt x="18141" y="9797"/>
                  <a:pt x="18132" y="9748"/>
                </a:cubicBezTo>
                <a:cubicBezTo>
                  <a:pt x="18152" y="9836"/>
                  <a:pt x="18173" y="9935"/>
                  <a:pt x="18281" y="9922"/>
                </a:cubicBezTo>
                <a:cubicBezTo>
                  <a:pt x="18400" y="9908"/>
                  <a:pt x="18452" y="9747"/>
                  <a:pt x="18554" y="9872"/>
                </a:cubicBezTo>
                <a:cubicBezTo>
                  <a:pt x="18578" y="9920"/>
                  <a:pt x="18586" y="9934"/>
                  <a:pt x="18579" y="9971"/>
                </a:cubicBezTo>
                <a:cubicBezTo>
                  <a:pt x="18579" y="9863"/>
                  <a:pt x="18557" y="9724"/>
                  <a:pt x="18604" y="9624"/>
                </a:cubicBezTo>
                <a:cubicBezTo>
                  <a:pt x="18641" y="9546"/>
                  <a:pt x="18733" y="9531"/>
                  <a:pt x="18802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8200" y="3438360"/>
            <a:ext cx="241560" cy="150840"/>
          </a:xfrm>
          <a:custGeom>
            <a:avLst/>
            <a:gdLst/>
            <a:ahLst/>
            <a:rect l="l" t="t" r="r" b="b"/>
            <a:pathLst>
              <a:path w="671" h="422">
                <a:moveTo>
                  <a:pt x="19720" y="9550"/>
                </a:moveTo>
                <a:cubicBezTo>
                  <a:pt x="19797" y="9686"/>
                  <a:pt x="19888" y="9820"/>
                  <a:pt x="19918" y="9971"/>
                </a:cubicBezTo>
                <a:cubicBezTo>
                  <a:pt x="19784" y="9914"/>
                  <a:pt x="19660" y="9847"/>
                  <a:pt x="19521" y="9798"/>
                </a:cubicBezTo>
                <a:cubicBezTo>
                  <a:pt x="19460" y="9949"/>
                  <a:pt x="19744" y="9887"/>
                  <a:pt x="19819" y="9872"/>
                </a:cubicBezTo>
                <a:cubicBezTo>
                  <a:pt x="19941" y="9848"/>
                  <a:pt x="20056" y="9776"/>
                  <a:pt x="20166" y="97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18240" y="3259080"/>
            <a:ext cx="884520" cy="304920"/>
          </a:xfrm>
          <a:custGeom>
            <a:avLst/>
            <a:gdLst/>
            <a:ahLst/>
            <a:rect l="l" t="t" r="r" b="b"/>
            <a:pathLst>
              <a:path w="2456" h="844">
                <a:moveTo>
                  <a:pt x="21134" y="9649"/>
                </a:moveTo>
                <a:cubicBezTo>
                  <a:pt x="21172" y="9610"/>
                  <a:pt x="21082" y="9527"/>
                  <a:pt x="21034" y="9475"/>
                </a:cubicBezTo>
                <a:cubicBezTo>
                  <a:pt x="21026" y="9467"/>
                  <a:pt x="21018" y="9459"/>
                  <a:pt x="21010" y="9451"/>
                </a:cubicBezTo>
                <a:cubicBezTo>
                  <a:pt x="20904" y="9555"/>
                  <a:pt x="20874" y="9644"/>
                  <a:pt x="20886" y="9798"/>
                </a:cubicBezTo>
                <a:cubicBezTo>
                  <a:pt x="20896" y="9929"/>
                  <a:pt x="21033" y="9914"/>
                  <a:pt x="21059" y="9798"/>
                </a:cubicBezTo>
                <a:cubicBezTo>
                  <a:pt x="21059" y="9757"/>
                  <a:pt x="21059" y="9715"/>
                  <a:pt x="21059" y="9674"/>
                </a:cubicBezTo>
                <a:cubicBezTo>
                  <a:pt x="21067" y="9657"/>
                  <a:pt x="21076" y="9641"/>
                  <a:pt x="21084" y="9624"/>
                </a:cubicBezTo>
                <a:cubicBezTo>
                  <a:pt x="21104" y="9694"/>
                  <a:pt x="21178" y="9861"/>
                  <a:pt x="21282" y="9847"/>
                </a:cubicBezTo>
                <a:cubicBezTo>
                  <a:pt x="21389" y="9795"/>
                  <a:pt x="21425" y="9772"/>
                  <a:pt x="21431" y="9674"/>
                </a:cubicBezTo>
              </a:path>
              <a:path w="2456" h="844">
                <a:moveTo>
                  <a:pt x="21481" y="9475"/>
                </a:moveTo>
                <a:cubicBezTo>
                  <a:pt x="21542" y="9499"/>
                  <a:pt x="21571" y="9480"/>
                  <a:pt x="21555" y="9401"/>
                </a:cubicBezTo>
                <a:cubicBezTo>
                  <a:pt x="21547" y="9393"/>
                  <a:pt x="21538" y="9384"/>
                  <a:pt x="21530" y="9376"/>
                </a:cubicBezTo>
                <a:cubicBezTo>
                  <a:pt x="21420" y="9446"/>
                  <a:pt x="21300" y="9594"/>
                  <a:pt x="21382" y="9748"/>
                </a:cubicBezTo>
                <a:cubicBezTo>
                  <a:pt x="21471" y="9916"/>
                  <a:pt x="21793" y="9690"/>
                  <a:pt x="21853" y="9599"/>
                </a:cubicBezTo>
                <a:cubicBezTo>
                  <a:pt x="21874" y="9517"/>
                  <a:pt x="21882" y="9502"/>
                  <a:pt x="21878" y="9451"/>
                </a:cubicBezTo>
                <a:cubicBezTo>
                  <a:pt x="21846" y="9451"/>
                  <a:pt x="21824" y="9501"/>
                  <a:pt x="21853" y="9599"/>
                </a:cubicBezTo>
                <a:cubicBezTo>
                  <a:pt x="21900" y="9759"/>
                  <a:pt x="22050" y="9798"/>
                  <a:pt x="22175" y="9674"/>
                </a:cubicBezTo>
                <a:cubicBezTo>
                  <a:pt x="22249" y="9601"/>
                  <a:pt x="22216" y="9537"/>
                  <a:pt x="22225" y="9451"/>
                </a:cubicBezTo>
                <a:cubicBezTo>
                  <a:pt x="22243" y="9556"/>
                  <a:pt x="22235" y="9641"/>
                  <a:pt x="22349" y="9699"/>
                </a:cubicBezTo>
                <a:cubicBezTo>
                  <a:pt x="22514" y="9784"/>
                  <a:pt x="22592" y="9575"/>
                  <a:pt x="22671" y="9475"/>
                </a:cubicBezTo>
              </a:path>
              <a:path w="2456" h="844">
                <a:moveTo>
                  <a:pt x="22572" y="9079"/>
                </a:moveTo>
                <a:cubicBezTo>
                  <a:pt x="22564" y="9071"/>
                  <a:pt x="22555" y="9062"/>
                  <a:pt x="22547" y="9054"/>
                </a:cubicBezTo>
                <a:cubicBezTo>
                  <a:pt x="22547" y="9226"/>
                  <a:pt x="22586" y="9381"/>
                  <a:pt x="22622" y="9550"/>
                </a:cubicBezTo>
                <a:cubicBezTo>
                  <a:pt x="22643" y="9634"/>
                  <a:pt x="22645" y="9653"/>
                  <a:pt x="22671" y="9699"/>
                </a:cubicBezTo>
              </a:path>
              <a:path w="2456" h="844">
                <a:moveTo>
                  <a:pt x="22324" y="9401"/>
                </a:moveTo>
                <a:cubicBezTo>
                  <a:pt x="22512" y="9401"/>
                  <a:pt x="22710" y="9403"/>
                  <a:pt x="22895" y="9426"/>
                </a:cubicBezTo>
                <a:cubicBezTo>
                  <a:pt x="22976" y="9436"/>
                  <a:pt x="23029" y="9478"/>
                  <a:pt x="23068" y="9426"/>
                </a:cubicBezTo>
                <a:cubicBezTo>
                  <a:pt x="23109" y="9370"/>
                  <a:pt x="23110" y="9280"/>
                  <a:pt x="23068" y="9252"/>
                </a:cubicBezTo>
                <a:cubicBezTo>
                  <a:pt x="22936" y="9337"/>
                  <a:pt x="22894" y="9445"/>
                  <a:pt x="22994" y="9599"/>
                </a:cubicBezTo>
                <a:cubicBezTo>
                  <a:pt x="23079" y="9729"/>
                  <a:pt x="23231" y="9679"/>
                  <a:pt x="23341" y="962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6960" y="4394160"/>
            <a:ext cx="1322280" cy="446040"/>
          </a:xfrm>
          <a:custGeom>
            <a:avLst/>
            <a:gdLst/>
            <a:ahLst/>
            <a:rect l="l" t="t" r="r" b="b"/>
            <a:pathLst>
              <a:path w="3672" h="1241">
                <a:moveTo>
                  <a:pt x="14759" y="12477"/>
                </a:moveTo>
                <a:cubicBezTo>
                  <a:pt x="14791" y="12413"/>
                  <a:pt x="14686" y="12346"/>
                  <a:pt x="14610" y="12328"/>
                </a:cubicBezTo>
                <a:cubicBezTo>
                  <a:pt x="14429" y="12285"/>
                  <a:pt x="14273" y="12413"/>
                  <a:pt x="14213" y="12576"/>
                </a:cubicBezTo>
                <a:cubicBezTo>
                  <a:pt x="14132" y="12797"/>
                  <a:pt x="14285" y="13024"/>
                  <a:pt x="14536" y="12948"/>
                </a:cubicBezTo>
                <a:cubicBezTo>
                  <a:pt x="14689" y="12902"/>
                  <a:pt x="14940" y="12670"/>
                  <a:pt x="14784" y="12502"/>
                </a:cubicBezTo>
                <a:cubicBezTo>
                  <a:pt x="14721" y="12433"/>
                  <a:pt x="14563" y="12460"/>
                  <a:pt x="14660" y="12402"/>
                </a:cubicBezTo>
              </a:path>
              <a:path w="3672" h="1241">
                <a:moveTo>
                  <a:pt x="15081" y="12204"/>
                </a:moveTo>
                <a:cubicBezTo>
                  <a:pt x="15081" y="12462"/>
                  <a:pt x="15100" y="12716"/>
                  <a:pt x="15106" y="12973"/>
                </a:cubicBezTo>
                <a:cubicBezTo>
                  <a:pt x="15106" y="12998"/>
                  <a:pt x="15106" y="13022"/>
                  <a:pt x="15106" y="13047"/>
                </a:cubicBezTo>
                <a:cubicBezTo>
                  <a:pt x="15106" y="13163"/>
                  <a:pt x="15153" y="12871"/>
                  <a:pt x="15180" y="12824"/>
                </a:cubicBezTo>
                <a:cubicBezTo>
                  <a:pt x="15276" y="12655"/>
                  <a:pt x="15364" y="12693"/>
                  <a:pt x="15528" y="12700"/>
                </a:cubicBezTo>
                <a:cubicBezTo>
                  <a:pt x="15595" y="12870"/>
                  <a:pt x="15625" y="13045"/>
                  <a:pt x="15429" y="13171"/>
                </a:cubicBezTo>
                <a:cubicBezTo>
                  <a:pt x="15315" y="13244"/>
                  <a:pt x="15077" y="13076"/>
                  <a:pt x="15106" y="12948"/>
                </a:cubicBezTo>
                <a:cubicBezTo>
                  <a:pt x="15131" y="12931"/>
                  <a:pt x="15155" y="12915"/>
                  <a:pt x="15180" y="12898"/>
                </a:cubicBezTo>
              </a:path>
              <a:path w="3672" h="1241">
                <a:moveTo>
                  <a:pt x="15900" y="12254"/>
                </a:moveTo>
                <a:cubicBezTo>
                  <a:pt x="15891" y="12536"/>
                  <a:pt x="15885" y="12791"/>
                  <a:pt x="15925" y="13072"/>
                </a:cubicBezTo>
                <a:cubicBezTo>
                  <a:pt x="15939" y="13171"/>
                  <a:pt x="15949" y="13371"/>
                  <a:pt x="15949" y="13271"/>
                </a:cubicBezTo>
              </a:path>
              <a:path w="3672" h="1241">
                <a:moveTo>
                  <a:pt x="15627" y="12799"/>
                </a:moveTo>
                <a:cubicBezTo>
                  <a:pt x="15860" y="12823"/>
                  <a:pt x="16087" y="12824"/>
                  <a:pt x="16321" y="12824"/>
                </a:cubicBezTo>
                <a:cubicBezTo>
                  <a:pt x="16329" y="12824"/>
                  <a:pt x="16338" y="12824"/>
                  <a:pt x="16346" y="12824"/>
                </a:cubicBezTo>
                <a:cubicBezTo>
                  <a:pt x="16300" y="12957"/>
                  <a:pt x="16256" y="13071"/>
                  <a:pt x="16272" y="13221"/>
                </a:cubicBezTo>
                <a:cubicBezTo>
                  <a:pt x="16296" y="13292"/>
                  <a:pt x="16303" y="13315"/>
                  <a:pt x="16346" y="13345"/>
                </a:cubicBezTo>
                <a:cubicBezTo>
                  <a:pt x="16471" y="13267"/>
                  <a:pt x="16620" y="13172"/>
                  <a:pt x="16619" y="12998"/>
                </a:cubicBezTo>
                <a:cubicBezTo>
                  <a:pt x="16611" y="13006"/>
                  <a:pt x="16602" y="13014"/>
                  <a:pt x="16594" y="13022"/>
                </a:cubicBezTo>
                <a:cubicBezTo>
                  <a:pt x="16605" y="13133"/>
                  <a:pt x="16622" y="13410"/>
                  <a:pt x="16818" y="13370"/>
                </a:cubicBezTo>
                <a:cubicBezTo>
                  <a:pt x="16867" y="13345"/>
                  <a:pt x="16917" y="13320"/>
                  <a:pt x="16966" y="13295"/>
                </a:cubicBezTo>
              </a:path>
              <a:path w="3672" h="1241">
                <a:moveTo>
                  <a:pt x="17165" y="12824"/>
                </a:moveTo>
                <a:cubicBezTo>
                  <a:pt x="17018" y="12835"/>
                  <a:pt x="16977" y="12839"/>
                  <a:pt x="16917" y="12973"/>
                </a:cubicBezTo>
                <a:cubicBezTo>
                  <a:pt x="17015" y="13081"/>
                  <a:pt x="17133" y="13164"/>
                  <a:pt x="17239" y="13271"/>
                </a:cubicBezTo>
                <a:cubicBezTo>
                  <a:pt x="17107" y="13385"/>
                  <a:pt x="17004" y="13327"/>
                  <a:pt x="16842" y="13271"/>
                </a:cubicBezTo>
              </a:path>
              <a:path w="3672" h="1241">
                <a:moveTo>
                  <a:pt x="17388" y="12973"/>
                </a:moveTo>
                <a:cubicBezTo>
                  <a:pt x="17496" y="12973"/>
                  <a:pt x="17603" y="12973"/>
                  <a:pt x="17711" y="12973"/>
                </a:cubicBezTo>
                <a:cubicBezTo>
                  <a:pt x="17711" y="12924"/>
                  <a:pt x="17705" y="12827"/>
                  <a:pt x="17661" y="12799"/>
                </a:cubicBezTo>
                <a:cubicBezTo>
                  <a:pt x="17493" y="12691"/>
                  <a:pt x="17334" y="13122"/>
                  <a:pt x="17338" y="13221"/>
                </a:cubicBezTo>
                <a:cubicBezTo>
                  <a:pt x="17347" y="13466"/>
                  <a:pt x="17630" y="13473"/>
                  <a:pt x="17810" y="13444"/>
                </a:cubicBezTo>
                <a:cubicBezTo>
                  <a:pt x="17826" y="13436"/>
                  <a:pt x="17843" y="13427"/>
                  <a:pt x="1785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4054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1261"/>
                </a:moveTo>
                <a:lnTo>
                  <a:pt x="3621" y="11261"/>
                </a:lnTo>
                <a:lnTo>
                  <a:pt x="3621" y="1126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8880" y="2946240"/>
            <a:ext cx="349200" cy="277920"/>
          </a:xfrm>
          <a:custGeom>
            <a:avLst/>
            <a:gdLst/>
            <a:ahLst/>
            <a:rect l="l" t="t" r="r" b="b"/>
            <a:pathLst>
              <a:path w="969" h="769">
                <a:moveTo>
                  <a:pt x="2108" y="8285"/>
                </a:moveTo>
                <a:cubicBezTo>
                  <a:pt x="2263" y="8252"/>
                  <a:pt x="2422" y="8244"/>
                  <a:pt x="2580" y="8210"/>
                </a:cubicBezTo>
                <a:cubicBezTo>
                  <a:pt x="2662" y="8192"/>
                  <a:pt x="2721" y="8186"/>
                  <a:pt x="2803" y="8186"/>
                </a:cubicBezTo>
                <a:cubicBezTo>
                  <a:pt x="2844" y="8186"/>
                  <a:pt x="2886" y="8186"/>
                  <a:pt x="2927" y="8186"/>
                </a:cubicBezTo>
                <a:cubicBezTo>
                  <a:pt x="2950" y="8317"/>
                  <a:pt x="2972" y="8451"/>
                  <a:pt x="3001" y="8582"/>
                </a:cubicBezTo>
                <a:cubicBezTo>
                  <a:pt x="3022" y="8678"/>
                  <a:pt x="3027" y="8790"/>
                  <a:pt x="3051" y="8880"/>
                </a:cubicBezTo>
                <a:cubicBezTo>
                  <a:pt x="3052" y="8883"/>
                  <a:pt x="3071" y="8921"/>
                  <a:pt x="3076" y="89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349092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2158" y="10096"/>
                </a:moveTo>
                <a:cubicBezTo>
                  <a:pt x="2198" y="10042"/>
                  <a:pt x="2176" y="10041"/>
                  <a:pt x="2208" y="10120"/>
                </a:cubicBezTo>
                <a:cubicBezTo>
                  <a:pt x="2220" y="10150"/>
                  <a:pt x="2305" y="10436"/>
                  <a:pt x="2257" y="10244"/>
                </a:cubicBezTo>
                <a:cubicBezTo>
                  <a:pt x="2223" y="10108"/>
                  <a:pt x="2106" y="9732"/>
                  <a:pt x="2356" y="9699"/>
                </a:cubicBezTo>
                <a:cubicBezTo>
                  <a:pt x="2557" y="9673"/>
                  <a:pt x="2657" y="9914"/>
                  <a:pt x="2580" y="10071"/>
                </a:cubicBezTo>
                <a:cubicBezTo>
                  <a:pt x="2535" y="10164"/>
                  <a:pt x="2455" y="10115"/>
                  <a:pt x="2356" y="10145"/>
                </a:cubicBezTo>
                <a:cubicBezTo>
                  <a:pt x="2356" y="10153"/>
                  <a:pt x="2356" y="10162"/>
                  <a:pt x="2356" y="10170"/>
                </a:cubicBezTo>
                <a:cubicBezTo>
                  <a:pt x="2480" y="10229"/>
                  <a:pt x="2681" y="10408"/>
                  <a:pt x="2828" y="10368"/>
                </a:cubicBezTo>
                <a:cubicBezTo>
                  <a:pt x="2901" y="10348"/>
                  <a:pt x="2892" y="10289"/>
                  <a:pt x="2952" y="10244"/>
                </a:cubicBezTo>
                <a:cubicBezTo>
                  <a:pt x="3035" y="10345"/>
                  <a:pt x="3025" y="10424"/>
                  <a:pt x="3101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108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01" y="9823"/>
                </a:moveTo>
                <a:lnTo>
                  <a:pt x="3001" y="9823"/>
                </a:lnTo>
                <a:lnTo>
                  <a:pt x="3001" y="9823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3581280"/>
            <a:ext cx="169920" cy="32076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522" y="9996"/>
                </a:moveTo>
                <a:cubicBezTo>
                  <a:pt x="3522" y="9988"/>
                  <a:pt x="3522" y="9979"/>
                  <a:pt x="3522" y="9971"/>
                </a:cubicBezTo>
                <a:cubicBezTo>
                  <a:pt x="3404" y="9928"/>
                  <a:pt x="3356" y="9950"/>
                  <a:pt x="3324" y="10096"/>
                </a:cubicBezTo>
                <a:cubicBezTo>
                  <a:pt x="3307" y="10173"/>
                  <a:pt x="3388" y="10383"/>
                  <a:pt x="3497" y="10269"/>
                </a:cubicBezTo>
                <a:cubicBezTo>
                  <a:pt x="3539" y="10186"/>
                  <a:pt x="3547" y="10170"/>
                  <a:pt x="3572" y="10120"/>
                </a:cubicBezTo>
                <a:cubicBezTo>
                  <a:pt x="3682" y="10313"/>
                  <a:pt x="3794" y="10469"/>
                  <a:pt x="3671" y="10691"/>
                </a:cubicBezTo>
                <a:cubicBezTo>
                  <a:pt x="3492" y="11015"/>
                  <a:pt x="3341" y="10756"/>
                  <a:pt x="3249" y="105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348300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3646" y="9674"/>
                </a:moveTo>
                <a:cubicBezTo>
                  <a:pt x="3745" y="9864"/>
                  <a:pt x="3811" y="10052"/>
                  <a:pt x="3894" y="10244"/>
                </a:cubicBezTo>
                <a:cubicBezTo>
                  <a:pt x="3902" y="10252"/>
                  <a:pt x="3911" y="10261"/>
                  <a:pt x="3919" y="10269"/>
                </a:cubicBezTo>
                <a:cubicBezTo>
                  <a:pt x="3901" y="10197"/>
                  <a:pt x="3872" y="10128"/>
                  <a:pt x="3919" y="10046"/>
                </a:cubicBezTo>
                <a:cubicBezTo>
                  <a:pt x="4013" y="9881"/>
                  <a:pt x="4181" y="10177"/>
                  <a:pt x="4217" y="10244"/>
                </a:cubicBezTo>
                <a:cubicBezTo>
                  <a:pt x="4244" y="10294"/>
                  <a:pt x="4237" y="10372"/>
                  <a:pt x="4266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446640"/>
            <a:ext cx="73080" cy="23328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4341" y="9575"/>
                </a:moveTo>
                <a:cubicBezTo>
                  <a:pt x="4404" y="9773"/>
                  <a:pt x="4500" y="9968"/>
                  <a:pt x="4539" y="10170"/>
                </a:cubicBezTo>
                <a:cubicBezTo>
                  <a:pt x="4539" y="10187"/>
                  <a:pt x="4539" y="10203"/>
                  <a:pt x="4539" y="1022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4760" y="352728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4291" y="9947"/>
                </a:moveTo>
                <a:cubicBezTo>
                  <a:pt x="4420" y="9902"/>
                  <a:pt x="4573" y="9863"/>
                  <a:pt x="4688" y="97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73680" y="2027160"/>
            <a:ext cx="114300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1038" y="5879"/>
                </a:moveTo>
                <a:cubicBezTo>
                  <a:pt x="11100" y="6104"/>
                  <a:pt x="11204" y="6341"/>
                  <a:pt x="11162" y="6573"/>
                </a:cubicBezTo>
                <a:cubicBezTo>
                  <a:pt x="11154" y="6590"/>
                  <a:pt x="11145" y="6606"/>
                  <a:pt x="11137" y="6623"/>
                </a:cubicBezTo>
                <a:cubicBezTo>
                  <a:pt x="11095" y="6427"/>
                  <a:pt x="11031" y="6190"/>
                  <a:pt x="11112" y="5953"/>
                </a:cubicBezTo>
                <a:cubicBezTo>
                  <a:pt x="11205" y="5792"/>
                  <a:pt x="11224" y="5738"/>
                  <a:pt x="11361" y="5730"/>
                </a:cubicBezTo>
                <a:cubicBezTo>
                  <a:pt x="11537" y="5925"/>
                  <a:pt x="11651" y="6073"/>
                  <a:pt x="11385" y="6276"/>
                </a:cubicBezTo>
                <a:cubicBezTo>
                  <a:pt x="11257" y="6374"/>
                  <a:pt x="11269" y="6187"/>
                  <a:pt x="11261" y="6127"/>
                </a:cubicBezTo>
                <a:cubicBezTo>
                  <a:pt x="11394" y="6050"/>
                  <a:pt x="11518" y="6283"/>
                  <a:pt x="11633" y="6400"/>
                </a:cubicBezTo>
                <a:cubicBezTo>
                  <a:pt x="11790" y="6560"/>
                  <a:pt x="11732" y="6436"/>
                  <a:pt x="11782" y="6276"/>
                </a:cubicBezTo>
                <a:cubicBezTo>
                  <a:pt x="11790" y="6259"/>
                  <a:pt x="11799" y="6243"/>
                  <a:pt x="11807" y="6226"/>
                </a:cubicBezTo>
                <a:cubicBezTo>
                  <a:pt x="11887" y="6324"/>
                  <a:pt x="11990" y="6445"/>
                  <a:pt x="12080" y="6548"/>
                </a:cubicBezTo>
                <a:cubicBezTo>
                  <a:pt x="12088" y="6556"/>
                  <a:pt x="12097" y="6565"/>
                  <a:pt x="12105" y="6573"/>
                </a:cubicBezTo>
              </a:path>
              <a:path w="3176" h="1439">
                <a:moveTo>
                  <a:pt x="11931" y="6003"/>
                </a:moveTo>
                <a:cubicBezTo>
                  <a:pt x="11948" y="6003"/>
                  <a:pt x="11964" y="6003"/>
                  <a:pt x="11981" y="6003"/>
                </a:cubicBezTo>
              </a:path>
              <a:path w="3176" h="1439">
                <a:moveTo>
                  <a:pt x="12725" y="6300"/>
                </a:moveTo>
                <a:cubicBezTo>
                  <a:pt x="12712" y="6263"/>
                  <a:pt x="12649" y="6136"/>
                  <a:pt x="12576" y="6127"/>
                </a:cubicBezTo>
                <a:cubicBezTo>
                  <a:pt x="12310" y="6095"/>
                  <a:pt x="12310" y="6350"/>
                  <a:pt x="12328" y="6524"/>
                </a:cubicBezTo>
                <a:cubicBezTo>
                  <a:pt x="12536" y="6535"/>
                  <a:pt x="12597" y="6491"/>
                  <a:pt x="12725" y="6325"/>
                </a:cubicBezTo>
                <a:cubicBezTo>
                  <a:pt x="12776" y="6500"/>
                  <a:pt x="12906" y="6764"/>
                  <a:pt x="12824" y="6945"/>
                </a:cubicBezTo>
                <a:cubicBezTo>
                  <a:pt x="12688" y="7245"/>
                  <a:pt x="12439" y="6997"/>
                  <a:pt x="12353" y="6871"/>
                </a:cubicBezTo>
              </a:path>
              <a:path w="3176" h="1439">
                <a:moveTo>
                  <a:pt x="13122" y="6226"/>
                </a:moveTo>
                <a:cubicBezTo>
                  <a:pt x="13129" y="6256"/>
                  <a:pt x="13250" y="6602"/>
                  <a:pt x="13196" y="6548"/>
                </a:cubicBezTo>
                <a:cubicBezTo>
                  <a:pt x="13190" y="6424"/>
                  <a:pt x="13123" y="6183"/>
                  <a:pt x="13271" y="6102"/>
                </a:cubicBezTo>
                <a:cubicBezTo>
                  <a:pt x="13523" y="5964"/>
                  <a:pt x="13621" y="6285"/>
                  <a:pt x="13667" y="6449"/>
                </a:cubicBezTo>
                <a:cubicBezTo>
                  <a:pt x="13685" y="6540"/>
                  <a:pt x="13694" y="6547"/>
                  <a:pt x="13692" y="6598"/>
                </a:cubicBezTo>
              </a:path>
              <a:path w="3176" h="1439">
                <a:moveTo>
                  <a:pt x="13866" y="5631"/>
                </a:moveTo>
                <a:lnTo>
                  <a:pt x="13915" y="5854"/>
                </a:lnTo>
                <a:lnTo>
                  <a:pt x="13965" y="6127"/>
                </a:lnTo>
                <a:lnTo>
                  <a:pt x="14015" y="6300"/>
                </a:lnTo>
                <a:lnTo>
                  <a:pt x="14015" y="6375"/>
                </a:lnTo>
                <a:lnTo>
                  <a:pt x="14015" y="6350"/>
                </a:lnTo>
              </a:path>
              <a:path w="3176" h="1439">
                <a:moveTo>
                  <a:pt x="13866" y="6003"/>
                </a:moveTo>
                <a:cubicBezTo>
                  <a:pt x="14041" y="5978"/>
                  <a:pt x="14101" y="5969"/>
                  <a:pt x="14213" y="5928"/>
                </a:cubicBezTo>
              </a:path>
              <a:path w="3176" h="1439">
                <a:moveTo>
                  <a:pt x="12898" y="5680"/>
                </a:moveTo>
                <a:cubicBezTo>
                  <a:pt x="12826" y="5655"/>
                  <a:pt x="12882" y="5877"/>
                  <a:pt x="12898" y="5953"/>
                </a:cubicBezTo>
                <a:cubicBezTo>
                  <a:pt x="12911" y="6018"/>
                  <a:pt x="12973" y="6309"/>
                  <a:pt x="12973" y="63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3071880"/>
            <a:ext cx="1536840" cy="366480"/>
          </a:xfrm>
          <a:custGeom>
            <a:avLst/>
            <a:gdLst/>
            <a:ahLst/>
            <a:rect l="l" t="t" r="r" b="b"/>
            <a:pathLst>
              <a:path w="4267" h="1018">
                <a:moveTo>
                  <a:pt x="12030" y="8979"/>
                </a:moveTo>
                <a:cubicBezTo>
                  <a:pt x="11882" y="9044"/>
                  <a:pt x="11683" y="9178"/>
                  <a:pt x="11683" y="9376"/>
                </a:cubicBezTo>
                <a:cubicBezTo>
                  <a:pt x="11700" y="9409"/>
                  <a:pt x="11716" y="9442"/>
                  <a:pt x="11733" y="9475"/>
                </a:cubicBezTo>
                <a:cubicBezTo>
                  <a:pt x="11932" y="9560"/>
                  <a:pt x="12221" y="9543"/>
                  <a:pt x="12328" y="9277"/>
                </a:cubicBezTo>
                <a:cubicBezTo>
                  <a:pt x="12445" y="8988"/>
                  <a:pt x="12113" y="8943"/>
                  <a:pt x="11931" y="8930"/>
                </a:cubicBezTo>
                <a:cubicBezTo>
                  <a:pt x="11923" y="8930"/>
                  <a:pt x="11914" y="8930"/>
                  <a:pt x="11906" y="8930"/>
                </a:cubicBezTo>
              </a:path>
              <a:path w="4267" h="1018">
                <a:moveTo>
                  <a:pt x="12378" y="8533"/>
                </a:moveTo>
                <a:cubicBezTo>
                  <a:pt x="12417" y="8811"/>
                  <a:pt x="12456" y="9078"/>
                  <a:pt x="12526" y="9351"/>
                </a:cubicBezTo>
                <a:cubicBezTo>
                  <a:pt x="12526" y="9454"/>
                  <a:pt x="12486" y="9304"/>
                  <a:pt x="12502" y="9203"/>
                </a:cubicBezTo>
                <a:cubicBezTo>
                  <a:pt x="12536" y="8985"/>
                  <a:pt x="12625" y="8967"/>
                  <a:pt x="12799" y="8880"/>
                </a:cubicBezTo>
                <a:cubicBezTo>
                  <a:pt x="12960" y="9026"/>
                  <a:pt x="13155" y="9222"/>
                  <a:pt x="12874" y="9401"/>
                </a:cubicBezTo>
                <a:cubicBezTo>
                  <a:pt x="12625" y="9560"/>
                  <a:pt x="12515" y="9374"/>
                  <a:pt x="12452" y="9178"/>
                </a:cubicBezTo>
              </a:path>
              <a:path w="4267" h="1018">
                <a:moveTo>
                  <a:pt x="13345" y="8558"/>
                </a:moveTo>
                <a:lnTo>
                  <a:pt x="13370" y="8533"/>
                </a:lnTo>
                <a:lnTo>
                  <a:pt x="13444" y="8632"/>
                </a:lnTo>
                <a:lnTo>
                  <a:pt x="13494" y="8830"/>
                </a:lnTo>
                <a:lnTo>
                  <a:pt x="13568" y="9054"/>
                </a:lnTo>
                <a:lnTo>
                  <a:pt x="13618" y="9252"/>
                </a:lnTo>
                <a:lnTo>
                  <a:pt x="13643" y="9376"/>
                </a:lnTo>
                <a:lnTo>
                  <a:pt x="13643" y="9451"/>
                </a:lnTo>
                <a:lnTo>
                  <a:pt x="13643" y="9426"/>
                </a:lnTo>
              </a:path>
              <a:path w="4267" h="1018">
                <a:moveTo>
                  <a:pt x="13246" y="8930"/>
                </a:moveTo>
                <a:cubicBezTo>
                  <a:pt x="13462" y="8918"/>
                  <a:pt x="13673" y="8905"/>
                  <a:pt x="13891" y="8905"/>
                </a:cubicBezTo>
                <a:cubicBezTo>
                  <a:pt x="13985" y="8905"/>
                  <a:pt x="14006" y="8884"/>
                  <a:pt x="14039" y="8930"/>
                </a:cubicBezTo>
                <a:cubicBezTo>
                  <a:pt x="14014" y="9036"/>
                  <a:pt x="13938" y="9283"/>
                  <a:pt x="14039" y="9376"/>
                </a:cubicBezTo>
                <a:cubicBezTo>
                  <a:pt x="14170" y="9496"/>
                  <a:pt x="14393" y="9218"/>
                  <a:pt x="14436" y="9128"/>
                </a:cubicBezTo>
                <a:cubicBezTo>
                  <a:pt x="14454" y="9037"/>
                  <a:pt x="14463" y="9030"/>
                  <a:pt x="14461" y="8979"/>
                </a:cubicBezTo>
                <a:cubicBezTo>
                  <a:pt x="14431" y="9109"/>
                  <a:pt x="14422" y="9151"/>
                  <a:pt x="14511" y="9277"/>
                </a:cubicBezTo>
                <a:cubicBezTo>
                  <a:pt x="14584" y="9350"/>
                  <a:pt x="14606" y="9374"/>
                  <a:pt x="14684" y="9351"/>
                </a:cubicBezTo>
              </a:path>
              <a:path w="4267" h="1018">
                <a:moveTo>
                  <a:pt x="15156" y="8830"/>
                </a:moveTo>
                <a:cubicBezTo>
                  <a:pt x="15036" y="8838"/>
                  <a:pt x="14988" y="8848"/>
                  <a:pt x="14883" y="8905"/>
                </a:cubicBezTo>
                <a:cubicBezTo>
                  <a:pt x="14914" y="9058"/>
                  <a:pt x="15071" y="9034"/>
                  <a:pt x="15180" y="9103"/>
                </a:cubicBezTo>
                <a:cubicBezTo>
                  <a:pt x="15205" y="9128"/>
                  <a:pt x="15230" y="9153"/>
                  <a:pt x="15255" y="9178"/>
                </a:cubicBezTo>
                <a:cubicBezTo>
                  <a:pt x="15202" y="9311"/>
                  <a:pt x="15039" y="9334"/>
                  <a:pt x="14883" y="9252"/>
                </a:cubicBezTo>
                <a:cubicBezTo>
                  <a:pt x="14812" y="9182"/>
                  <a:pt x="14784" y="9161"/>
                  <a:pt x="14858" y="9103"/>
                </a:cubicBezTo>
              </a:path>
              <a:path w="4267" h="1018">
                <a:moveTo>
                  <a:pt x="15404" y="9004"/>
                </a:moveTo>
                <a:cubicBezTo>
                  <a:pt x="15481" y="9010"/>
                  <a:pt x="15550" y="9029"/>
                  <a:pt x="15627" y="9029"/>
                </a:cubicBezTo>
                <a:cubicBezTo>
                  <a:pt x="15617" y="8930"/>
                  <a:pt x="15592" y="8847"/>
                  <a:pt x="15553" y="8756"/>
                </a:cubicBezTo>
                <a:cubicBezTo>
                  <a:pt x="15430" y="8787"/>
                  <a:pt x="15349" y="8971"/>
                  <a:pt x="15354" y="9103"/>
                </a:cubicBezTo>
                <a:cubicBezTo>
                  <a:pt x="15362" y="9332"/>
                  <a:pt x="15567" y="9393"/>
                  <a:pt x="15751" y="9351"/>
                </a:cubicBezTo>
                <a:cubicBezTo>
                  <a:pt x="15858" y="9309"/>
                  <a:pt x="15882" y="9298"/>
                  <a:pt x="15949" y="92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86040" y="1768320"/>
            <a:ext cx="1081080" cy="758880"/>
          </a:xfrm>
          <a:custGeom>
            <a:avLst/>
            <a:gdLst/>
            <a:ahLst/>
            <a:rect l="l" t="t" r="r" b="b"/>
            <a:pathLst>
              <a:path w="3002" h="2110">
                <a:moveTo>
                  <a:pt x="8657" y="6672"/>
                </a:moveTo>
                <a:cubicBezTo>
                  <a:pt x="8607" y="6683"/>
                  <a:pt x="8558" y="6686"/>
                  <a:pt x="8508" y="6697"/>
                </a:cubicBezTo>
                <a:cubicBezTo>
                  <a:pt x="8566" y="6842"/>
                  <a:pt x="8580" y="6874"/>
                  <a:pt x="8756" y="6921"/>
                </a:cubicBezTo>
                <a:cubicBezTo>
                  <a:pt x="9120" y="7018"/>
                  <a:pt x="9563" y="6980"/>
                  <a:pt x="9922" y="6871"/>
                </a:cubicBezTo>
                <a:cubicBezTo>
                  <a:pt x="10240" y="6775"/>
                  <a:pt x="10608" y="6593"/>
                  <a:pt x="10716" y="6251"/>
                </a:cubicBezTo>
                <a:cubicBezTo>
                  <a:pt x="10792" y="6009"/>
                  <a:pt x="10676" y="5647"/>
                  <a:pt x="10517" y="5457"/>
                </a:cubicBezTo>
                <a:cubicBezTo>
                  <a:pt x="10327" y="5229"/>
                  <a:pt x="9964" y="5148"/>
                  <a:pt x="9699" y="5060"/>
                </a:cubicBezTo>
                <a:cubicBezTo>
                  <a:pt x="9421" y="4968"/>
                  <a:pt x="9123" y="4929"/>
                  <a:pt x="8830" y="4911"/>
                </a:cubicBezTo>
                <a:cubicBezTo>
                  <a:pt x="8623" y="4898"/>
                  <a:pt x="8488" y="4944"/>
                  <a:pt x="8310" y="5035"/>
                </a:cubicBezTo>
                <a:cubicBezTo>
                  <a:pt x="8117" y="5134"/>
                  <a:pt x="7961" y="5282"/>
                  <a:pt x="7863" y="5482"/>
                </a:cubicBezTo>
                <a:cubicBezTo>
                  <a:pt x="7766" y="5679"/>
                  <a:pt x="7720" y="5857"/>
                  <a:pt x="7739" y="6077"/>
                </a:cubicBezTo>
                <a:cubicBezTo>
                  <a:pt x="7756" y="6278"/>
                  <a:pt x="7826" y="6552"/>
                  <a:pt x="7938" y="6722"/>
                </a:cubicBezTo>
                <a:cubicBezTo>
                  <a:pt x="8063" y="6912"/>
                  <a:pt x="8264" y="7002"/>
                  <a:pt x="8483" y="7020"/>
                </a:cubicBezTo>
                <a:cubicBezTo>
                  <a:pt x="8689" y="7037"/>
                  <a:pt x="8862" y="6997"/>
                  <a:pt x="9054" y="694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720" y="2973240"/>
            <a:ext cx="1152360" cy="714600"/>
          </a:xfrm>
          <a:custGeom>
            <a:avLst/>
            <a:gdLst/>
            <a:ahLst/>
            <a:rect l="l" t="t" r="r" b="b"/>
            <a:pathLst>
              <a:path w="3201" h="1985">
                <a:moveTo>
                  <a:pt x="3572" y="10170"/>
                </a:moveTo>
                <a:cubicBezTo>
                  <a:pt x="3672" y="10182"/>
                  <a:pt x="3768" y="10193"/>
                  <a:pt x="3870" y="10195"/>
                </a:cubicBezTo>
                <a:cubicBezTo>
                  <a:pt x="4257" y="10203"/>
                  <a:pt x="4635" y="10186"/>
                  <a:pt x="5011" y="10145"/>
                </a:cubicBezTo>
                <a:cubicBezTo>
                  <a:pt x="5189" y="10125"/>
                  <a:pt x="5316" y="10090"/>
                  <a:pt x="5482" y="10021"/>
                </a:cubicBezTo>
                <a:cubicBezTo>
                  <a:pt x="5635" y="9957"/>
                  <a:pt x="5787" y="9869"/>
                  <a:pt x="5904" y="9748"/>
                </a:cubicBezTo>
                <a:cubicBezTo>
                  <a:pt x="6013" y="9636"/>
                  <a:pt x="6020" y="9495"/>
                  <a:pt x="6052" y="9351"/>
                </a:cubicBezTo>
                <a:cubicBezTo>
                  <a:pt x="6076" y="9246"/>
                  <a:pt x="6111" y="9163"/>
                  <a:pt x="6102" y="9054"/>
                </a:cubicBezTo>
                <a:cubicBezTo>
                  <a:pt x="6092" y="8930"/>
                  <a:pt x="6060" y="8841"/>
                  <a:pt x="6003" y="8731"/>
                </a:cubicBezTo>
                <a:cubicBezTo>
                  <a:pt x="5922" y="8574"/>
                  <a:pt x="5843" y="8490"/>
                  <a:pt x="5680" y="8409"/>
                </a:cubicBezTo>
                <a:cubicBezTo>
                  <a:pt x="5548" y="8343"/>
                  <a:pt x="5357" y="8298"/>
                  <a:pt x="5209" y="8285"/>
                </a:cubicBezTo>
                <a:cubicBezTo>
                  <a:pt x="5010" y="8267"/>
                  <a:pt x="4811" y="8279"/>
                  <a:pt x="4614" y="8285"/>
                </a:cubicBezTo>
                <a:cubicBezTo>
                  <a:pt x="4399" y="8292"/>
                  <a:pt x="4207" y="8300"/>
                  <a:pt x="3994" y="8334"/>
                </a:cubicBezTo>
                <a:cubicBezTo>
                  <a:pt x="3823" y="8361"/>
                  <a:pt x="3683" y="8430"/>
                  <a:pt x="3522" y="8483"/>
                </a:cubicBezTo>
                <a:cubicBezTo>
                  <a:pt x="3407" y="8521"/>
                  <a:pt x="3304" y="8567"/>
                  <a:pt x="3200" y="8632"/>
                </a:cubicBezTo>
                <a:cubicBezTo>
                  <a:pt x="3100" y="8695"/>
                  <a:pt x="3012" y="8750"/>
                  <a:pt x="2952" y="8855"/>
                </a:cubicBezTo>
                <a:cubicBezTo>
                  <a:pt x="2885" y="8972"/>
                  <a:pt x="2888" y="9173"/>
                  <a:pt x="2902" y="9302"/>
                </a:cubicBezTo>
                <a:cubicBezTo>
                  <a:pt x="2920" y="9468"/>
                  <a:pt x="2968" y="9551"/>
                  <a:pt x="3026" y="9699"/>
                </a:cubicBezTo>
                <a:cubicBezTo>
                  <a:pt x="3072" y="9817"/>
                  <a:pt x="3135" y="9953"/>
                  <a:pt x="3225" y="10046"/>
                </a:cubicBezTo>
                <a:cubicBezTo>
                  <a:pt x="3337" y="10161"/>
                  <a:pt x="3490" y="10206"/>
                  <a:pt x="3646" y="10220"/>
                </a:cubicBezTo>
                <a:cubicBezTo>
                  <a:pt x="3779" y="10232"/>
                  <a:pt x="3910" y="10240"/>
                  <a:pt x="4043" y="10244"/>
                </a:cubicBezTo>
                <a:cubicBezTo>
                  <a:pt x="4068" y="10244"/>
                  <a:pt x="4076" y="10244"/>
                  <a:pt x="4093" y="102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4880" y="4224240"/>
            <a:ext cx="148248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12353" y="12477"/>
                </a:moveTo>
                <a:cubicBezTo>
                  <a:pt x="12299" y="12357"/>
                  <a:pt x="12276" y="12327"/>
                  <a:pt x="12179" y="12254"/>
                </a:cubicBezTo>
                <a:cubicBezTo>
                  <a:pt x="12055" y="12160"/>
                  <a:pt x="11918" y="12262"/>
                  <a:pt x="11807" y="12353"/>
                </a:cubicBezTo>
                <a:cubicBezTo>
                  <a:pt x="11678" y="12459"/>
                  <a:pt x="11673" y="12660"/>
                  <a:pt x="11757" y="12799"/>
                </a:cubicBezTo>
                <a:cubicBezTo>
                  <a:pt x="11842" y="12941"/>
                  <a:pt x="12038" y="12904"/>
                  <a:pt x="12154" y="12824"/>
                </a:cubicBezTo>
                <a:cubicBezTo>
                  <a:pt x="12350" y="12689"/>
                  <a:pt x="12277" y="12571"/>
                  <a:pt x="12254" y="12378"/>
                </a:cubicBezTo>
                <a:cubicBezTo>
                  <a:pt x="12254" y="12320"/>
                  <a:pt x="12271" y="12295"/>
                  <a:pt x="12229" y="12303"/>
                </a:cubicBezTo>
                <a:cubicBezTo>
                  <a:pt x="12297" y="12467"/>
                  <a:pt x="12358" y="12621"/>
                  <a:pt x="12452" y="12774"/>
                </a:cubicBezTo>
                <a:cubicBezTo>
                  <a:pt x="12490" y="12831"/>
                  <a:pt x="12507" y="12834"/>
                  <a:pt x="12502" y="12874"/>
                </a:cubicBezTo>
              </a:path>
              <a:path w="4118" h="1166">
                <a:moveTo>
                  <a:pt x="12923" y="12254"/>
                </a:moveTo>
                <a:cubicBezTo>
                  <a:pt x="12963" y="12313"/>
                  <a:pt x="12967" y="12325"/>
                  <a:pt x="12998" y="12353"/>
                </a:cubicBezTo>
                <a:cubicBezTo>
                  <a:pt x="12998" y="12244"/>
                  <a:pt x="12957" y="12178"/>
                  <a:pt x="12874" y="12105"/>
                </a:cubicBezTo>
                <a:cubicBezTo>
                  <a:pt x="12803" y="12058"/>
                  <a:pt x="12784" y="12041"/>
                  <a:pt x="12725" y="12055"/>
                </a:cubicBezTo>
                <a:cubicBezTo>
                  <a:pt x="12636" y="12244"/>
                  <a:pt x="12618" y="12476"/>
                  <a:pt x="12725" y="12675"/>
                </a:cubicBezTo>
                <a:cubicBezTo>
                  <a:pt x="12864" y="12933"/>
                  <a:pt x="13112" y="12731"/>
                  <a:pt x="13221" y="12576"/>
                </a:cubicBezTo>
                <a:cubicBezTo>
                  <a:pt x="13246" y="12526"/>
                  <a:pt x="13270" y="12477"/>
                  <a:pt x="13295" y="12427"/>
                </a:cubicBezTo>
              </a:path>
              <a:path w="4118" h="1166">
                <a:moveTo>
                  <a:pt x="13295" y="12204"/>
                </a:moveTo>
                <a:cubicBezTo>
                  <a:pt x="13343" y="12369"/>
                  <a:pt x="13368" y="12544"/>
                  <a:pt x="13444" y="12700"/>
                </a:cubicBezTo>
                <a:cubicBezTo>
                  <a:pt x="13496" y="12777"/>
                  <a:pt x="13516" y="12801"/>
                  <a:pt x="13593" y="12774"/>
                </a:cubicBezTo>
                <a:cubicBezTo>
                  <a:pt x="13729" y="12638"/>
                  <a:pt x="13733" y="12522"/>
                  <a:pt x="13742" y="12328"/>
                </a:cubicBezTo>
                <a:cubicBezTo>
                  <a:pt x="13742" y="12191"/>
                  <a:pt x="13787" y="12514"/>
                  <a:pt x="13791" y="12526"/>
                </a:cubicBezTo>
                <a:cubicBezTo>
                  <a:pt x="13858" y="12718"/>
                  <a:pt x="13916" y="12756"/>
                  <a:pt x="14089" y="12675"/>
                </a:cubicBezTo>
              </a:path>
              <a:path w="4118" h="1166">
                <a:moveTo>
                  <a:pt x="14064" y="11757"/>
                </a:moveTo>
                <a:cubicBezTo>
                  <a:pt x="14053" y="11746"/>
                  <a:pt x="14212" y="12147"/>
                  <a:pt x="14238" y="12254"/>
                </a:cubicBezTo>
                <a:cubicBezTo>
                  <a:pt x="14277" y="12410"/>
                  <a:pt x="14285" y="12695"/>
                  <a:pt x="14412" y="12824"/>
                </a:cubicBezTo>
                <a:cubicBezTo>
                  <a:pt x="14466" y="12851"/>
                  <a:pt x="14486" y="12856"/>
                  <a:pt x="14511" y="12799"/>
                </a:cubicBezTo>
              </a:path>
              <a:path w="4118" h="1166">
                <a:moveTo>
                  <a:pt x="14238" y="12328"/>
                </a:moveTo>
                <a:cubicBezTo>
                  <a:pt x="14513" y="12320"/>
                  <a:pt x="14812" y="12266"/>
                  <a:pt x="15081" y="12353"/>
                </a:cubicBezTo>
                <a:cubicBezTo>
                  <a:pt x="15183" y="12386"/>
                  <a:pt x="15156" y="12444"/>
                  <a:pt x="15156" y="12526"/>
                </a:cubicBezTo>
                <a:cubicBezTo>
                  <a:pt x="15156" y="12534"/>
                  <a:pt x="15156" y="12543"/>
                  <a:pt x="15156" y="12551"/>
                </a:cubicBezTo>
                <a:cubicBezTo>
                  <a:pt x="15177" y="12501"/>
                  <a:pt x="15193" y="12411"/>
                  <a:pt x="15180" y="12328"/>
                </a:cubicBezTo>
                <a:cubicBezTo>
                  <a:pt x="15165" y="12233"/>
                  <a:pt x="15128" y="12206"/>
                  <a:pt x="15056" y="12179"/>
                </a:cubicBezTo>
                <a:cubicBezTo>
                  <a:pt x="14914" y="12293"/>
                  <a:pt x="14771" y="12475"/>
                  <a:pt x="14908" y="12675"/>
                </a:cubicBezTo>
                <a:cubicBezTo>
                  <a:pt x="15059" y="12897"/>
                  <a:pt x="15510" y="12850"/>
                  <a:pt x="15726" y="12799"/>
                </a:cubicBezTo>
                <a:cubicBezTo>
                  <a:pt x="15783" y="12762"/>
                  <a:pt x="15786" y="12746"/>
                  <a:pt x="15825" y="1275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41880" y="5473800"/>
            <a:ext cx="1241280" cy="42048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2328" y="16024"/>
                </a:moveTo>
                <a:cubicBezTo>
                  <a:pt x="12428" y="16099"/>
                  <a:pt x="12353" y="15935"/>
                  <a:pt x="12328" y="15900"/>
                </a:cubicBezTo>
                <a:cubicBezTo>
                  <a:pt x="12224" y="15751"/>
                  <a:pt x="12051" y="15752"/>
                  <a:pt x="11931" y="15875"/>
                </a:cubicBezTo>
                <a:cubicBezTo>
                  <a:pt x="11791" y="16018"/>
                  <a:pt x="11799" y="16145"/>
                  <a:pt x="11807" y="16321"/>
                </a:cubicBezTo>
                <a:cubicBezTo>
                  <a:pt x="12000" y="16405"/>
                  <a:pt x="12061" y="16373"/>
                  <a:pt x="12179" y="16197"/>
                </a:cubicBezTo>
                <a:cubicBezTo>
                  <a:pt x="12266" y="16067"/>
                  <a:pt x="12254" y="16054"/>
                  <a:pt x="12254" y="15900"/>
                </a:cubicBezTo>
                <a:cubicBezTo>
                  <a:pt x="12280" y="16032"/>
                  <a:pt x="12386" y="16154"/>
                  <a:pt x="12502" y="16222"/>
                </a:cubicBezTo>
                <a:cubicBezTo>
                  <a:pt x="12650" y="16309"/>
                  <a:pt x="12670" y="16196"/>
                  <a:pt x="12725" y="16098"/>
                </a:cubicBezTo>
              </a:path>
              <a:path w="3449" h="1167">
                <a:moveTo>
                  <a:pt x="12923" y="15801"/>
                </a:moveTo>
                <a:cubicBezTo>
                  <a:pt x="13002" y="15930"/>
                  <a:pt x="12891" y="15698"/>
                  <a:pt x="12874" y="15677"/>
                </a:cubicBezTo>
                <a:cubicBezTo>
                  <a:pt x="12849" y="15652"/>
                  <a:pt x="12824" y="15627"/>
                  <a:pt x="12799" y="15602"/>
                </a:cubicBezTo>
                <a:cubicBezTo>
                  <a:pt x="12656" y="15650"/>
                  <a:pt x="12529" y="15815"/>
                  <a:pt x="12576" y="15999"/>
                </a:cubicBezTo>
                <a:cubicBezTo>
                  <a:pt x="12642" y="16260"/>
                  <a:pt x="12973" y="16171"/>
                  <a:pt x="13122" y="16049"/>
                </a:cubicBezTo>
                <a:cubicBezTo>
                  <a:pt x="13155" y="16008"/>
                  <a:pt x="13188" y="15966"/>
                  <a:pt x="13221" y="15925"/>
                </a:cubicBezTo>
              </a:path>
              <a:path w="3449" h="1167">
                <a:moveTo>
                  <a:pt x="13221" y="15677"/>
                </a:moveTo>
                <a:cubicBezTo>
                  <a:pt x="13221" y="15800"/>
                  <a:pt x="13220" y="15883"/>
                  <a:pt x="13271" y="15999"/>
                </a:cubicBezTo>
                <a:cubicBezTo>
                  <a:pt x="13331" y="16135"/>
                  <a:pt x="13487" y="16112"/>
                  <a:pt x="13568" y="15999"/>
                </a:cubicBezTo>
                <a:cubicBezTo>
                  <a:pt x="13617" y="15877"/>
                  <a:pt x="13633" y="15838"/>
                  <a:pt x="13643" y="15751"/>
                </a:cubicBezTo>
                <a:cubicBezTo>
                  <a:pt x="13623" y="15691"/>
                  <a:pt x="13624" y="15676"/>
                  <a:pt x="13593" y="15652"/>
                </a:cubicBezTo>
                <a:cubicBezTo>
                  <a:pt x="13609" y="15811"/>
                  <a:pt x="13630" y="16027"/>
                  <a:pt x="13841" y="16049"/>
                </a:cubicBezTo>
                <a:cubicBezTo>
                  <a:pt x="14102" y="16076"/>
                  <a:pt x="14186" y="15777"/>
                  <a:pt x="14163" y="15577"/>
                </a:cubicBezTo>
                <a:cubicBezTo>
                  <a:pt x="14145" y="15419"/>
                  <a:pt x="14003" y="15311"/>
                  <a:pt x="13915" y="15205"/>
                </a:cubicBezTo>
                <a:cubicBezTo>
                  <a:pt x="13932" y="15405"/>
                  <a:pt x="13964" y="15637"/>
                  <a:pt x="14039" y="15825"/>
                </a:cubicBezTo>
                <a:cubicBezTo>
                  <a:pt x="14042" y="15833"/>
                  <a:pt x="14188" y="16118"/>
                  <a:pt x="14188" y="16049"/>
                </a:cubicBezTo>
                <a:cubicBezTo>
                  <a:pt x="14180" y="16024"/>
                  <a:pt x="14171" y="15999"/>
                  <a:pt x="14163" y="15974"/>
                </a:cubicBezTo>
              </a:path>
              <a:path w="3449" h="1167">
                <a:moveTo>
                  <a:pt x="13791" y="15602"/>
                </a:moveTo>
                <a:cubicBezTo>
                  <a:pt x="14064" y="15578"/>
                  <a:pt x="14412" y="15520"/>
                  <a:pt x="14684" y="15577"/>
                </a:cubicBezTo>
                <a:cubicBezTo>
                  <a:pt x="14816" y="15605"/>
                  <a:pt x="14746" y="15714"/>
                  <a:pt x="14734" y="15751"/>
                </a:cubicBezTo>
                <a:cubicBezTo>
                  <a:pt x="14761" y="15651"/>
                  <a:pt x="14773" y="15543"/>
                  <a:pt x="14734" y="15429"/>
                </a:cubicBezTo>
                <a:cubicBezTo>
                  <a:pt x="14684" y="15354"/>
                  <a:pt x="14668" y="15329"/>
                  <a:pt x="14610" y="15304"/>
                </a:cubicBezTo>
                <a:cubicBezTo>
                  <a:pt x="14413" y="15409"/>
                  <a:pt x="14349" y="15580"/>
                  <a:pt x="14486" y="15801"/>
                </a:cubicBezTo>
                <a:cubicBezTo>
                  <a:pt x="14640" y="16049"/>
                  <a:pt x="14978" y="15985"/>
                  <a:pt x="15205" y="15900"/>
                </a:cubicBezTo>
                <a:cubicBezTo>
                  <a:pt x="15228" y="15877"/>
                  <a:pt x="15239" y="15869"/>
                  <a:pt x="15205" y="158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m of Angle Measures of a Tri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he angle measures of a triangle is 180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90°, 35°, 56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75°, 60°, 4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120°, 23°, 37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100°, 25°, 3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705200" y="1820880"/>
            <a:ext cx="1009800" cy="2036880"/>
          </a:xfrm>
          <a:custGeom>
            <a:avLst/>
            <a:gdLst/>
            <a:ahLst/>
            <a:rect l="l" t="t" r="r" b="b"/>
            <a:pathLst>
              <a:path w="2804" h="5657">
                <a:moveTo>
                  <a:pt x="13816" y="5333"/>
                </a:moveTo>
                <a:cubicBezTo>
                  <a:pt x="13845" y="5261"/>
                  <a:pt x="13791" y="5165"/>
                  <a:pt x="13717" y="5110"/>
                </a:cubicBezTo>
                <a:cubicBezTo>
                  <a:pt x="13531" y="4973"/>
                  <a:pt x="13411" y="5125"/>
                  <a:pt x="13370" y="5308"/>
                </a:cubicBezTo>
                <a:cubicBezTo>
                  <a:pt x="13323" y="5517"/>
                  <a:pt x="13367" y="5620"/>
                  <a:pt x="13444" y="5804"/>
                </a:cubicBezTo>
                <a:cubicBezTo>
                  <a:pt x="13595" y="5666"/>
                  <a:pt x="13676" y="5506"/>
                  <a:pt x="13742" y="5308"/>
                </a:cubicBezTo>
                <a:cubicBezTo>
                  <a:pt x="13742" y="5300"/>
                  <a:pt x="13742" y="5291"/>
                  <a:pt x="13742" y="5283"/>
                </a:cubicBezTo>
                <a:cubicBezTo>
                  <a:pt x="13853" y="5461"/>
                  <a:pt x="13878" y="5698"/>
                  <a:pt x="13915" y="5904"/>
                </a:cubicBezTo>
                <a:cubicBezTo>
                  <a:pt x="13937" y="6053"/>
                  <a:pt x="13939" y="6087"/>
                  <a:pt x="13965" y="6176"/>
                </a:cubicBezTo>
              </a:path>
              <a:path w="2804" h="5657">
                <a:moveTo>
                  <a:pt x="14412" y="5209"/>
                </a:moveTo>
                <a:cubicBezTo>
                  <a:pt x="14335" y="5458"/>
                  <a:pt x="14270" y="5720"/>
                  <a:pt x="14362" y="5978"/>
                </a:cubicBezTo>
                <a:cubicBezTo>
                  <a:pt x="14437" y="6078"/>
                  <a:pt x="14462" y="6111"/>
                  <a:pt x="14560" y="6102"/>
                </a:cubicBezTo>
                <a:cubicBezTo>
                  <a:pt x="14711" y="5942"/>
                  <a:pt x="14836" y="5710"/>
                  <a:pt x="14684" y="5482"/>
                </a:cubicBezTo>
                <a:cubicBezTo>
                  <a:pt x="14558" y="5293"/>
                  <a:pt x="14368" y="5521"/>
                  <a:pt x="14288" y="5581"/>
                </a:cubicBezTo>
              </a:path>
              <a:path w="2804" h="5657">
                <a:moveTo>
                  <a:pt x="13246" y="7069"/>
                </a:moveTo>
                <a:cubicBezTo>
                  <a:pt x="13279" y="7174"/>
                  <a:pt x="13309" y="7260"/>
                  <a:pt x="13320" y="7367"/>
                </a:cubicBezTo>
              </a:path>
              <a:path w="2804" h="5657">
                <a:moveTo>
                  <a:pt x="13072" y="7119"/>
                </a:moveTo>
                <a:cubicBezTo>
                  <a:pt x="13227" y="7056"/>
                  <a:pt x="13372" y="6998"/>
                  <a:pt x="13519" y="6921"/>
                </a:cubicBezTo>
              </a:path>
              <a:path w="2804" h="5657">
                <a:moveTo>
                  <a:pt x="13593" y="6747"/>
                </a:moveTo>
                <a:cubicBezTo>
                  <a:pt x="13646" y="6650"/>
                  <a:pt x="13734" y="6566"/>
                  <a:pt x="13866" y="6623"/>
                </a:cubicBezTo>
                <a:cubicBezTo>
                  <a:pt x="13995" y="6679"/>
                  <a:pt x="13926" y="6841"/>
                  <a:pt x="13891" y="6921"/>
                </a:cubicBezTo>
                <a:cubicBezTo>
                  <a:pt x="13871" y="6961"/>
                  <a:pt x="13872" y="6977"/>
                  <a:pt x="13841" y="6970"/>
                </a:cubicBezTo>
                <a:cubicBezTo>
                  <a:pt x="13854" y="6881"/>
                  <a:pt x="13963" y="6807"/>
                  <a:pt x="14064" y="6821"/>
                </a:cubicBezTo>
                <a:cubicBezTo>
                  <a:pt x="14221" y="6843"/>
                  <a:pt x="14279" y="7092"/>
                  <a:pt x="14163" y="7193"/>
                </a:cubicBezTo>
                <a:cubicBezTo>
                  <a:pt x="14033" y="7306"/>
                  <a:pt x="13865" y="7282"/>
                  <a:pt x="13767" y="7193"/>
                </a:cubicBezTo>
              </a:path>
              <a:path w="2804" h="5657">
                <a:moveTo>
                  <a:pt x="14461" y="6524"/>
                </a:moveTo>
                <a:cubicBezTo>
                  <a:pt x="14461" y="6570"/>
                  <a:pt x="14460" y="6747"/>
                  <a:pt x="14511" y="6772"/>
                </a:cubicBezTo>
                <a:cubicBezTo>
                  <a:pt x="14572" y="6803"/>
                  <a:pt x="14738" y="6792"/>
                  <a:pt x="14808" y="6796"/>
                </a:cubicBezTo>
                <a:cubicBezTo>
                  <a:pt x="14839" y="6890"/>
                  <a:pt x="14829" y="7046"/>
                  <a:pt x="14660" y="7020"/>
                </a:cubicBezTo>
                <a:cubicBezTo>
                  <a:pt x="14610" y="6995"/>
                  <a:pt x="14561" y="6970"/>
                  <a:pt x="14511" y="6945"/>
                </a:cubicBezTo>
              </a:path>
              <a:path w="2804" h="5657">
                <a:moveTo>
                  <a:pt x="14436" y="6573"/>
                </a:moveTo>
                <a:cubicBezTo>
                  <a:pt x="14582" y="6521"/>
                  <a:pt x="14703" y="6479"/>
                  <a:pt x="14858" y="6474"/>
                </a:cubicBezTo>
                <a:cubicBezTo>
                  <a:pt x="14926" y="6474"/>
                  <a:pt x="14953" y="6468"/>
                  <a:pt x="14908" y="6524"/>
                </a:cubicBezTo>
              </a:path>
              <a:path w="2804" h="5657">
                <a:moveTo>
                  <a:pt x="13494" y="7541"/>
                </a:moveTo>
                <a:cubicBezTo>
                  <a:pt x="13666" y="7495"/>
                  <a:pt x="13843" y="7441"/>
                  <a:pt x="14015" y="7392"/>
                </a:cubicBezTo>
                <a:cubicBezTo>
                  <a:pt x="14310" y="7308"/>
                  <a:pt x="14576" y="7227"/>
                  <a:pt x="14883" y="7218"/>
                </a:cubicBezTo>
                <a:cubicBezTo>
                  <a:pt x="14924" y="7218"/>
                  <a:pt x="14932" y="7218"/>
                  <a:pt x="14957" y="7218"/>
                </a:cubicBezTo>
              </a:path>
              <a:path w="2804" h="5657">
                <a:moveTo>
                  <a:pt x="15230" y="7565"/>
                </a:moveTo>
                <a:cubicBezTo>
                  <a:pt x="15171" y="7580"/>
                  <a:pt x="15079" y="7618"/>
                  <a:pt x="15032" y="7665"/>
                </a:cubicBezTo>
                <a:cubicBezTo>
                  <a:pt x="14963" y="7734"/>
                  <a:pt x="14935" y="7843"/>
                  <a:pt x="14957" y="7938"/>
                </a:cubicBezTo>
                <a:cubicBezTo>
                  <a:pt x="14967" y="7982"/>
                  <a:pt x="14997" y="7998"/>
                  <a:pt x="15007" y="8037"/>
                </a:cubicBezTo>
                <a:cubicBezTo>
                  <a:pt x="15097" y="7980"/>
                  <a:pt x="15188" y="7872"/>
                  <a:pt x="15304" y="7863"/>
                </a:cubicBezTo>
                <a:cubicBezTo>
                  <a:pt x="15492" y="7848"/>
                  <a:pt x="15535" y="8030"/>
                  <a:pt x="15453" y="8161"/>
                </a:cubicBezTo>
                <a:cubicBezTo>
                  <a:pt x="15346" y="8333"/>
                  <a:pt x="15128" y="8332"/>
                  <a:pt x="14957" y="8285"/>
                </a:cubicBezTo>
                <a:cubicBezTo>
                  <a:pt x="14843" y="8239"/>
                  <a:pt x="14812" y="8225"/>
                  <a:pt x="14734" y="8210"/>
                </a:cubicBezTo>
              </a:path>
              <a:path w="2804" h="5657">
                <a:moveTo>
                  <a:pt x="13643" y="8012"/>
                </a:moveTo>
                <a:cubicBezTo>
                  <a:pt x="13643" y="7989"/>
                  <a:pt x="13643" y="7872"/>
                  <a:pt x="13643" y="7987"/>
                </a:cubicBezTo>
                <a:cubicBezTo>
                  <a:pt x="13643" y="8221"/>
                  <a:pt x="13628" y="8450"/>
                  <a:pt x="13618" y="8682"/>
                </a:cubicBezTo>
                <a:cubicBezTo>
                  <a:pt x="13616" y="8740"/>
                  <a:pt x="13632" y="8615"/>
                  <a:pt x="13643" y="8558"/>
                </a:cubicBezTo>
              </a:path>
              <a:path w="2804" h="5657">
                <a:moveTo>
                  <a:pt x="14039" y="8086"/>
                </a:moveTo>
                <a:cubicBezTo>
                  <a:pt x="14096" y="8068"/>
                  <a:pt x="14140" y="7987"/>
                  <a:pt x="14238" y="7987"/>
                </a:cubicBezTo>
                <a:cubicBezTo>
                  <a:pt x="14400" y="7987"/>
                  <a:pt x="14547" y="8175"/>
                  <a:pt x="14486" y="8334"/>
                </a:cubicBezTo>
                <a:cubicBezTo>
                  <a:pt x="14427" y="8489"/>
                  <a:pt x="14293" y="8527"/>
                  <a:pt x="14163" y="8558"/>
                </a:cubicBezTo>
                <a:cubicBezTo>
                  <a:pt x="14105" y="8439"/>
                  <a:pt x="14074" y="8338"/>
                  <a:pt x="14238" y="8285"/>
                </a:cubicBezTo>
                <a:cubicBezTo>
                  <a:pt x="14363" y="8245"/>
                  <a:pt x="14471" y="8319"/>
                  <a:pt x="14511" y="8409"/>
                </a:cubicBezTo>
                <a:cubicBezTo>
                  <a:pt x="14536" y="8458"/>
                  <a:pt x="14544" y="8475"/>
                  <a:pt x="14486" y="8483"/>
                </a:cubicBezTo>
              </a:path>
              <a:path w="2804" h="5657">
                <a:moveTo>
                  <a:pt x="13618" y="8905"/>
                </a:moveTo>
                <a:cubicBezTo>
                  <a:pt x="13694" y="9015"/>
                  <a:pt x="13813" y="9131"/>
                  <a:pt x="13791" y="9277"/>
                </a:cubicBezTo>
                <a:cubicBezTo>
                  <a:pt x="13783" y="9285"/>
                  <a:pt x="13775" y="9294"/>
                  <a:pt x="13767" y="9302"/>
                </a:cubicBezTo>
              </a:path>
              <a:path w="2804" h="5657">
                <a:moveTo>
                  <a:pt x="13568" y="9079"/>
                </a:moveTo>
                <a:cubicBezTo>
                  <a:pt x="13759" y="9053"/>
                  <a:pt x="13934" y="8980"/>
                  <a:pt x="14114" y="8905"/>
                </a:cubicBezTo>
                <a:cubicBezTo>
                  <a:pt x="14172" y="8880"/>
                  <a:pt x="14230" y="8855"/>
                  <a:pt x="14288" y="8830"/>
                </a:cubicBezTo>
              </a:path>
              <a:path w="2804" h="5657">
                <a:moveTo>
                  <a:pt x="14684" y="8607"/>
                </a:moveTo>
                <a:cubicBezTo>
                  <a:pt x="14645" y="8620"/>
                  <a:pt x="14536" y="8659"/>
                  <a:pt x="14511" y="8706"/>
                </a:cubicBezTo>
                <a:cubicBezTo>
                  <a:pt x="14470" y="8784"/>
                  <a:pt x="14486" y="8831"/>
                  <a:pt x="14511" y="8905"/>
                </a:cubicBezTo>
                <a:cubicBezTo>
                  <a:pt x="14639" y="8895"/>
                  <a:pt x="14805" y="8840"/>
                  <a:pt x="14908" y="8954"/>
                </a:cubicBezTo>
                <a:cubicBezTo>
                  <a:pt x="15099" y="9165"/>
                  <a:pt x="14696" y="9067"/>
                  <a:pt x="14660" y="9054"/>
                </a:cubicBezTo>
              </a:path>
              <a:path w="2804" h="5657">
                <a:moveTo>
                  <a:pt x="14660" y="8607"/>
                </a:moveTo>
                <a:cubicBezTo>
                  <a:pt x="14801" y="8574"/>
                  <a:pt x="14951" y="8545"/>
                  <a:pt x="15081" y="8483"/>
                </a:cubicBezTo>
                <a:cubicBezTo>
                  <a:pt x="15157" y="8446"/>
                  <a:pt x="15162" y="8440"/>
                  <a:pt x="15180" y="8434"/>
                </a:cubicBezTo>
                <a:cubicBezTo>
                  <a:pt x="15171" y="8531"/>
                  <a:pt x="15129" y="8634"/>
                  <a:pt x="15131" y="8731"/>
                </a:cubicBezTo>
                <a:cubicBezTo>
                  <a:pt x="15134" y="8897"/>
                  <a:pt x="15159" y="8973"/>
                  <a:pt x="15255" y="9079"/>
                </a:cubicBezTo>
                <a:cubicBezTo>
                  <a:pt x="15443" y="9038"/>
                  <a:pt x="15508" y="8950"/>
                  <a:pt x="15602" y="8781"/>
                </a:cubicBezTo>
                <a:cubicBezTo>
                  <a:pt x="15610" y="8764"/>
                  <a:pt x="15619" y="8748"/>
                  <a:pt x="15627" y="8731"/>
                </a:cubicBezTo>
                <a:cubicBezTo>
                  <a:pt x="15475" y="8782"/>
                  <a:pt x="15464" y="8874"/>
                  <a:pt x="15453" y="9029"/>
                </a:cubicBezTo>
                <a:cubicBezTo>
                  <a:pt x="15453" y="9070"/>
                  <a:pt x="15462" y="9087"/>
                  <a:pt x="15429" y="9079"/>
                </a:cubicBezTo>
              </a:path>
              <a:path w="2804" h="5657">
                <a:moveTo>
                  <a:pt x="14163" y="9475"/>
                </a:moveTo>
                <a:cubicBezTo>
                  <a:pt x="14372" y="9382"/>
                  <a:pt x="14589" y="9315"/>
                  <a:pt x="14808" y="9252"/>
                </a:cubicBezTo>
                <a:cubicBezTo>
                  <a:pt x="15152" y="9153"/>
                  <a:pt x="15448" y="9092"/>
                  <a:pt x="15801" y="9128"/>
                </a:cubicBezTo>
                <a:cubicBezTo>
                  <a:pt x="15817" y="9128"/>
                  <a:pt x="15834" y="9128"/>
                  <a:pt x="15850" y="9128"/>
                </a:cubicBezTo>
              </a:path>
              <a:path w="2804" h="5657">
                <a:moveTo>
                  <a:pt x="15726" y="9699"/>
                </a:moveTo>
                <a:cubicBezTo>
                  <a:pt x="15700" y="9664"/>
                  <a:pt x="15701" y="9668"/>
                  <a:pt x="15701" y="9624"/>
                </a:cubicBezTo>
                <a:cubicBezTo>
                  <a:pt x="15726" y="9796"/>
                  <a:pt x="15813" y="9947"/>
                  <a:pt x="15850" y="10120"/>
                </a:cubicBezTo>
                <a:cubicBezTo>
                  <a:pt x="15872" y="10226"/>
                  <a:pt x="15875" y="10501"/>
                  <a:pt x="15875" y="10393"/>
                </a:cubicBezTo>
              </a:path>
              <a:path w="2804" h="5657">
                <a:moveTo>
                  <a:pt x="14163" y="7516"/>
                </a:moveTo>
                <a:cubicBezTo>
                  <a:pt x="14163" y="7483"/>
                  <a:pt x="14163" y="7450"/>
                  <a:pt x="14163" y="7417"/>
                </a:cubicBezTo>
                <a:cubicBezTo>
                  <a:pt x="14209" y="7542"/>
                  <a:pt x="14239" y="7680"/>
                  <a:pt x="14263" y="7813"/>
                </a:cubicBezTo>
                <a:cubicBezTo>
                  <a:pt x="14263" y="7838"/>
                  <a:pt x="14263" y="7846"/>
                  <a:pt x="14288" y="7838"/>
                </a:cubicBezTo>
              </a:path>
              <a:path w="2804" h="5657">
                <a:moveTo>
                  <a:pt x="15156" y="9897"/>
                </a:moveTo>
                <a:cubicBezTo>
                  <a:pt x="15168" y="9836"/>
                  <a:pt x="15180" y="9789"/>
                  <a:pt x="15180" y="9723"/>
                </a:cubicBezTo>
                <a:cubicBezTo>
                  <a:pt x="15044" y="9758"/>
                  <a:pt x="14927" y="9884"/>
                  <a:pt x="14908" y="10046"/>
                </a:cubicBezTo>
                <a:cubicBezTo>
                  <a:pt x="14890" y="10199"/>
                  <a:pt x="15180" y="10147"/>
                  <a:pt x="15255" y="10195"/>
                </a:cubicBezTo>
                <a:cubicBezTo>
                  <a:pt x="15271" y="10220"/>
                  <a:pt x="15288" y="10244"/>
                  <a:pt x="15304" y="10269"/>
                </a:cubicBezTo>
                <a:cubicBezTo>
                  <a:pt x="15243" y="10412"/>
                  <a:pt x="15262" y="10397"/>
                  <a:pt x="15106" y="10418"/>
                </a:cubicBezTo>
                <a:cubicBezTo>
                  <a:pt x="15027" y="10235"/>
                  <a:pt x="15089" y="10072"/>
                  <a:pt x="15131" y="9872"/>
                </a:cubicBezTo>
                <a:cubicBezTo>
                  <a:pt x="15155" y="9777"/>
                  <a:pt x="15167" y="9742"/>
                  <a:pt x="15081" y="9823"/>
                </a:cubicBezTo>
              </a:path>
              <a:path w="2804" h="5657">
                <a:moveTo>
                  <a:pt x="14288" y="10096"/>
                </a:moveTo>
                <a:cubicBezTo>
                  <a:pt x="14337" y="10243"/>
                  <a:pt x="14419" y="10384"/>
                  <a:pt x="14461" y="10542"/>
                </a:cubicBezTo>
                <a:cubicBezTo>
                  <a:pt x="14481" y="10641"/>
                  <a:pt x="14489" y="10657"/>
                  <a:pt x="14486" y="1071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2027160"/>
            <a:ext cx="509760" cy="419040"/>
          </a:xfrm>
          <a:custGeom>
            <a:avLst/>
            <a:gdLst/>
            <a:ahLst/>
            <a:rect l="l" t="t" r="r" b="b"/>
            <a:pathLst>
              <a:path w="1415" h="1166">
                <a:moveTo>
                  <a:pt x="17190" y="5804"/>
                </a:moveTo>
                <a:cubicBezTo>
                  <a:pt x="17150" y="5784"/>
                  <a:pt x="17259" y="6264"/>
                  <a:pt x="17264" y="6325"/>
                </a:cubicBezTo>
                <a:cubicBezTo>
                  <a:pt x="17275" y="6477"/>
                  <a:pt x="17273" y="6652"/>
                  <a:pt x="17239" y="6796"/>
                </a:cubicBezTo>
              </a:path>
              <a:path w="1415" h="1166">
                <a:moveTo>
                  <a:pt x="17115" y="5779"/>
                </a:moveTo>
                <a:cubicBezTo>
                  <a:pt x="17332" y="5903"/>
                  <a:pt x="17473" y="6131"/>
                  <a:pt x="17636" y="6325"/>
                </a:cubicBezTo>
                <a:cubicBezTo>
                  <a:pt x="17724" y="6430"/>
                  <a:pt x="17812" y="6526"/>
                  <a:pt x="17909" y="6623"/>
                </a:cubicBezTo>
                <a:cubicBezTo>
                  <a:pt x="17888" y="6455"/>
                  <a:pt x="17845" y="6301"/>
                  <a:pt x="17835" y="6127"/>
                </a:cubicBezTo>
                <a:cubicBezTo>
                  <a:pt x="17825" y="5956"/>
                  <a:pt x="17850" y="5799"/>
                  <a:pt x="17859" y="5631"/>
                </a:cubicBezTo>
              </a:path>
              <a:path w="1415" h="1166">
                <a:moveTo>
                  <a:pt x="18281" y="6300"/>
                </a:moveTo>
                <a:cubicBezTo>
                  <a:pt x="18256" y="6268"/>
                  <a:pt x="18248" y="6240"/>
                  <a:pt x="18207" y="6226"/>
                </a:cubicBezTo>
                <a:cubicBezTo>
                  <a:pt x="18199" y="6226"/>
                  <a:pt x="18190" y="6226"/>
                  <a:pt x="18182" y="6226"/>
                </a:cubicBezTo>
                <a:cubicBezTo>
                  <a:pt x="18128" y="6280"/>
                  <a:pt x="18125" y="6505"/>
                  <a:pt x="18132" y="6598"/>
                </a:cubicBezTo>
                <a:cubicBezTo>
                  <a:pt x="18155" y="6710"/>
                  <a:pt x="18153" y="6744"/>
                  <a:pt x="18231" y="6772"/>
                </a:cubicBezTo>
                <a:cubicBezTo>
                  <a:pt x="18386" y="6771"/>
                  <a:pt x="18489" y="6642"/>
                  <a:pt x="18529" y="6474"/>
                </a:cubicBezTo>
                <a:cubicBezTo>
                  <a:pt x="18570" y="6305"/>
                  <a:pt x="18360" y="6227"/>
                  <a:pt x="18231" y="6300"/>
                </a:cubicBezTo>
                <a:cubicBezTo>
                  <a:pt x="18136" y="6396"/>
                  <a:pt x="18106" y="6425"/>
                  <a:pt x="18058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68840" y="3357720"/>
            <a:ext cx="160200" cy="142560"/>
          </a:xfrm>
          <a:custGeom>
            <a:avLst/>
            <a:gdLst/>
            <a:ahLst/>
            <a:rect l="l" t="t" r="r" b="b"/>
            <a:pathLst>
              <a:path w="447" h="397">
                <a:moveTo>
                  <a:pt x="10468" y="9327"/>
                </a:moveTo>
                <a:cubicBezTo>
                  <a:pt x="10554" y="9344"/>
                  <a:pt x="10623" y="9351"/>
                  <a:pt x="10716" y="9351"/>
                </a:cubicBezTo>
                <a:cubicBezTo>
                  <a:pt x="10782" y="9351"/>
                  <a:pt x="10799" y="9351"/>
                  <a:pt x="10840" y="9351"/>
                </a:cubicBezTo>
              </a:path>
              <a:path w="447" h="397">
                <a:moveTo>
                  <a:pt x="10517" y="9723"/>
                </a:moveTo>
                <a:cubicBezTo>
                  <a:pt x="10613" y="9675"/>
                  <a:pt x="10708" y="9607"/>
                  <a:pt x="10815" y="9599"/>
                </a:cubicBezTo>
                <a:cubicBezTo>
                  <a:pt x="10856" y="9599"/>
                  <a:pt x="10881" y="9599"/>
                  <a:pt x="10914" y="95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6880" y="3224160"/>
            <a:ext cx="47448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11410" y="9128"/>
                </a:moveTo>
                <a:cubicBezTo>
                  <a:pt x="11436" y="9260"/>
                  <a:pt x="11487" y="9386"/>
                  <a:pt x="11509" y="9525"/>
                </a:cubicBezTo>
                <a:cubicBezTo>
                  <a:pt x="11527" y="9640"/>
                  <a:pt x="11534" y="9840"/>
                  <a:pt x="11534" y="9723"/>
                </a:cubicBezTo>
              </a:path>
              <a:path w="1316" h="845">
                <a:moveTo>
                  <a:pt x="11881" y="8954"/>
                </a:moveTo>
                <a:cubicBezTo>
                  <a:pt x="11832" y="9053"/>
                  <a:pt x="11718" y="9133"/>
                  <a:pt x="11683" y="9252"/>
                </a:cubicBezTo>
                <a:cubicBezTo>
                  <a:pt x="11638" y="9408"/>
                  <a:pt x="11810" y="9393"/>
                  <a:pt x="11906" y="9426"/>
                </a:cubicBezTo>
                <a:cubicBezTo>
                  <a:pt x="12051" y="9475"/>
                  <a:pt x="12187" y="9565"/>
                  <a:pt x="12055" y="9723"/>
                </a:cubicBezTo>
                <a:cubicBezTo>
                  <a:pt x="12030" y="9740"/>
                  <a:pt x="12006" y="9756"/>
                  <a:pt x="11981" y="9773"/>
                </a:cubicBezTo>
                <a:cubicBezTo>
                  <a:pt x="11892" y="9610"/>
                  <a:pt x="11941" y="9411"/>
                  <a:pt x="12005" y="9227"/>
                </a:cubicBezTo>
                <a:cubicBezTo>
                  <a:pt x="12039" y="9128"/>
                  <a:pt x="12038" y="9100"/>
                  <a:pt x="12080" y="9128"/>
                </a:cubicBezTo>
              </a:path>
              <a:path w="1316" h="845">
                <a:moveTo>
                  <a:pt x="12427" y="9178"/>
                </a:moveTo>
                <a:cubicBezTo>
                  <a:pt x="12406" y="9306"/>
                  <a:pt x="12367" y="9415"/>
                  <a:pt x="12378" y="9550"/>
                </a:cubicBezTo>
                <a:cubicBezTo>
                  <a:pt x="12390" y="9696"/>
                  <a:pt x="12446" y="9719"/>
                  <a:pt x="12551" y="9798"/>
                </a:cubicBezTo>
                <a:cubicBezTo>
                  <a:pt x="12697" y="9665"/>
                  <a:pt x="12758" y="9486"/>
                  <a:pt x="12725" y="9277"/>
                </a:cubicBezTo>
                <a:cubicBezTo>
                  <a:pt x="12697" y="9098"/>
                  <a:pt x="12496" y="9152"/>
                  <a:pt x="12378" y="917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0960" y="3606840"/>
            <a:ext cx="982800" cy="349200"/>
          </a:xfrm>
          <a:custGeom>
            <a:avLst/>
            <a:gdLst/>
            <a:ahLst/>
            <a:rect l="l" t="t" r="r" b="b"/>
            <a:pathLst>
              <a:path w="2729" h="968">
                <a:moveTo>
                  <a:pt x="11435" y="10344"/>
                </a:moveTo>
                <a:cubicBezTo>
                  <a:pt x="11373" y="10344"/>
                  <a:pt x="11371" y="10305"/>
                  <a:pt x="11311" y="10294"/>
                </a:cubicBezTo>
                <a:cubicBezTo>
                  <a:pt x="11233" y="10280"/>
                  <a:pt x="11142" y="10285"/>
                  <a:pt x="11112" y="10368"/>
                </a:cubicBezTo>
                <a:cubicBezTo>
                  <a:pt x="11068" y="10489"/>
                  <a:pt x="11062" y="10716"/>
                  <a:pt x="11162" y="10815"/>
                </a:cubicBezTo>
                <a:cubicBezTo>
                  <a:pt x="11179" y="10815"/>
                  <a:pt x="11195" y="10815"/>
                  <a:pt x="11212" y="10815"/>
                </a:cubicBezTo>
                <a:cubicBezTo>
                  <a:pt x="11377" y="10704"/>
                  <a:pt x="11380" y="10593"/>
                  <a:pt x="11385" y="10393"/>
                </a:cubicBezTo>
                <a:cubicBezTo>
                  <a:pt x="11389" y="10239"/>
                  <a:pt x="11433" y="10465"/>
                  <a:pt x="11460" y="10542"/>
                </a:cubicBezTo>
                <a:cubicBezTo>
                  <a:pt x="11481" y="10603"/>
                  <a:pt x="11532" y="10916"/>
                  <a:pt x="11559" y="10889"/>
                </a:cubicBezTo>
              </a:path>
              <a:path w="2729" h="968">
                <a:moveTo>
                  <a:pt x="11807" y="10418"/>
                </a:moveTo>
                <a:cubicBezTo>
                  <a:pt x="11862" y="10473"/>
                  <a:pt x="11853" y="10494"/>
                  <a:pt x="11906" y="10468"/>
                </a:cubicBezTo>
                <a:cubicBezTo>
                  <a:pt x="11868" y="10408"/>
                  <a:pt x="11842" y="10370"/>
                  <a:pt x="11782" y="10344"/>
                </a:cubicBezTo>
                <a:cubicBezTo>
                  <a:pt x="11742" y="10324"/>
                  <a:pt x="11736" y="10315"/>
                  <a:pt x="11708" y="10319"/>
                </a:cubicBezTo>
                <a:cubicBezTo>
                  <a:pt x="11634" y="10448"/>
                  <a:pt x="11658" y="10571"/>
                  <a:pt x="11683" y="10716"/>
                </a:cubicBezTo>
                <a:cubicBezTo>
                  <a:pt x="11709" y="10867"/>
                  <a:pt x="11808" y="10969"/>
                  <a:pt x="11956" y="10864"/>
                </a:cubicBezTo>
                <a:cubicBezTo>
                  <a:pt x="12026" y="10794"/>
                  <a:pt x="12048" y="10773"/>
                  <a:pt x="12080" y="10716"/>
                </a:cubicBezTo>
              </a:path>
              <a:path w="2729" h="968">
                <a:moveTo>
                  <a:pt x="12080" y="10443"/>
                </a:moveTo>
                <a:cubicBezTo>
                  <a:pt x="12080" y="10531"/>
                  <a:pt x="12105" y="10632"/>
                  <a:pt x="12129" y="10716"/>
                </a:cubicBezTo>
                <a:cubicBezTo>
                  <a:pt x="12166" y="10844"/>
                  <a:pt x="12196" y="10896"/>
                  <a:pt x="12278" y="10988"/>
                </a:cubicBezTo>
                <a:cubicBezTo>
                  <a:pt x="12416" y="10898"/>
                  <a:pt x="12438" y="10809"/>
                  <a:pt x="12452" y="10641"/>
                </a:cubicBezTo>
                <a:cubicBezTo>
                  <a:pt x="12452" y="10540"/>
                  <a:pt x="12462" y="10519"/>
                  <a:pt x="12427" y="10468"/>
                </a:cubicBezTo>
                <a:cubicBezTo>
                  <a:pt x="12461" y="10584"/>
                  <a:pt x="12534" y="10711"/>
                  <a:pt x="12601" y="10815"/>
                </a:cubicBezTo>
                <a:cubicBezTo>
                  <a:pt x="12609" y="10823"/>
                  <a:pt x="12618" y="10832"/>
                  <a:pt x="12626" y="10840"/>
                </a:cubicBezTo>
              </a:path>
              <a:path w="2729" h="968">
                <a:moveTo>
                  <a:pt x="12576" y="10021"/>
                </a:moveTo>
                <a:cubicBezTo>
                  <a:pt x="12723" y="10213"/>
                  <a:pt x="12828" y="10393"/>
                  <a:pt x="12923" y="10616"/>
                </a:cubicBezTo>
                <a:cubicBezTo>
                  <a:pt x="12954" y="10689"/>
                  <a:pt x="13014" y="10894"/>
                  <a:pt x="12973" y="10691"/>
                </a:cubicBezTo>
              </a:path>
              <a:path w="2729" h="968">
                <a:moveTo>
                  <a:pt x="12750" y="10418"/>
                </a:moveTo>
                <a:cubicBezTo>
                  <a:pt x="12893" y="10346"/>
                  <a:pt x="12961" y="10316"/>
                  <a:pt x="13122" y="10344"/>
                </a:cubicBezTo>
                <a:cubicBezTo>
                  <a:pt x="13240" y="10365"/>
                  <a:pt x="13294" y="10461"/>
                  <a:pt x="13395" y="10492"/>
                </a:cubicBezTo>
                <a:cubicBezTo>
                  <a:pt x="13415" y="10498"/>
                  <a:pt x="13448" y="10492"/>
                  <a:pt x="13469" y="10492"/>
                </a:cubicBezTo>
                <a:cubicBezTo>
                  <a:pt x="13469" y="10412"/>
                  <a:pt x="13484" y="10309"/>
                  <a:pt x="13444" y="10269"/>
                </a:cubicBezTo>
                <a:cubicBezTo>
                  <a:pt x="13357" y="10288"/>
                  <a:pt x="13263" y="10316"/>
                  <a:pt x="13246" y="10418"/>
                </a:cubicBezTo>
                <a:cubicBezTo>
                  <a:pt x="13216" y="10595"/>
                  <a:pt x="13345" y="10744"/>
                  <a:pt x="13494" y="10815"/>
                </a:cubicBezTo>
                <a:cubicBezTo>
                  <a:pt x="13598" y="10865"/>
                  <a:pt x="13692" y="10831"/>
                  <a:pt x="13791" y="10815"/>
                </a:cubicBezTo>
                <a:cubicBezTo>
                  <a:pt x="13816" y="10815"/>
                  <a:pt x="13824" y="10815"/>
                  <a:pt x="13816" y="1079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8080" y="4429080"/>
            <a:ext cx="885960" cy="30312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12129" y="12650"/>
                </a:moveTo>
                <a:cubicBezTo>
                  <a:pt x="12105" y="12650"/>
                  <a:pt x="12096" y="12650"/>
                  <a:pt x="12080" y="12650"/>
                </a:cubicBezTo>
                <a:cubicBezTo>
                  <a:pt x="12138" y="12608"/>
                  <a:pt x="12233" y="12635"/>
                  <a:pt x="12303" y="12650"/>
                </a:cubicBezTo>
                <a:cubicBezTo>
                  <a:pt x="12351" y="12660"/>
                  <a:pt x="12416" y="12667"/>
                  <a:pt x="12427" y="12700"/>
                </a:cubicBezTo>
              </a:path>
              <a:path w="2457" h="844">
                <a:moveTo>
                  <a:pt x="12105" y="12799"/>
                </a:moveTo>
                <a:cubicBezTo>
                  <a:pt x="12217" y="12825"/>
                  <a:pt x="12345" y="12794"/>
                  <a:pt x="12452" y="12824"/>
                </a:cubicBezTo>
                <a:cubicBezTo>
                  <a:pt x="12488" y="12834"/>
                  <a:pt x="12482" y="12849"/>
                  <a:pt x="12526" y="12849"/>
                </a:cubicBezTo>
              </a:path>
              <a:path w="2457" h="844">
                <a:moveTo>
                  <a:pt x="12948" y="12402"/>
                </a:moveTo>
                <a:cubicBezTo>
                  <a:pt x="12948" y="12554"/>
                  <a:pt x="12988" y="12698"/>
                  <a:pt x="12998" y="12849"/>
                </a:cubicBezTo>
                <a:cubicBezTo>
                  <a:pt x="13005" y="12956"/>
                  <a:pt x="12969" y="13225"/>
                  <a:pt x="12998" y="13122"/>
                </a:cubicBezTo>
                <a:cubicBezTo>
                  <a:pt x="13006" y="13097"/>
                  <a:pt x="13014" y="13072"/>
                  <a:pt x="13022" y="13047"/>
                </a:cubicBezTo>
              </a:path>
              <a:path w="2457" h="844">
                <a:moveTo>
                  <a:pt x="13667" y="12402"/>
                </a:moveTo>
                <a:cubicBezTo>
                  <a:pt x="13667" y="12325"/>
                  <a:pt x="13681" y="12346"/>
                  <a:pt x="13618" y="12303"/>
                </a:cubicBezTo>
                <a:cubicBezTo>
                  <a:pt x="13512" y="12362"/>
                  <a:pt x="13458" y="12420"/>
                  <a:pt x="13395" y="12526"/>
                </a:cubicBezTo>
                <a:cubicBezTo>
                  <a:pt x="13367" y="12581"/>
                  <a:pt x="13359" y="12604"/>
                  <a:pt x="13370" y="12650"/>
                </a:cubicBezTo>
                <a:cubicBezTo>
                  <a:pt x="13485" y="12716"/>
                  <a:pt x="13627" y="12697"/>
                  <a:pt x="13742" y="12774"/>
                </a:cubicBezTo>
                <a:cubicBezTo>
                  <a:pt x="13843" y="12842"/>
                  <a:pt x="13835" y="12902"/>
                  <a:pt x="13816" y="12998"/>
                </a:cubicBezTo>
                <a:cubicBezTo>
                  <a:pt x="13705" y="13010"/>
                  <a:pt x="13628" y="13051"/>
                  <a:pt x="13568" y="12923"/>
                </a:cubicBezTo>
                <a:cubicBezTo>
                  <a:pt x="13518" y="12816"/>
                  <a:pt x="13570" y="12616"/>
                  <a:pt x="13643" y="12526"/>
                </a:cubicBezTo>
                <a:cubicBezTo>
                  <a:pt x="13679" y="12482"/>
                  <a:pt x="13735" y="12494"/>
                  <a:pt x="13742" y="12427"/>
                </a:cubicBezTo>
                <a:cubicBezTo>
                  <a:pt x="13742" y="12392"/>
                  <a:pt x="13737" y="12393"/>
                  <a:pt x="13717" y="12452"/>
                </a:cubicBezTo>
              </a:path>
              <a:path w="2457" h="844">
                <a:moveTo>
                  <a:pt x="14288" y="12452"/>
                </a:moveTo>
                <a:cubicBezTo>
                  <a:pt x="14279" y="12426"/>
                  <a:pt x="14225" y="12402"/>
                  <a:pt x="14188" y="12427"/>
                </a:cubicBezTo>
                <a:cubicBezTo>
                  <a:pt x="14132" y="12465"/>
                  <a:pt x="14097" y="12609"/>
                  <a:pt x="14089" y="12675"/>
                </a:cubicBezTo>
                <a:cubicBezTo>
                  <a:pt x="14074" y="12793"/>
                  <a:pt x="14075" y="12955"/>
                  <a:pt x="14163" y="13047"/>
                </a:cubicBezTo>
                <a:cubicBezTo>
                  <a:pt x="14266" y="13155"/>
                  <a:pt x="14449" y="13023"/>
                  <a:pt x="14511" y="12923"/>
                </a:cubicBezTo>
                <a:cubicBezTo>
                  <a:pt x="14566" y="12834"/>
                  <a:pt x="14559" y="12591"/>
                  <a:pt x="14461" y="12526"/>
                </a:cubicBezTo>
                <a:cubicBezTo>
                  <a:pt x="14405" y="12489"/>
                  <a:pt x="14218" y="12478"/>
                  <a:pt x="14163" y="12526"/>
                </a:cubicBezTo>
                <a:cubicBezTo>
                  <a:pt x="14163" y="12534"/>
                  <a:pt x="14163" y="12543"/>
                  <a:pt x="14163" y="125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7920" y="4321080"/>
            <a:ext cx="1187280" cy="393840"/>
          </a:xfrm>
          <a:custGeom>
            <a:avLst/>
            <a:gdLst/>
            <a:ahLst/>
            <a:rect l="l" t="t" r="r" b="b"/>
            <a:pathLst>
              <a:path w="3300" h="1093">
                <a:moveTo>
                  <a:pt x="16644" y="12725"/>
                </a:moveTo>
                <a:cubicBezTo>
                  <a:pt x="16636" y="12677"/>
                  <a:pt x="16601" y="12525"/>
                  <a:pt x="16545" y="12502"/>
                </a:cubicBezTo>
                <a:cubicBezTo>
                  <a:pt x="16341" y="12419"/>
                  <a:pt x="16287" y="12623"/>
                  <a:pt x="16272" y="12774"/>
                </a:cubicBezTo>
                <a:cubicBezTo>
                  <a:pt x="16272" y="12942"/>
                  <a:pt x="16270" y="12995"/>
                  <a:pt x="16321" y="13097"/>
                </a:cubicBezTo>
                <a:cubicBezTo>
                  <a:pt x="16516" y="13068"/>
                  <a:pt x="16722" y="12959"/>
                  <a:pt x="16669" y="12700"/>
                </a:cubicBezTo>
                <a:cubicBezTo>
                  <a:pt x="16626" y="12488"/>
                  <a:pt x="16451" y="12618"/>
                  <a:pt x="16346" y="12576"/>
                </a:cubicBezTo>
                <a:cubicBezTo>
                  <a:pt x="16346" y="12568"/>
                  <a:pt x="16346" y="12559"/>
                  <a:pt x="16346" y="12551"/>
                </a:cubicBezTo>
              </a:path>
              <a:path w="3300" h="1093">
                <a:moveTo>
                  <a:pt x="16644" y="12005"/>
                </a:moveTo>
                <a:cubicBezTo>
                  <a:pt x="16755" y="12239"/>
                  <a:pt x="16886" y="12479"/>
                  <a:pt x="16966" y="12725"/>
                </a:cubicBezTo>
                <a:cubicBezTo>
                  <a:pt x="16988" y="12833"/>
                  <a:pt x="16991" y="12859"/>
                  <a:pt x="17016" y="12923"/>
                </a:cubicBezTo>
                <a:cubicBezTo>
                  <a:pt x="16934" y="12821"/>
                  <a:pt x="16909" y="12737"/>
                  <a:pt x="16917" y="12601"/>
                </a:cubicBezTo>
                <a:cubicBezTo>
                  <a:pt x="16942" y="12454"/>
                  <a:pt x="16948" y="12406"/>
                  <a:pt x="17066" y="12378"/>
                </a:cubicBezTo>
                <a:cubicBezTo>
                  <a:pt x="17205" y="12480"/>
                  <a:pt x="17333" y="12603"/>
                  <a:pt x="17264" y="12799"/>
                </a:cubicBezTo>
                <a:cubicBezTo>
                  <a:pt x="17216" y="12934"/>
                  <a:pt x="17006" y="13061"/>
                  <a:pt x="16867" y="12973"/>
                </a:cubicBezTo>
                <a:cubicBezTo>
                  <a:pt x="16837" y="12913"/>
                  <a:pt x="16835" y="12887"/>
                  <a:pt x="16892" y="12849"/>
                </a:cubicBezTo>
              </a:path>
              <a:path w="3300" h="1093">
                <a:moveTo>
                  <a:pt x="17512" y="12005"/>
                </a:moveTo>
                <a:cubicBezTo>
                  <a:pt x="17551" y="12199"/>
                  <a:pt x="17660" y="12413"/>
                  <a:pt x="17735" y="12601"/>
                </a:cubicBezTo>
                <a:cubicBezTo>
                  <a:pt x="17763" y="12672"/>
                  <a:pt x="17892" y="12893"/>
                  <a:pt x="17810" y="12948"/>
                </a:cubicBezTo>
              </a:path>
              <a:path w="3300" h="1093">
                <a:moveTo>
                  <a:pt x="17363" y="12576"/>
                </a:moveTo>
                <a:cubicBezTo>
                  <a:pt x="17540" y="12556"/>
                  <a:pt x="17755" y="12456"/>
                  <a:pt x="17934" y="12477"/>
                </a:cubicBezTo>
                <a:cubicBezTo>
                  <a:pt x="18101" y="12497"/>
                  <a:pt x="18174" y="12632"/>
                  <a:pt x="18182" y="12774"/>
                </a:cubicBezTo>
                <a:cubicBezTo>
                  <a:pt x="18186" y="12848"/>
                  <a:pt x="18182" y="12924"/>
                  <a:pt x="18182" y="12998"/>
                </a:cubicBezTo>
                <a:cubicBezTo>
                  <a:pt x="18293" y="12926"/>
                  <a:pt x="18315" y="12913"/>
                  <a:pt x="18355" y="12774"/>
                </a:cubicBezTo>
                <a:cubicBezTo>
                  <a:pt x="18380" y="12687"/>
                  <a:pt x="18380" y="12615"/>
                  <a:pt x="18380" y="12526"/>
                </a:cubicBezTo>
                <a:cubicBezTo>
                  <a:pt x="18380" y="12612"/>
                  <a:pt x="18394" y="12646"/>
                  <a:pt x="18430" y="12725"/>
                </a:cubicBezTo>
                <a:cubicBezTo>
                  <a:pt x="18499" y="12877"/>
                  <a:pt x="18492" y="12856"/>
                  <a:pt x="18604" y="12774"/>
                </a:cubicBezTo>
              </a:path>
              <a:path w="3300" h="1093">
                <a:moveTo>
                  <a:pt x="18852" y="12353"/>
                </a:moveTo>
                <a:cubicBezTo>
                  <a:pt x="18766" y="12426"/>
                  <a:pt x="18732" y="12455"/>
                  <a:pt x="18678" y="12551"/>
                </a:cubicBezTo>
                <a:cubicBezTo>
                  <a:pt x="18738" y="12578"/>
                  <a:pt x="18979" y="12628"/>
                  <a:pt x="18976" y="12725"/>
                </a:cubicBezTo>
                <a:cubicBezTo>
                  <a:pt x="18972" y="12826"/>
                  <a:pt x="18736" y="13027"/>
                  <a:pt x="18653" y="12898"/>
                </a:cubicBezTo>
                <a:cubicBezTo>
                  <a:pt x="18653" y="12774"/>
                  <a:pt x="18671" y="12723"/>
                  <a:pt x="18777" y="12675"/>
                </a:cubicBezTo>
              </a:path>
              <a:path w="3300" h="1093">
                <a:moveTo>
                  <a:pt x="19323" y="12526"/>
                </a:moveTo>
                <a:cubicBezTo>
                  <a:pt x="19377" y="12537"/>
                  <a:pt x="19428" y="12550"/>
                  <a:pt x="19472" y="12576"/>
                </a:cubicBezTo>
                <a:cubicBezTo>
                  <a:pt x="19440" y="12480"/>
                  <a:pt x="19367" y="12405"/>
                  <a:pt x="19298" y="12328"/>
                </a:cubicBezTo>
                <a:cubicBezTo>
                  <a:pt x="19184" y="12428"/>
                  <a:pt x="19145" y="12591"/>
                  <a:pt x="19174" y="12750"/>
                </a:cubicBezTo>
                <a:cubicBezTo>
                  <a:pt x="19210" y="12945"/>
                  <a:pt x="19388" y="12954"/>
                  <a:pt x="19546" y="12898"/>
                </a:cubicBezTo>
                <a:cubicBezTo>
                  <a:pt x="19554" y="12890"/>
                  <a:pt x="19563" y="12882"/>
                  <a:pt x="19571" y="128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6880" y="5562720"/>
            <a:ext cx="885960" cy="393480"/>
          </a:xfrm>
          <a:custGeom>
            <a:avLst/>
            <a:gdLst/>
            <a:ahLst/>
            <a:rect l="l" t="t" r="r" b="b"/>
            <a:pathLst>
              <a:path w="2457" h="1093">
                <a:moveTo>
                  <a:pt x="11460" y="15925"/>
                </a:moveTo>
                <a:cubicBezTo>
                  <a:pt x="11520" y="15879"/>
                  <a:pt x="11606" y="15900"/>
                  <a:pt x="11683" y="15900"/>
                </a:cubicBezTo>
                <a:cubicBezTo>
                  <a:pt x="11765" y="15900"/>
                  <a:pt x="11788" y="15911"/>
                  <a:pt x="11857" y="15925"/>
                </a:cubicBezTo>
              </a:path>
              <a:path w="2457" h="1093">
                <a:moveTo>
                  <a:pt x="11410" y="16073"/>
                </a:moveTo>
                <a:cubicBezTo>
                  <a:pt x="11549" y="16042"/>
                  <a:pt x="11668" y="16040"/>
                  <a:pt x="11807" y="16049"/>
                </a:cubicBezTo>
                <a:cubicBezTo>
                  <a:pt x="11891" y="16049"/>
                  <a:pt x="11925" y="16051"/>
                  <a:pt x="11981" y="16073"/>
                </a:cubicBezTo>
              </a:path>
              <a:path w="2457" h="1093">
                <a:moveTo>
                  <a:pt x="12576" y="15652"/>
                </a:moveTo>
                <a:cubicBezTo>
                  <a:pt x="12576" y="15902"/>
                  <a:pt x="12595" y="16147"/>
                  <a:pt x="12601" y="16396"/>
                </a:cubicBezTo>
                <a:cubicBezTo>
                  <a:pt x="12601" y="16462"/>
                  <a:pt x="12601" y="16495"/>
                  <a:pt x="12601" y="16421"/>
                </a:cubicBezTo>
              </a:path>
              <a:path w="2457" h="1093">
                <a:moveTo>
                  <a:pt x="12427" y="15553"/>
                </a:moveTo>
                <a:cubicBezTo>
                  <a:pt x="12607" y="15773"/>
                  <a:pt x="12797" y="15972"/>
                  <a:pt x="12998" y="16173"/>
                </a:cubicBezTo>
                <a:cubicBezTo>
                  <a:pt x="13122" y="16297"/>
                  <a:pt x="13274" y="16400"/>
                  <a:pt x="13370" y="16545"/>
                </a:cubicBezTo>
                <a:cubicBezTo>
                  <a:pt x="13417" y="16381"/>
                  <a:pt x="13284" y="15996"/>
                  <a:pt x="13271" y="15825"/>
                </a:cubicBezTo>
                <a:cubicBezTo>
                  <a:pt x="13260" y="15684"/>
                  <a:pt x="13245" y="15370"/>
                  <a:pt x="13295" y="15503"/>
                </a:cubicBezTo>
                <a:cubicBezTo>
                  <a:pt x="13303" y="15528"/>
                  <a:pt x="13312" y="15552"/>
                  <a:pt x="13320" y="15577"/>
                </a:cubicBezTo>
              </a:path>
              <a:path w="2457" h="1093">
                <a:moveTo>
                  <a:pt x="13643" y="15949"/>
                </a:moveTo>
                <a:cubicBezTo>
                  <a:pt x="13558" y="16077"/>
                  <a:pt x="13392" y="16298"/>
                  <a:pt x="13469" y="16470"/>
                </a:cubicBezTo>
                <a:cubicBezTo>
                  <a:pt x="13494" y="16487"/>
                  <a:pt x="13518" y="16503"/>
                  <a:pt x="13543" y="16520"/>
                </a:cubicBezTo>
                <a:cubicBezTo>
                  <a:pt x="13754" y="16426"/>
                  <a:pt x="13950" y="16248"/>
                  <a:pt x="13866" y="15974"/>
                </a:cubicBezTo>
                <a:cubicBezTo>
                  <a:pt x="13801" y="15761"/>
                  <a:pt x="13682" y="15842"/>
                  <a:pt x="13568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11608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6821" y="5953"/>
                </a:moveTo>
                <a:cubicBezTo>
                  <a:pt x="6806" y="5909"/>
                  <a:pt x="6700" y="5916"/>
                  <a:pt x="6648" y="5928"/>
                </a:cubicBezTo>
                <a:cubicBezTo>
                  <a:pt x="6588" y="5942"/>
                  <a:pt x="6567" y="5957"/>
                  <a:pt x="6548" y="6003"/>
                </a:cubicBezTo>
                <a:cubicBezTo>
                  <a:pt x="6513" y="6086"/>
                  <a:pt x="6540" y="6121"/>
                  <a:pt x="6548" y="6201"/>
                </a:cubicBezTo>
                <a:cubicBezTo>
                  <a:pt x="6548" y="6209"/>
                  <a:pt x="6548" y="6218"/>
                  <a:pt x="6548" y="6226"/>
                </a:cubicBezTo>
                <a:cubicBezTo>
                  <a:pt x="6632" y="6212"/>
                  <a:pt x="6739" y="6140"/>
                  <a:pt x="6821" y="6201"/>
                </a:cubicBezTo>
                <a:cubicBezTo>
                  <a:pt x="6935" y="6286"/>
                  <a:pt x="6859" y="6419"/>
                  <a:pt x="6772" y="6474"/>
                </a:cubicBezTo>
                <a:cubicBezTo>
                  <a:pt x="6649" y="6552"/>
                  <a:pt x="6523" y="6574"/>
                  <a:pt x="6524" y="6449"/>
                </a:cubicBezTo>
              </a:path>
              <a:path w="770" h="646">
                <a:moveTo>
                  <a:pt x="7020" y="5879"/>
                </a:moveTo>
                <a:cubicBezTo>
                  <a:pt x="6995" y="6022"/>
                  <a:pt x="6974" y="6187"/>
                  <a:pt x="7045" y="6325"/>
                </a:cubicBezTo>
                <a:cubicBezTo>
                  <a:pt x="7091" y="6372"/>
                  <a:pt x="7103" y="6386"/>
                  <a:pt x="7144" y="6400"/>
                </a:cubicBezTo>
                <a:cubicBezTo>
                  <a:pt x="7241" y="6312"/>
                  <a:pt x="7299" y="6220"/>
                  <a:pt x="7243" y="6077"/>
                </a:cubicBezTo>
                <a:cubicBezTo>
                  <a:pt x="7205" y="5981"/>
                  <a:pt x="7080" y="5917"/>
                  <a:pt x="7020" y="59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1760" y="213372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689" y="5928"/>
                </a:moveTo>
                <a:cubicBezTo>
                  <a:pt x="7715" y="6059"/>
                  <a:pt x="7755" y="6193"/>
                  <a:pt x="7764" y="6325"/>
                </a:cubicBezTo>
                <a:cubicBezTo>
                  <a:pt x="7764" y="6333"/>
                  <a:pt x="7764" y="6342"/>
                  <a:pt x="7764" y="6350"/>
                </a:cubicBezTo>
              </a:path>
              <a:path w="348" h="423">
                <a:moveTo>
                  <a:pt x="7615" y="6152"/>
                </a:moveTo>
                <a:cubicBezTo>
                  <a:pt x="7696" y="6138"/>
                  <a:pt x="7778" y="6111"/>
                  <a:pt x="7863" y="6127"/>
                </a:cubicBezTo>
                <a:cubicBezTo>
                  <a:pt x="7921" y="6146"/>
                  <a:pt x="7927" y="6155"/>
                  <a:pt x="7962" y="615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0880" y="2152800"/>
            <a:ext cx="2872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8657" y="6251"/>
                </a:moveTo>
                <a:cubicBezTo>
                  <a:pt x="8657" y="6166"/>
                  <a:pt x="8662" y="6127"/>
                  <a:pt x="8607" y="6052"/>
                </a:cubicBezTo>
                <a:cubicBezTo>
                  <a:pt x="8540" y="5960"/>
                  <a:pt x="8425" y="5957"/>
                  <a:pt x="8359" y="6052"/>
                </a:cubicBezTo>
                <a:cubicBezTo>
                  <a:pt x="8276" y="6171"/>
                  <a:pt x="8296" y="6287"/>
                  <a:pt x="8384" y="6375"/>
                </a:cubicBezTo>
                <a:cubicBezTo>
                  <a:pt x="8518" y="6338"/>
                  <a:pt x="8548" y="6248"/>
                  <a:pt x="8582" y="6102"/>
                </a:cubicBezTo>
                <a:cubicBezTo>
                  <a:pt x="8582" y="6077"/>
                  <a:pt x="8582" y="6069"/>
                  <a:pt x="8582" y="6102"/>
                </a:cubicBezTo>
                <a:cubicBezTo>
                  <a:pt x="8652" y="6262"/>
                  <a:pt x="8664" y="6430"/>
                  <a:pt x="8706" y="6598"/>
                </a:cubicBezTo>
                <a:cubicBezTo>
                  <a:pt x="8733" y="6652"/>
                  <a:pt x="8745" y="6666"/>
                  <a:pt x="8781" y="6598"/>
                </a:cubicBezTo>
              </a:path>
              <a:path w="794" h="671">
                <a:moveTo>
                  <a:pt x="8880" y="6127"/>
                </a:moveTo>
                <a:cubicBezTo>
                  <a:pt x="8865" y="6272"/>
                  <a:pt x="8830" y="6393"/>
                  <a:pt x="8979" y="6449"/>
                </a:cubicBezTo>
                <a:cubicBezTo>
                  <a:pt x="9062" y="6367"/>
                  <a:pt x="9219" y="6115"/>
                  <a:pt x="9054" y="6003"/>
                </a:cubicBezTo>
                <a:cubicBezTo>
                  <a:pt x="8893" y="6003"/>
                  <a:pt x="8821" y="6022"/>
                  <a:pt x="8731" y="612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760" y="2303640"/>
            <a:ext cx="339480" cy="117360"/>
          </a:xfrm>
          <a:custGeom>
            <a:avLst/>
            <a:gdLst/>
            <a:ahLst/>
            <a:rect l="l" t="t" r="r" b="b"/>
            <a:pathLst>
              <a:path w="944" h="323">
                <a:moveTo>
                  <a:pt x="7317" y="6400"/>
                </a:moveTo>
                <a:cubicBezTo>
                  <a:pt x="7333" y="6509"/>
                  <a:pt x="7344" y="6615"/>
                  <a:pt x="7367" y="6722"/>
                </a:cubicBezTo>
                <a:cubicBezTo>
                  <a:pt x="7495" y="6701"/>
                  <a:pt x="7580" y="6614"/>
                  <a:pt x="7714" y="6598"/>
                </a:cubicBezTo>
                <a:cubicBezTo>
                  <a:pt x="7884" y="6578"/>
                  <a:pt x="8045" y="6643"/>
                  <a:pt x="8210" y="6672"/>
                </a:cubicBezTo>
                <a:cubicBezTo>
                  <a:pt x="8235" y="6672"/>
                  <a:pt x="8243" y="6672"/>
                  <a:pt x="8260" y="6672"/>
                </a:cubicBezTo>
                <a:cubicBezTo>
                  <a:pt x="8260" y="6592"/>
                  <a:pt x="8267" y="6492"/>
                  <a:pt x="8235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75000" y="2160720"/>
            <a:ext cx="536760" cy="196560"/>
          </a:xfrm>
          <a:custGeom>
            <a:avLst/>
            <a:gdLst/>
            <a:ahLst/>
            <a:rect l="l" t="t" r="r" b="b"/>
            <a:pathLst>
              <a:path w="1489" h="546">
                <a:moveTo>
                  <a:pt x="9401" y="6003"/>
                </a:moveTo>
                <a:cubicBezTo>
                  <a:pt x="9425" y="6135"/>
                  <a:pt x="9487" y="6240"/>
                  <a:pt x="9500" y="6375"/>
                </a:cubicBezTo>
                <a:cubicBezTo>
                  <a:pt x="9500" y="6400"/>
                  <a:pt x="9500" y="6408"/>
                  <a:pt x="9500" y="6375"/>
                </a:cubicBezTo>
              </a:path>
              <a:path w="1489" h="546">
                <a:moveTo>
                  <a:pt x="9376" y="6152"/>
                </a:moveTo>
                <a:cubicBezTo>
                  <a:pt x="9478" y="6152"/>
                  <a:pt x="9572" y="6130"/>
                  <a:pt x="9674" y="6127"/>
                </a:cubicBezTo>
                <a:cubicBezTo>
                  <a:pt x="9699" y="6127"/>
                  <a:pt x="9723" y="6127"/>
                  <a:pt x="9748" y="6127"/>
                </a:cubicBezTo>
              </a:path>
              <a:path w="1489" h="546">
                <a:moveTo>
                  <a:pt x="9847" y="6102"/>
                </a:moveTo>
                <a:cubicBezTo>
                  <a:pt x="9928" y="6156"/>
                  <a:pt x="10053" y="6181"/>
                  <a:pt x="10120" y="6226"/>
                </a:cubicBezTo>
                <a:cubicBezTo>
                  <a:pt x="10120" y="6251"/>
                  <a:pt x="10120" y="6259"/>
                  <a:pt x="10145" y="6251"/>
                </a:cubicBezTo>
              </a:path>
              <a:path w="1489" h="546">
                <a:moveTo>
                  <a:pt x="10120" y="6003"/>
                </a:moveTo>
                <a:cubicBezTo>
                  <a:pt x="10071" y="6140"/>
                  <a:pt x="10032" y="6282"/>
                  <a:pt x="9996" y="6424"/>
                </a:cubicBezTo>
                <a:cubicBezTo>
                  <a:pt x="9968" y="6537"/>
                  <a:pt x="9938" y="6567"/>
                  <a:pt x="10021" y="6499"/>
                </a:cubicBezTo>
              </a:path>
              <a:path w="1489" h="546">
                <a:moveTo>
                  <a:pt x="10517" y="6052"/>
                </a:moveTo>
                <a:cubicBezTo>
                  <a:pt x="10594" y="6078"/>
                  <a:pt x="10656" y="6077"/>
                  <a:pt x="10740" y="6077"/>
                </a:cubicBezTo>
              </a:path>
              <a:path w="1489" h="546">
                <a:moveTo>
                  <a:pt x="10616" y="6325"/>
                </a:moveTo>
                <a:cubicBezTo>
                  <a:pt x="10705" y="6312"/>
                  <a:pt x="10780" y="6282"/>
                  <a:pt x="10864" y="62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71960" y="207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1311" y="5978"/>
                </a:moveTo>
                <a:cubicBezTo>
                  <a:pt x="11350" y="6134"/>
                  <a:pt x="11357" y="6309"/>
                  <a:pt x="11361" y="6474"/>
                </a:cubicBezTo>
                <a:cubicBezTo>
                  <a:pt x="11361" y="6499"/>
                  <a:pt x="11361" y="6523"/>
                  <a:pt x="11361" y="6548"/>
                </a:cubicBezTo>
              </a:path>
              <a:path w="1192" h="794">
                <a:moveTo>
                  <a:pt x="11881" y="5804"/>
                </a:moveTo>
                <a:cubicBezTo>
                  <a:pt x="11790" y="5875"/>
                  <a:pt x="11691" y="5970"/>
                  <a:pt x="11708" y="6102"/>
                </a:cubicBezTo>
                <a:cubicBezTo>
                  <a:pt x="11724" y="6222"/>
                  <a:pt x="11898" y="6201"/>
                  <a:pt x="11931" y="6325"/>
                </a:cubicBezTo>
                <a:cubicBezTo>
                  <a:pt x="11931" y="6393"/>
                  <a:pt x="11934" y="6412"/>
                  <a:pt x="11906" y="6449"/>
                </a:cubicBezTo>
                <a:cubicBezTo>
                  <a:pt x="11754" y="6366"/>
                  <a:pt x="11742" y="6294"/>
                  <a:pt x="11807" y="6127"/>
                </a:cubicBezTo>
                <a:cubicBezTo>
                  <a:pt x="11848" y="6023"/>
                  <a:pt x="11915" y="5980"/>
                  <a:pt x="12005" y="5928"/>
                </a:cubicBezTo>
              </a:path>
              <a:path w="1192" h="794">
                <a:moveTo>
                  <a:pt x="12229" y="5755"/>
                </a:moveTo>
                <a:cubicBezTo>
                  <a:pt x="12211" y="5970"/>
                  <a:pt x="12213" y="6061"/>
                  <a:pt x="12353" y="6226"/>
                </a:cubicBezTo>
                <a:cubicBezTo>
                  <a:pt x="12455" y="6170"/>
                  <a:pt x="12589" y="6027"/>
                  <a:pt x="12452" y="5904"/>
                </a:cubicBezTo>
                <a:cubicBezTo>
                  <a:pt x="12282" y="5835"/>
                  <a:pt x="12193" y="5832"/>
                  <a:pt x="12055" y="59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5840" y="2625840"/>
            <a:ext cx="3474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7417" y="7293"/>
                </a:moveTo>
                <a:cubicBezTo>
                  <a:pt x="7375" y="7320"/>
                  <a:pt x="7380" y="7497"/>
                  <a:pt x="7367" y="7565"/>
                </a:cubicBezTo>
                <a:cubicBezTo>
                  <a:pt x="7347" y="7674"/>
                  <a:pt x="7323" y="7781"/>
                  <a:pt x="7293" y="7888"/>
                </a:cubicBezTo>
              </a:path>
              <a:path w="968" h="596">
                <a:moveTo>
                  <a:pt x="7491" y="7441"/>
                </a:moveTo>
                <a:cubicBezTo>
                  <a:pt x="7512" y="7492"/>
                  <a:pt x="7538" y="7574"/>
                  <a:pt x="7615" y="7565"/>
                </a:cubicBezTo>
                <a:cubicBezTo>
                  <a:pt x="7693" y="7556"/>
                  <a:pt x="7694" y="7497"/>
                  <a:pt x="7739" y="7466"/>
                </a:cubicBezTo>
                <a:cubicBezTo>
                  <a:pt x="7789" y="7441"/>
                  <a:pt x="7805" y="7433"/>
                  <a:pt x="7813" y="7392"/>
                </a:cubicBezTo>
              </a:path>
              <a:path w="968" h="596">
                <a:moveTo>
                  <a:pt x="7789" y="7293"/>
                </a:moveTo>
                <a:cubicBezTo>
                  <a:pt x="7789" y="7466"/>
                  <a:pt x="7789" y="7640"/>
                  <a:pt x="7789" y="7813"/>
                </a:cubicBezTo>
              </a:path>
              <a:path w="968" h="596">
                <a:moveTo>
                  <a:pt x="8012" y="7392"/>
                </a:moveTo>
                <a:cubicBezTo>
                  <a:pt x="8025" y="7547"/>
                  <a:pt x="8038" y="7626"/>
                  <a:pt x="8111" y="7764"/>
                </a:cubicBezTo>
                <a:cubicBezTo>
                  <a:pt x="8225" y="7707"/>
                  <a:pt x="8293" y="7516"/>
                  <a:pt x="8260" y="7367"/>
                </a:cubicBezTo>
                <a:cubicBezTo>
                  <a:pt x="8226" y="7212"/>
                  <a:pt x="8076" y="7317"/>
                  <a:pt x="8012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70160" y="2643120"/>
            <a:ext cx="115920" cy="11592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8830" y="7342"/>
                </a:moveTo>
                <a:cubicBezTo>
                  <a:pt x="8830" y="7436"/>
                  <a:pt x="8851" y="7521"/>
                  <a:pt x="8855" y="7615"/>
                </a:cubicBezTo>
                <a:cubicBezTo>
                  <a:pt x="8855" y="7657"/>
                  <a:pt x="8855" y="7682"/>
                  <a:pt x="8855" y="7640"/>
                </a:cubicBezTo>
              </a:path>
              <a:path w="323" h="324">
                <a:moveTo>
                  <a:pt x="8806" y="7516"/>
                </a:moveTo>
                <a:cubicBezTo>
                  <a:pt x="8884" y="7506"/>
                  <a:pt x="8954" y="7451"/>
                  <a:pt x="9029" y="7441"/>
                </a:cubicBezTo>
                <a:cubicBezTo>
                  <a:pt x="9062" y="7441"/>
                  <a:pt x="9095" y="7441"/>
                  <a:pt x="9128" y="744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02000" y="2660760"/>
            <a:ext cx="71280" cy="12528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9451" y="7392"/>
                </a:moveTo>
                <a:cubicBezTo>
                  <a:pt x="9504" y="7446"/>
                  <a:pt x="9585" y="7511"/>
                  <a:pt x="9624" y="7565"/>
                </a:cubicBezTo>
                <a:cubicBezTo>
                  <a:pt x="9624" y="7590"/>
                  <a:pt x="9624" y="7598"/>
                  <a:pt x="9649" y="7590"/>
                </a:cubicBezTo>
              </a:path>
              <a:path w="199" h="348">
                <a:moveTo>
                  <a:pt x="9550" y="7441"/>
                </a:moveTo>
                <a:cubicBezTo>
                  <a:pt x="9528" y="7504"/>
                  <a:pt x="9421" y="7742"/>
                  <a:pt x="9475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261612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0393" y="7367"/>
                </a:moveTo>
                <a:cubicBezTo>
                  <a:pt x="10463" y="7349"/>
                  <a:pt x="10527" y="7311"/>
                  <a:pt x="10592" y="7268"/>
                </a:cubicBezTo>
              </a:path>
              <a:path w="249" h="199">
                <a:moveTo>
                  <a:pt x="10492" y="7466"/>
                </a:moveTo>
                <a:cubicBezTo>
                  <a:pt x="10570" y="7450"/>
                  <a:pt x="10576" y="7426"/>
                  <a:pt x="10641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6240" y="2419200"/>
            <a:ext cx="250920" cy="206640"/>
          </a:xfrm>
          <a:custGeom>
            <a:avLst/>
            <a:gdLst/>
            <a:ahLst/>
            <a:rect l="l" t="t" r="r" b="b"/>
            <a:pathLst>
              <a:path w="695" h="572">
                <a:moveTo>
                  <a:pt x="11509" y="6747"/>
                </a:moveTo>
                <a:cubicBezTo>
                  <a:pt x="11467" y="6732"/>
                  <a:pt x="11465" y="6993"/>
                  <a:pt x="11460" y="7069"/>
                </a:cubicBezTo>
                <a:cubicBezTo>
                  <a:pt x="11455" y="7159"/>
                  <a:pt x="11449" y="7210"/>
                  <a:pt x="11435" y="7293"/>
                </a:cubicBezTo>
              </a:path>
              <a:path w="695" h="572">
                <a:moveTo>
                  <a:pt x="11981" y="6821"/>
                </a:moveTo>
                <a:cubicBezTo>
                  <a:pt x="11896" y="6821"/>
                  <a:pt x="11836" y="6881"/>
                  <a:pt x="11782" y="6945"/>
                </a:cubicBezTo>
                <a:cubicBezTo>
                  <a:pt x="11745" y="7002"/>
                  <a:pt x="11728" y="7005"/>
                  <a:pt x="11733" y="7045"/>
                </a:cubicBezTo>
                <a:cubicBezTo>
                  <a:pt x="11840" y="7077"/>
                  <a:pt x="11944" y="7108"/>
                  <a:pt x="12055" y="7119"/>
                </a:cubicBezTo>
                <a:cubicBezTo>
                  <a:pt x="12037" y="7141"/>
                  <a:pt x="11906" y="7255"/>
                  <a:pt x="11906" y="7144"/>
                </a:cubicBezTo>
                <a:cubicBezTo>
                  <a:pt x="11906" y="7000"/>
                  <a:pt x="12027" y="6959"/>
                  <a:pt x="12105" y="6871"/>
                </a:cubicBezTo>
                <a:cubicBezTo>
                  <a:pt x="12113" y="6854"/>
                  <a:pt x="12121" y="6838"/>
                  <a:pt x="12129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56080" y="241920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2452" y="6722"/>
                </a:moveTo>
                <a:cubicBezTo>
                  <a:pt x="12406" y="6851"/>
                  <a:pt x="12345" y="7025"/>
                  <a:pt x="12526" y="7094"/>
                </a:cubicBezTo>
                <a:cubicBezTo>
                  <a:pt x="12551" y="7094"/>
                  <a:pt x="12576" y="7094"/>
                  <a:pt x="12601" y="7094"/>
                </a:cubicBezTo>
                <a:cubicBezTo>
                  <a:pt x="12671" y="6994"/>
                  <a:pt x="12722" y="6818"/>
                  <a:pt x="12526" y="6796"/>
                </a:cubicBezTo>
                <a:cubicBezTo>
                  <a:pt x="12477" y="6804"/>
                  <a:pt x="12427" y="6813"/>
                  <a:pt x="12378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4320" y="2473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4511" y="6871"/>
                </a:moveTo>
                <a:cubicBezTo>
                  <a:pt x="14518" y="6913"/>
                  <a:pt x="14529" y="6953"/>
                  <a:pt x="14536" y="6995"/>
                </a:cubicBezTo>
                <a:cubicBezTo>
                  <a:pt x="14480" y="6976"/>
                  <a:pt x="14518" y="6945"/>
                  <a:pt x="14560" y="6921"/>
                </a:cubicBezTo>
                <a:cubicBezTo>
                  <a:pt x="14631" y="6881"/>
                  <a:pt x="14648" y="6878"/>
                  <a:pt x="14684" y="6896"/>
                </a:cubicBezTo>
                <a:cubicBezTo>
                  <a:pt x="14760" y="6934"/>
                  <a:pt x="14716" y="7067"/>
                  <a:pt x="14684" y="7144"/>
                </a:cubicBezTo>
                <a:cubicBezTo>
                  <a:pt x="14658" y="7205"/>
                  <a:pt x="14603" y="7267"/>
                  <a:pt x="14560" y="7317"/>
                </a:cubicBezTo>
              </a:path>
              <a:path w="1390" h="497">
                <a:moveTo>
                  <a:pt x="14908" y="6871"/>
                </a:moveTo>
                <a:cubicBezTo>
                  <a:pt x="14846" y="6963"/>
                  <a:pt x="14797" y="7077"/>
                  <a:pt x="14808" y="7193"/>
                </a:cubicBezTo>
                <a:cubicBezTo>
                  <a:pt x="14819" y="7307"/>
                  <a:pt x="14914" y="7328"/>
                  <a:pt x="14982" y="7268"/>
                </a:cubicBezTo>
                <a:cubicBezTo>
                  <a:pt x="15056" y="7203"/>
                  <a:pt x="15147" y="7072"/>
                  <a:pt x="15032" y="6995"/>
                </a:cubicBezTo>
                <a:cubicBezTo>
                  <a:pt x="14989" y="6966"/>
                  <a:pt x="14953" y="6970"/>
                  <a:pt x="14908" y="6970"/>
                </a:cubicBezTo>
              </a:path>
              <a:path w="1390" h="497">
                <a:moveTo>
                  <a:pt x="15131" y="6896"/>
                </a:moveTo>
                <a:cubicBezTo>
                  <a:pt x="15146" y="6998"/>
                  <a:pt x="15156" y="7089"/>
                  <a:pt x="15156" y="7193"/>
                </a:cubicBezTo>
                <a:cubicBezTo>
                  <a:pt x="15156" y="7210"/>
                  <a:pt x="15156" y="7226"/>
                  <a:pt x="15156" y="7243"/>
                </a:cubicBezTo>
              </a:path>
              <a:path w="1390" h="497">
                <a:moveTo>
                  <a:pt x="15056" y="7119"/>
                </a:moveTo>
                <a:cubicBezTo>
                  <a:pt x="15127" y="7111"/>
                  <a:pt x="15186" y="7092"/>
                  <a:pt x="15255" y="7069"/>
                </a:cubicBezTo>
              </a:path>
              <a:path w="1390" h="497">
                <a:moveTo>
                  <a:pt x="15354" y="6995"/>
                </a:moveTo>
                <a:cubicBezTo>
                  <a:pt x="15328" y="7047"/>
                  <a:pt x="15299" y="7204"/>
                  <a:pt x="15304" y="7268"/>
                </a:cubicBezTo>
                <a:cubicBezTo>
                  <a:pt x="15312" y="7372"/>
                  <a:pt x="15442" y="7352"/>
                  <a:pt x="15503" y="7317"/>
                </a:cubicBezTo>
                <a:cubicBezTo>
                  <a:pt x="15572" y="7277"/>
                  <a:pt x="15587" y="7211"/>
                  <a:pt x="15602" y="7144"/>
                </a:cubicBezTo>
                <a:cubicBezTo>
                  <a:pt x="15497" y="7162"/>
                  <a:pt x="15479" y="7189"/>
                  <a:pt x="15453" y="7293"/>
                </a:cubicBezTo>
                <a:cubicBezTo>
                  <a:pt x="15441" y="7339"/>
                  <a:pt x="15453" y="7350"/>
                  <a:pt x="15478" y="7367"/>
                </a:cubicBezTo>
              </a:path>
              <a:path w="1390" h="497">
                <a:moveTo>
                  <a:pt x="15900" y="6896"/>
                </a:moveTo>
                <a:cubicBezTo>
                  <a:pt x="15840" y="6908"/>
                  <a:pt x="15811" y="6940"/>
                  <a:pt x="15751" y="6945"/>
                </a:cubicBezTo>
                <a:cubicBezTo>
                  <a:pt x="15683" y="6950"/>
                  <a:pt x="15681" y="7064"/>
                  <a:pt x="15677" y="7119"/>
                </a:cubicBezTo>
                <a:cubicBezTo>
                  <a:pt x="15677" y="7127"/>
                  <a:pt x="15677" y="7136"/>
                  <a:pt x="15677" y="7144"/>
                </a:cubicBezTo>
                <a:cubicBezTo>
                  <a:pt x="15697" y="7113"/>
                  <a:pt x="15795" y="7099"/>
                  <a:pt x="15850" y="7119"/>
                </a:cubicBezTo>
                <a:cubicBezTo>
                  <a:pt x="15899" y="7137"/>
                  <a:pt x="15889" y="7293"/>
                  <a:pt x="15850" y="7317"/>
                </a:cubicBezTo>
                <a:cubicBezTo>
                  <a:pt x="15758" y="7373"/>
                  <a:pt x="15659" y="7371"/>
                  <a:pt x="15577" y="731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13280" y="2463840"/>
            <a:ext cx="696960" cy="19836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6247" y="7045"/>
                </a:moveTo>
                <a:cubicBezTo>
                  <a:pt x="16247" y="7126"/>
                  <a:pt x="16236" y="7189"/>
                  <a:pt x="16222" y="7268"/>
                </a:cubicBezTo>
                <a:cubicBezTo>
                  <a:pt x="16222" y="7276"/>
                  <a:pt x="16222" y="7285"/>
                  <a:pt x="16222" y="7293"/>
                </a:cubicBezTo>
              </a:path>
              <a:path w="1936" h="547">
                <a:moveTo>
                  <a:pt x="16148" y="7144"/>
                </a:moveTo>
                <a:cubicBezTo>
                  <a:pt x="16227" y="7170"/>
                  <a:pt x="16313" y="7210"/>
                  <a:pt x="16396" y="7218"/>
                </a:cubicBezTo>
                <a:cubicBezTo>
                  <a:pt x="16404" y="7218"/>
                  <a:pt x="16413" y="7218"/>
                  <a:pt x="16421" y="7218"/>
                </a:cubicBezTo>
              </a:path>
              <a:path w="1936" h="547">
                <a:moveTo>
                  <a:pt x="16446" y="7094"/>
                </a:moveTo>
                <a:cubicBezTo>
                  <a:pt x="16540" y="7133"/>
                  <a:pt x="16539" y="7197"/>
                  <a:pt x="16545" y="7293"/>
                </a:cubicBezTo>
                <a:cubicBezTo>
                  <a:pt x="16545" y="7301"/>
                  <a:pt x="16545" y="7309"/>
                  <a:pt x="16545" y="7317"/>
                </a:cubicBezTo>
              </a:path>
              <a:path w="1936" h="547">
                <a:moveTo>
                  <a:pt x="16619" y="7094"/>
                </a:moveTo>
                <a:cubicBezTo>
                  <a:pt x="16559" y="7184"/>
                  <a:pt x="16498" y="7272"/>
                  <a:pt x="16446" y="7367"/>
                </a:cubicBezTo>
              </a:path>
              <a:path w="1936" h="547">
                <a:moveTo>
                  <a:pt x="16793" y="7169"/>
                </a:moveTo>
                <a:cubicBezTo>
                  <a:pt x="16854" y="7169"/>
                  <a:pt x="16892" y="7164"/>
                  <a:pt x="16942" y="7193"/>
                </a:cubicBezTo>
              </a:path>
              <a:path w="1936" h="547">
                <a:moveTo>
                  <a:pt x="16818" y="7293"/>
                </a:moveTo>
                <a:cubicBezTo>
                  <a:pt x="16878" y="7293"/>
                  <a:pt x="16905" y="7285"/>
                  <a:pt x="16966" y="7268"/>
                </a:cubicBezTo>
              </a:path>
              <a:path w="1936" h="547">
                <a:moveTo>
                  <a:pt x="17239" y="6995"/>
                </a:moveTo>
                <a:cubicBezTo>
                  <a:pt x="17205" y="7081"/>
                  <a:pt x="17155" y="7226"/>
                  <a:pt x="17165" y="7317"/>
                </a:cubicBezTo>
                <a:cubicBezTo>
                  <a:pt x="17173" y="7325"/>
                  <a:pt x="17182" y="7334"/>
                  <a:pt x="17190" y="7342"/>
                </a:cubicBezTo>
              </a:path>
              <a:path w="1936" h="547">
                <a:moveTo>
                  <a:pt x="17636" y="6945"/>
                </a:moveTo>
                <a:cubicBezTo>
                  <a:pt x="17557" y="6978"/>
                  <a:pt x="17395" y="7036"/>
                  <a:pt x="17388" y="7144"/>
                </a:cubicBezTo>
                <a:cubicBezTo>
                  <a:pt x="17386" y="7172"/>
                  <a:pt x="17602" y="7266"/>
                  <a:pt x="17636" y="7293"/>
                </a:cubicBezTo>
                <a:cubicBezTo>
                  <a:pt x="17582" y="7347"/>
                  <a:pt x="17557" y="7360"/>
                  <a:pt x="17487" y="7392"/>
                </a:cubicBezTo>
                <a:cubicBezTo>
                  <a:pt x="17465" y="7280"/>
                  <a:pt x="17489" y="7177"/>
                  <a:pt x="17587" y="7094"/>
                </a:cubicBezTo>
                <a:cubicBezTo>
                  <a:pt x="17627" y="7074"/>
                  <a:pt x="17643" y="7076"/>
                  <a:pt x="17636" y="7045"/>
                </a:cubicBezTo>
              </a:path>
              <a:path w="1936" h="547">
                <a:moveTo>
                  <a:pt x="17934" y="6846"/>
                </a:moveTo>
                <a:cubicBezTo>
                  <a:pt x="17861" y="6933"/>
                  <a:pt x="17806" y="7050"/>
                  <a:pt x="17810" y="7169"/>
                </a:cubicBezTo>
                <a:cubicBezTo>
                  <a:pt x="17818" y="7185"/>
                  <a:pt x="17827" y="7202"/>
                  <a:pt x="17835" y="7218"/>
                </a:cubicBezTo>
                <a:cubicBezTo>
                  <a:pt x="17941" y="7207"/>
                  <a:pt x="18071" y="7185"/>
                  <a:pt x="18083" y="7045"/>
                </a:cubicBezTo>
                <a:cubicBezTo>
                  <a:pt x="18097" y="6886"/>
                  <a:pt x="17987" y="6908"/>
                  <a:pt x="17884" y="68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7040" y="271476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212" y="7665"/>
                </a:moveTo>
                <a:cubicBezTo>
                  <a:pt x="11274" y="7652"/>
                  <a:pt x="11287" y="7634"/>
                  <a:pt x="11336" y="7590"/>
                </a:cubicBezTo>
              </a:path>
              <a:path w="398" h="373">
                <a:moveTo>
                  <a:pt x="11559" y="7541"/>
                </a:moveTo>
                <a:cubicBezTo>
                  <a:pt x="11574" y="7644"/>
                  <a:pt x="11627" y="7757"/>
                  <a:pt x="11609" y="7863"/>
                </a:cubicBezTo>
                <a:cubicBezTo>
                  <a:pt x="11601" y="7880"/>
                  <a:pt x="11592" y="7896"/>
                  <a:pt x="11584" y="79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6160" y="2643120"/>
            <a:ext cx="1159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1906" y="7417"/>
                </a:moveTo>
                <a:cubicBezTo>
                  <a:pt x="11925" y="7466"/>
                  <a:pt x="11927" y="7592"/>
                  <a:pt x="11981" y="7615"/>
                </a:cubicBezTo>
                <a:cubicBezTo>
                  <a:pt x="12057" y="7648"/>
                  <a:pt x="12180" y="7510"/>
                  <a:pt x="12229" y="7466"/>
                </a:cubicBezTo>
              </a:path>
              <a:path w="324" h="448">
                <a:moveTo>
                  <a:pt x="12179" y="7342"/>
                </a:moveTo>
                <a:cubicBezTo>
                  <a:pt x="12179" y="7478"/>
                  <a:pt x="12144" y="7662"/>
                  <a:pt x="12204" y="7789"/>
                </a:cubicBezTo>
                <a:cubicBezTo>
                  <a:pt x="12212" y="7789"/>
                  <a:pt x="12221" y="7789"/>
                  <a:pt x="12229" y="77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1000" y="2678040"/>
            <a:ext cx="90360" cy="1270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2551" y="7516"/>
                </a:moveTo>
                <a:cubicBezTo>
                  <a:pt x="12558" y="7639"/>
                  <a:pt x="12548" y="7764"/>
                  <a:pt x="12675" y="7764"/>
                </a:cubicBezTo>
                <a:cubicBezTo>
                  <a:pt x="12718" y="7686"/>
                  <a:pt x="12792" y="7441"/>
                  <a:pt x="12601" y="7441"/>
                </a:cubicBezTo>
                <a:cubicBezTo>
                  <a:pt x="12560" y="7458"/>
                  <a:pt x="12518" y="7474"/>
                  <a:pt x="12477" y="749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2920" y="2911320"/>
            <a:ext cx="71280" cy="17640"/>
          </a:xfrm>
          <a:custGeom>
            <a:avLst/>
            <a:gdLst/>
            <a:ahLst/>
            <a:rect l="l" t="t" r="r" b="b"/>
            <a:pathLst>
              <a:path w="199" h="51">
                <a:moveTo>
                  <a:pt x="6896" y="8136"/>
                </a:moveTo>
                <a:cubicBezTo>
                  <a:pt x="6967" y="8127"/>
                  <a:pt x="7023" y="8095"/>
                  <a:pt x="7094" y="808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284796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7491" y="8012"/>
                </a:moveTo>
                <a:cubicBezTo>
                  <a:pt x="7491" y="8124"/>
                  <a:pt x="7455" y="8282"/>
                  <a:pt x="7466" y="8384"/>
                </a:cubicBezTo>
                <a:cubicBezTo>
                  <a:pt x="7474" y="8392"/>
                  <a:pt x="7483" y="8401"/>
                  <a:pt x="7491" y="8409"/>
                </a:cubicBezTo>
              </a:path>
              <a:path w="473" h="497">
                <a:moveTo>
                  <a:pt x="7665" y="8037"/>
                </a:moveTo>
                <a:cubicBezTo>
                  <a:pt x="7665" y="8094"/>
                  <a:pt x="7663" y="8146"/>
                  <a:pt x="7739" y="8136"/>
                </a:cubicBezTo>
                <a:cubicBezTo>
                  <a:pt x="7812" y="8126"/>
                  <a:pt x="7840" y="8084"/>
                  <a:pt x="7888" y="8037"/>
                </a:cubicBezTo>
              </a:path>
              <a:path w="473" h="497">
                <a:moveTo>
                  <a:pt x="7888" y="7913"/>
                </a:moveTo>
                <a:cubicBezTo>
                  <a:pt x="7900" y="8046"/>
                  <a:pt x="7923" y="8178"/>
                  <a:pt x="7938" y="8310"/>
                </a:cubicBezTo>
                <a:cubicBezTo>
                  <a:pt x="7938" y="8326"/>
                  <a:pt x="7938" y="8343"/>
                  <a:pt x="7938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38320" y="2857680"/>
            <a:ext cx="88920" cy="11556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8186" y="7987"/>
                </a:moveTo>
                <a:cubicBezTo>
                  <a:pt x="8159" y="8130"/>
                  <a:pt x="8132" y="8180"/>
                  <a:pt x="8260" y="8260"/>
                </a:cubicBezTo>
                <a:cubicBezTo>
                  <a:pt x="8347" y="8205"/>
                  <a:pt x="8469" y="8088"/>
                  <a:pt x="8384" y="7962"/>
                </a:cubicBezTo>
                <a:cubicBezTo>
                  <a:pt x="8336" y="7890"/>
                  <a:pt x="8265" y="7986"/>
                  <a:pt x="8235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0621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9748" y="8533"/>
                </a:moveTo>
                <a:cubicBezTo>
                  <a:pt x="9803" y="8641"/>
                  <a:pt x="9896" y="8729"/>
                  <a:pt x="9947" y="8855"/>
                </a:cubicBezTo>
                <a:cubicBezTo>
                  <a:pt x="9967" y="8916"/>
                  <a:pt x="9964" y="8931"/>
                  <a:pt x="9996" y="8954"/>
                </a:cubicBezTo>
              </a:path>
              <a:path w="944" h="472">
                <a:moveTo>
                  <a:pt x="10096" y="8508"/>
                </a:moveTo>
                <a:cubicBezTo>
                  <a:pt x="10003" y="8651"/>
                  <a:pt x="9959" y="8808"/>
                  <a:pt x="9872" y="8954"/>
                </a:cubicBezTo>
                <a:cubicBezTo>
                  <a:pt x="9842" y="8984"/>
                  <a:pt x="9837" y="8986"/>
                  <a:pt x="9872" y="8930"/>
                </a:cubicBezTo>
              </a:path>
              <a:path w="944" h="472">
                <a:moveTo>
                  <a:pt x="10418" y="8632"/>
                </a:moveTo>
                <a:cubicBezTo>
                  <a:pt x="10499" y="8605"/>
                  <a:pt x="10557" y="8589"/>
                  <a:pt x="10641" y="8582"/>
                </a:cubicBezTo>
              </a:path>
              <a:path w="944" h="472">
                <a:moveTo>
                  <a:pt x="10492" y="8855"/>
                </a:moveTo>
                <a:cubicBezTo>
                  <a:pt x="10573" y="8845"/>
                  <a:pt x="10611" y="8821"/>
                  <a:pt x="10691" y="878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44960" y="2990880"/>
            <a:ext cx="295200" cy="189000"/>
          </a:xfrm>
          <a:custGeom>
            <a:avLst/>
            <a:gdLst/>
            <a:ahLst/>
            <a:rect l="l" t="t" r="r" b="b"/>
            <a:pathLst>
              <a:path w="819" h="521">
                <a:moveTo>
                  <a:pt x="11237" y="8458"/>
                </a:moveTo>
                <a:cubicBezTo>
                  <a:pt x="11257" y="8513"/>
                  <a:pt x="11242" y="8624"/>
                  <a:pt x="11286" y="8657"/>
                </a:cubicBezTo>
                <a:cubicBezTo>
                  <a:pt x="11341" y="8698"/>
                  <a:pt x="11419" y="8591"/>
                  <a:pt x="11435" y="8582"/>
                </a:cubicBezTo>
                <a:cubicBezTo>
                  <a:pt x="11460" y="8582"/>
                  <a:pt x="11468" y="8582"/>
                  <a:pt x="11460" y="8558"/>
                </a:cubicBezTo>
              </a:path>
              <a:path w="819" h="521">
                <a:moveTo>
                  <a:pt x="11509" y="8359"/>
                </a:moveTo>
                <a:cubicBezTo>
                  <a:pt x="11469" y="8505"/>
                  <a:pt x="11460" y="8630"/>
                  <a:pt x="11460" y="8781"/>
                </a:cubicBezTo>
                <a:cubicBezTo>
                  <a:pt x="11460" y="8822"/>
                  <a:pt x="11460" y="8846"/>
                  <a:pt x="11460" y="8806"/>
                </a:cubicBezTo>
              </a:path>
              <a:path w="819" h="521">
                <a:moveTo>
                  <a:pt x="11857" y="8310"/>
                </a:moveTo>
                <a:cubicBezTo>
                  <a:pt x="11802" y="8386"/>
                  <a:pt x="11733" y="8531"/>
                  <a:pt x="11782" y="8632"/>
                </a:cubicBezTo>
                <a:cubicBezTo>
                  <a:pt x="11799" y="8640"/>
                  <a:pt x="11815" y="8649"/>
                  <a:pt x="11832" y="8657"/>
                </a:cubicBezTo>
                <a:cubicBezTo>
                  <a:pt x="11942" y="8657"/>
                  <a:pt x="12100" y="8574"/>
                  <a:pt x="12055" y="8409"/>
                </a:cubicBezTo>
                <a:cubicBezTo>
                  <a:pt x="12022" y="8289"/>
                  <a:pt x="11840" y="8297"/>
                  <a:pt x="11757" y="8334"/>
                </a:cubicBezTo>
                <a:cubicBezTo>
                  <a:pt x="11749" y="8342"/>
                  <a:pt x="11741" y="8351"/>
                  <a:pt x="11733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70320" y="2660760"/>
            <a:ext cx="1295640" cy="465120"/>
          </a:xfrm>
          <a:custGeom>
            <a:avLst/>
            <a:gdLst/>
            <a:ahLst/>
            <a:rect l="l" t="t" r="r" b="b"/>
            <a:pathLst>
              <a:path w="3598" h="1291">
                <a:moveTo>
                  <a:pt x="14833" y="7541"/>
                </a:moveTo>
                <a:cubicBezTo>
                  <a:pt x="14833" y="7623"/>
                  <a:pt x="14809" y="7686"/>
                  <a:pt x="14784" y="7764"/>
                </a:cubicBezTo>
                <a:cubicBezTo>
                  <a:pt x="14909" y="7750"/>
                  <a:pt x="15025" y="7699"/>
                  <a:pt x="15156" y="7714"/>
                </a:cubicBezTo>
                <a:cubicBezTo>
                  <a:pt x="15223" y="7722"/>
                  <a:pt x="15275" y="7771"/>
                  <a:pt x="15329" y="7789"/>
                </a:cubicBezTo>
                <a:cubicBezTo>
                  <a:pt x="15405" y="7815"/>
                  <a:pt x="15497" y="7687"/>
                  <a:pt x="15528" y="7640"/>
                </a:cubicBezTo>
                <a:cubicBezTo>
                  <a:pt x="15536" y="7623"/>
                  <a:pt x="15545" y="7607"/>
                  <a:pt x="15553" y="7590"/>
                </a:cubicBezTo>
              </a:path>
              <a:path w="3598" h="1291">
                <a:moveTo>
                  <a:pt x="14511" y="8136"/>
                </a:moveTo>
                <a:cubicBezTo>
                  <a:pt x="14460" y="8225"/>
                  <a:pt x="14439" y="8341"/>
                  <a:pt x="14387" y="8434"/>
                </a:cubicBezTo>
                <a:cubicBezTo>
                  <a:pt x="14379" y="8442"/>
                  <a:pt x="14370" y="8450"/>
                  <a:pt x="14362" y="8458"/>
                </a:cubicBezTo>
              </a:path>
              <a:path w="3598" h="1291">
                <a:moveTo>
                  <a:pt x="14610" y="8161"/>
                </a:moveTo>
                <a:cubicBezTo>
                  <a:pt x="14667" y="8155"/>
                  <a:pt x="14742" y="8109"/>
                  <a:pt x="14759" y="8161"/>
                </a:cubicBezTo>
                <a:cubicBezTo>
                  <a:pt x="14724" y="8216"/>
                  <a:pt x="14677" y="8303"/>
                  <a:pt x="14635" y="8260"/>
                </a:cubicBezTo>
                <a:cubicBezTo>
                  <a:pt x="14696" y="8260"/>
                  <a:pt x="14799" y="8258"/>
                  <a:pt x="14759" y="8359"/>
                </a:cubicBezTo>
                <a:cubicBezTo>
                  <a:pt x="14740" y="8407"/>
                  <a:pt x="14571" y="8539"/>
                  <a:pt x="14536" y="8434"/>
                </a:cubicBezTo>
                <a:cubicBezTo>
                  <a:pt x="14536" y="8409"/>
                  <a:pt x="14536" y="8384"/>
                  <a:pt x="14536" y="8359"/>
                </a:cubicBezTo>
              </a:path>
              <a:path w="3598" h="1291">
                <a:moveTo>
                  <a:pt x="14982" y="8161"/>
                </a:moveTo>
                <a:cubicBezTo>
                  <a:pt x="15012" y="8220"/>
                  <a:pt x="15107" y="8246"/>
                  <a:pt x="15156" y="8310"/>
                </a:cubicBezTo>
                <a:cubicBezTo>
                  <a:pt x="15247" y="8428"/>
                  <a:pt x="15067" y="8430"/>
                  <a:pt x="15007" y="8434"/>
                </a:cubicBezTo>
              </a:path>
              <a:path w="3598" h="1291">
                <a:moveTo>
                  <a:pt x="14957" y="8161"/>
                </a:moveTo>
                <a:cubicBezTo>
                  <a:pt x="15032" y="8126"/>
                  <a:pt x="15105" y="8095"/>
                  <a:pt x="15180" y="8062"/>
                </a:cubicBezTo>
              </a:path>
              <a:path w="3598" h="1291">
                <a:moveTo>
                  <a:pt x="16842" y="7516"/>
                </a:moveTo>
                <a:cubicBezTo>
                  <a:pt x="16900" y="7516"/>
                  <a:pt x="16958" y="7516"/>
                  <a:pt x="17016" y="7516"/>
                </a:cubicBezTo>
              </a:path>
              <a:path w="3598" h="1291">
                <a:moveTo>
                  <a:pt x="17165" y="7541"/>
                </a:moveTo>
                <a:cubicBezTo>
                  <a:pt x="17165" y="7639"/>
                  <a:pt x="17171" y="7723"/>
                  <a:pt x="17140" y="7813"/>
                </a:cubicBezTo>
              </a:path>
              <a:path w="3598" h="1291">
                <a:moveTo>
                  <a:pt x="17388" y="7491"/>
                </a:moveTo>
                <a:cubicBezTo>
                  <a:pt x="17446" y="7485"/>
                  <a:pt x="17533" y="7432"/>
                  <a:pt x="17537" y="7516"/>
                </a:cubicBezTo>
                <a:cubicBezTo>
                  <a:pt x="17542" y="7609"/>
                  <a:pt x="17533" y="7599"/>
                  <a:pt x="17462" y="7640"/>
                </a:cubicBezTo>
                <a:cubicBezTo>
                  <a:pt x="17454" y="7640"/>
                  <a:pt x="17446" y="7640"/>
                  <a:pt x="17438" y="7640"/>
                </a:cubicBezTo>
                <a:cubicBezTo>
                  <a:pt x="17465" y="7633"/>
                  <a:pt x="17582" y="7570"/>
                  <a:pt x="17587" y="7640"/>
                </a:cubicBezTo>
                <a:cubicBezTo>
                  <a:pt x="17592" y="7700"/>
                  <a:pt x="17373" y="7844"/>
                  <a:pt x="17338" y="7789"/>
                </a:cubicBezTo>
                <a:cubicBezTo>
                  <a:pt x="17338" y="7764"/>
                  <a:pt x="17338" y="7739"/>
                  <a:pt x="17338" y="7714"/>
                </a:cubicBezTo>
              </a:path>
              <a:path w="3598" h="1291">
                <a:moveTo>
                  <a:pt x="17735" y="7441"/>
                </a:moveTo>
                <a:cubicBezTo>
                  <a:pt x="17698" y="7544"/>
                  <a:pt x="17689" y="7544"/>
                  <a:pt x="17785" y="7590"/>
                </a:cubicBezTo>
                <a:cubicBezTo>
                  <a:pt x="17814" y="7604"/>
                  <a:pt x="17956" y="7651"/>
                  <a:pt x="17909" y="7714"/>
                </a:cubicBezTo>
                <a:cubicBezTo>
                  <a:pt x="17845" y="7746"/>
                  <a:pt x="17814" y="7750"/>
                  <a:pt x="17760" y="7714"/>
                </a:cubicBezTo>
              </a:path>
              <a:path w="3598" h="1291">
                <a:moveTo>
                  <a:pt x="17810" y="7441"/>
                </a:moveTo>
                <a:cubicBezTo>
                  <a:pt x="17884" y="7417"/>
                  <a:pt x="17909" y="7409"/>
                  <a:pt x="17959" y="7392"/>
                </a:cubicBezTo>
              </a:path>
              <a:path w="3598" h="1291">
                <a:moveTo>
                  <a:pt x="16942" y="7913"/>
                </a:moveTo>
                <a:cubicBezTo>
                  <a:pt x="17070" y="7913"/>
                  <a:pt x="17186" y="7904"/>
                  <a:pt x="17314" y="7888"/>
                </a:cubicBezTo>
                <a:cubicBezTo>
                  <a:pt x="17520" y="7863"/>
                  <a:pt x="17727" y="7823"/>
                  <a:pt x="17934" y="7813"/>
                </a:cubicBezTo>
                <a:cubicBezTo>
                  <a:pt x="17942" y="7813"/>
                  <a:pt x="17951" y="7813"/>
                  <a:pt x="17959" y="7813"/>
                </a:cubicBezTo>
              </a:path>
              <a:path w="3598" h="1291">
                <a:moveTo>
                  <a:pt x="15751" y="8458"/>
                </a:moveTo>
                <a:cubicBezTo>
                  <a:pt x="15732" y="8433"/>
                  <a:pt x="15708" y="8364"/>
                  <a:pt x="15776" y="8384"/>
                </a:cubicBezTo>
                <a:cubicBezTo>
                  <a:pt x="15868" y="8411"/>
                  <a:pt x="15931" y="8525"/>
                  <a:pt x="15999" y="8582"/>
                </a:cubicBezTo>
                <a:cubicBezTo>
                  <a:pt x="16027" y="8610"/>
                  <a:pt x="16036" y="8614"/>
                  <a:pt x="16024" y="8558"/>
                </a:cubicBezTo>
              </a:path>
              <a:path w="3598" h="1291">
                <a:moveTo>
                  <a:pt x="16024" y="8384"/>
                </a:moveTo>
                <a:cubicBezTo>
                  <a:pt x="16008" y="8406"/>
                  <a:pt x="15816" y="8690"/>
                  <a:pt x="15801" y="8682"/>
                </a:cubicBezTo>
                <a:cubicBezTo>
                  <a:pt x="15801" y="8665"/>
                  <a:pt x="15801" y="8649"/>
                  <a:pt x="15801" y="8632"/>
                </a:cubicBezTo>
              </a:path>
              <a:path w="3598" h="1291">
                <a:moveTo>
                  <a:pt x="16148" y="8434"/>
                </a:moveTo>
                <a:cubicBezTo>
                  <a:pt x="16260" y="8426"/>
                  <a:pt x="16359" y="8395"/>
                  <a:pt x="16470" y="8384"/>
                </a:cubicBezTo>
              </a:path>
              <a:path w="3598" h="1291">
                <a:moveTo>
                  <a:pt x="16346" y="8533"/>
                </a:moveTo>
                <a:cubicBezTo>
                  <a:pt x="16409" y="8520"/>
                  <a:pt x="16459" y="8489"/>
                  <a:pt x="16520" y="8458"/>
                </a:cubicBezTo>
              </a:path>
              <a:path w="3598" h="1291">
                <a:moveTo>
                  <a:pt x="16892" y="8210"/>
                </a:moveTo>
                <a:cubicBezTo>
                  <a:pt x="16900" y="8210"/>
                  <a:pt x="16909" y="8210"/>
                  <a:pt x="16917" y="8210"/>
                </a:cubicBezTo>
                <a:cubicBezTo>
                  <a:pt x="16926" y="8254"/>
                  <a:pt x="16936" y="8288"/>
                  <a:pt x="16942" y="8334"/>
                </a:cubicBezTo>
                <a:cubicBezTo>
                  <a:pt x="17007" y="8334"/>
                  <a:pt x="17027" y="8367"/>
                  <a:pt x="17090" y="8334"/>
                </a:cubicBezTo>
                <a:cubicBezTo>
                  <a:pt x="17098" y="8326"/>
                  <a:pt x="17107" y="8318"/>
                  <a:pt x="17115" y="8310"/>
                </a:cubicBezTo>
              </a:path>
              <a:path w="3598" h="1291">
                <a:moveTo>
                  <a:pt x="17140" y="8136"/>
                </a:moveTo>
                <a:cubicBezTo>
                  <a:pt x="17120" y="8234"/>
                  <a:pt x="17080" y="8331"/>
                  <a:pt x="17066" y="8434"/>
                </a:cubicBezTo>
                <a:cubicBezTo>
                  <a:pt x="17066" y="8475"/>
                  <a:pt x="17066" y="8483"/>
                  <a:pt x="17066" y="8508"/>
                </a:cubicBezTo>
              </a:path>
              <a:path w="3598" h="1291">
                <a:moveTo>
                  <a:pt x="17462" y="8161"/>
                </a:moveTo>
                <a:cubicBezTo>
                  <a:pt x="17426" y="8167"/>
                  <a:pt x="17334" y="8170"/>
                  <a:pt x="17314" y="8210"/>
                </a:cubicBezTo>
                <a:cubicBezTo>
                  <a:pt x="17300" y="8238"/>
                  <a:pt x="17314" y="8300"/>
                  <a:pt x="17314" y="8334"/>
                </a:cubicBezTo>
                <a:cubicBezTo>
                  <a:pt x="17368" y="8334"/>
                  <a:pt x="17408" y="8314"/>
                  <a:pt x="17462" y="8310"/>
                </a:cubicBezTo>
                <a:cubicBezTo>
                  <a:pt x="17547" y="8304"/>
                  <a:pt x="17566" y="8435"/>
                  <a:pt x="17512" y="8483"/>
                </a:cubicBezTo>
                <a:cubicBezTo>
                  <a:pt x="17446" y="8542"/>
                  <a:pt x="17332" y="8497"/>
                  <a:pt x="17264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33680" y="303696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4837" y="8632"/>
                </a:moveTo>
                <a:cubicBezTo>
                  <a:pt x="4786" y="8611"/>
                  <a:pt x="4752" y="8562"/>
                  <a:pt x="4688" y="8558"/>
                </a:cubicBezTo>
                <a:cubicBezTo>
                  <a:pt x="4575" y="8551"/>
                  <a:pt x="4514" y="8708"/>
                  <a:pt x="4539" y="8806"/>
                </a:cubicBezTo>
                <a:cubicBezTo>
                  <a:pt x="4570" y="8924"/>
                  <a:pt x="4665" y="8892"/>
                  <a:pt x="4688" y="8855"/>
                </a:cubicBezTo>
                <a:cubicBezTo>
                  <a:pt x="4736" y="8784"/>
                  <a:pt x="4752" y="8763"/>
                  <a:pt x="4762" y="8706"/>
                </a:cubicBezTo>
                <a:cubicBezTo>
                  <a:pt x="4770" y="8698"/>
                  <a:pt x="4779" y="8690"/>
                  <a:pt x="4787" y="8682"/>
                </a:cubicBezTo>
                <a:cubicBezTo>
                  <a:pt x="4811" y="8775"/>
                  <a:pt x="4879" y="8880"/>
                  <a:pt x="4911" y="8979"/>
                </a:cubicBezTo>
                <a:cubicBezTo>
                  <a:pt x="4932" y="9062"/>
                  <a:pt x="4940" y="9077"/>
                  <a:pt x="4936" y="9128"/>
                </a:cubicBezTo>
              </a:path>
              <a:path w="820" h="745">
                <a:moveTo>
                  <a:pt x="5035" y="8731"/>
                </a:moveTo>
                <a:cubicBezTo>
                  <a:pt x="5046" y="8850"/>
                  <a:pt x="5054" y="9020"/>
                  <a:pt x="5110" y="9128"/>
                </a:cubicBezTo>
                <a:cubicBezTo>
                  <a:pt x="5126" y="9145"/>
                  <a:pt x="5143" y="9161"/>
                  <a:pt x="5159" y="9178"/>
                </a:cubicBezTo>
                <a:cubicBezTo>
                  <a:pt x="5295" y="9144"/>
                  <a:pt x="5319" y="9020"/>
                  <a:pt x="5308" y="8880"/>
                </a:cubicBezTo>
                <a:cubicBezTo>
                  <a:pt x="5295" y="8717"/>
                  <a:pt x="5186" y="8731"/>
                  <a:pt x="5060" y="8731"/>
                </a:cubicBezTo>
              </a:path>
              <a:path w="820" h="745">
                <a:moveTo>
                  <a:pt x="5259" y="8458"/>
                </a:moveTo>
                <a:cubicBezTo>
                  <a:pt x="5265" y="8503"/>
                  <a:pt x="5287" y="8604"/>
                  <a:pt x="5358" y="8533"/>
                </a:cubicBezTo>
                <a:cubicBezTo>
                  <a:pt x="5389" y="8502"/>
                  <a:pt x="5367" y="8414"/>
                  <a:pt x="5308" y="8434"/>
                </a:cubicBezTo>
                <a:cubicBezTo>
                  <a:pt x="5275" y="8450"/>
                  <a:pt x="5242" y="8467"/>
                  <a:pt x="5209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Proble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31-132  problems 1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44680" y="639288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538" y="17810"/>
                </a:moveTo>
                <a:cubicBezTo>
                  <a:pt x="1530" y="17793"/>
                  <a:pt x="1521" y="17777"/>
                  <a:pt x="1513" y="1776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768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4089240"/>
            <a:ext cx="4330800" cy="723960"/>
          </a:xfrm>
          <a:custGeom>
            <a:avLst/>
            <a:gdLst/>
            <a:ahLst/>
            <a:rect l="l" t="t" r="r" b="b"/>
            <a:pathLst>
              <a:path w="12031" h="2010">
                <a:moveTo>
                  <a:pt x="13295" y="13171"/>
                </a:moveTo>
                <a:cubicBezTo>
                  <a:pt x="13178" y="13288"/>
                  <a:pt x="13146" y="13324"/>
                  <a:pt x="13047" y="13370"/>
                </a:cubicBezTo>
              </a:path>
              <a:path w="12031" h="2010">
                <a:moveTo>
                  <a:pt x="12750" y="13047"/>
                </a:moveTo>
                <a:cubicBezTo>
                  <a:pt x="12722" y="13125"/>
                  <a:pt x="12690" y="13173"/>
                  <a:pt x="12650" y="13246"/>
                </a:cubicBezTo>
                <a:cubicBezTo>
                  <a:pt x="12642" y="13262"/>
                  <a:pt x="12634" y="13279"/>
                  <a:pt x="12626" y="13295"/>
                </a:cubicBezTo>
                <a:cubicBezTo>
                  <a:pt x="12655" y="13179"/>
                  <a:pt x="12762" y="13088"/>
                  <a:pt x="12849" y="12998"/>
                </a:cubicBezTo>
                <a:cubicBezTo>
                  <a:pt x="13001" y="12842"/>
                  <a:pt x="13159" y="12697"/>
                  <a:pt x="13320" y="12551"/>
                </a:cubicBezTo>
                <a:cubicBezTo>
                  <a:pt x="13414" y="12466"/>
                  <a:pt x="13487" y="12372"/>
                  <a:pt x="13568" y="12278"/>
                </a:cubicBezTo>
                <a:cubicBezTo>
                  <a:pt x="13614" y="12225"/>
                  <a:pt x="13776" y="12141"/>
                  <a:pt x="13717" y="12179"/>
                </a:cubicBezTo>
                <a:cubicBezTo>
                  <a:pt x="13692" y="12187"/>
                  <a:pt x="13668" y="12196"/>
                  <a:pt x="13643" y="12204"/>
                </a:cubicBezTo>
              </a:path>
              <a:path w="12031" h="2010">
                <a:moveTo>
                  <a:pt x="9475" y="12154"/>
                </a:moveTo>
                <a:cubicBezTo>
                  <a:pt x="9531" y="12230"/>
                  <a:pt x="9595" y="12333"/>
                  <a:pt x="9674" y="12402"/>
                </a:cubicBezTo>
                <a:cubicBezTo>
                  <a:pt x="9776" y="12491"/>
                  <a:pt x="9874" y="12578"/>
                  <a:pt x="9971" y="12675"/>
                </a:cubicBezTo>
                <a:cubicBezTo>
                  <a:pt x="10055" y="12759"/>
                  <a:pt x="10121" y="12870"/>
                  <a:pt x="10195" y="12948"/>
                </a:cubicBezTo>
                <a:cubicBezTo>
                  <a:pt x="10226" y="12981"/>
                  <a:pt x="10280" y="13031"/>
                  <a:pt x="10319" y="13072"/>
                </a:cubicBezTo>
                <a:cubicBezTo>
                  <a:pt x="10371" y="13127"/>
                  <a:pt x="10383" y="13192"/>
                  <a:pt x="10418" y="13246"/>
                </a:cubicBezTo>
                <a:cubicBezTo>
                  <a:pt x="10438" y="13277"/>
                  <a:pt x="10450" y="13318"/>
                  <a:pt x="10468" y="13345"/>
                </a:cubicBezTo>
                <a:cubicBezTo>
                  <a:pt x="10474" y="13354"/>
                  <a:pt x="10509" y="13362"/>
                  <a:pt x="10517" y="13370"/>
                </a:cubicBezTo>
              </a:path>
              <a:path w="12031" h="2010">
                <a:moveTo>
                  <a:pt x="1761" y="12626"/>
                </a:moveTo>
                <a:cubicBezTo>
                  <a:pt x="1794" y="12631"/>
                  <a:pt x="1803" y="12647"/>
                  <a:pt x="1836" y="12650"/>
                </a:cubicBezTo>
                <a:cubicBezTo>
                  <a:pt x="2036" y="12667"/>
                  <a:pt x="2233" y="12654"/>
                  <a:pt x="2431" y="12675"/>
                </a:cubicBezTo>
                <a:cubicBezTo>
                  <a:pt x="2553" y="12688"/>
                  <a:pt x="2680" y="12710"/>
                  <a:pt x="2803" y="12725"/>
                </a:cubicBezTo>
                <a:cubicBezTo>
                  <a:pt x="2959" y="12744"/>
                  <a:pt x="3117" y="12735"/>
                  <a:pt x="3274" y="12750"/>
                </a:cubicBezTo>
                <a:cubicBezTo>
                  <a:pt x="3474" y="12769"/>
                  <a:pt x="3668" y="12774"/>
                  <a:pt x="3870" y="12774"/>
                </a:cubicBezTo>
                <a:cubicBezTo>
                  <a:pt x="4122" y="12774"/>
                  <a:pt x="4362" y="12786"/>
                  <a:pt x="4614" y="12774"/>
                </a:cubicBezTo>
                <a:cubicBezTo>
                  <a:pt x="5002" y="12756"/>
                  <a:pt x="5391" y="12779"/>
                  <a:pt x="5779" y="12750"/>
                </a:cubicBezTo>
                <a:cubicBezTo>
                  <a:pt x="6753" y="12677"/>
                  <a:pt x="7734" y="12595"/>
                  <a:pt x="8706" y="12502"/>
                </a:cubicBezTo>
                <a:cubicBezTo>
                  <a:pt x="8808" y="12492"/>
                  <a:pt x="8902" y="12481"/>
                  <a:pt x="9004" y="12477"/>
                </a:cubicBezTo>
              </a:path>
              <a:path w="12031" h="2010">
                <a:moveTo>
                  <a:pt x="5060" y="11361"/>
                </a:moveTo>
                <a:cubicBezTo>
                  <a:pt x="5024" y="11374"/>
                  <a:pt x="4975" y="11403"/>
                  <a:pt x="4961" y="11410"/>
                </a:cubicBezTo>
                <a:cubicBezTo>
                  <a:pt x="4888" y="11447"/>
                  <a:pt x="4809" y="11477"/>
                  <a:pt x="4738" y="11509"/>
                </a:cubicBezTo>
                <a:cubicBezTo>
                  <a:pt x="4676" y="11537"/>
                  <a:pt x="4638" y="11545"/>
                  <a:pt x="4564" y="11559"/>
                </a:cubicBezTo>
                <a:cubicBezTo>
                  <a:pt x="4493" y="11572"/>
                  <a:pt x="4415" y="11601"/>
                  <a:pt x="4341" y="11609"/>
                </a:cubicBezTo>
                <a:cubicBezTo>
                  <a:pt x="4226" y="11621"/>
                  <a:pt x="4107" y="11638"/>
                  <a:pt x="3994" y="11658"/>
                </a:cubicBezTo>
                <a:cubicBezTo>
                  <a:pt x="3869" y="11679"/>
                  <a:pt x="3744" y="11726"/>
                  <a:pt x="3621" y="11757"/>
                </a:cubicBezTo>
                <a:cubicBezTo>
                  <a:pt x="3502" y="11787"/>
                  <a:pt x="3393" y="11798"/>
                  <a:pt x="3274" y="11832"/>
                </a:cubicBezTo>
                <a:cubicBezTo>
                  <a:pt x="3217" y="11848"/>
                  <a:pt x="3159" y="11845"/>
                  <a:pt x="3101" y="11857"/>
                </a:cubicBezTo>
                <a:cubicBezTo>
                  <a:pt x="3040" y="11870"/>
                  <a:pt x="2984" y="11906"/>
                  <a:pt x="2927" y="11931"/>
                </a:cubicBezTo>
                <a:cubicBezTo>
                  <a:pt x="2852" y="11963"/>
                  <a:pt x="2779" y="11998"/>
                  <a:pt x="2704" y="12030"/>
                </a:cubicBezTo>
                <a:cubicBezTo>
                  <a:pt x="2614" y="12068"/>
                  <a:pt x="2545" y="12120"/>
                  <a:pt x="2456" y="12154"/>
                </a:cubicBezTo>
                <a:cubicBezTo>
                  <a:pt x="2384" y="12182"/>
                  <a:pt x="2298" y="12202"/>
                  <a:pt x="2232" y="12229"/>
                </a:cubicBezTo>
                <a:cubicBezTo>
                  <a:pt x="2184" y="12248"/>
                  <a:pt x="2098" y="12278"/>
                  <a:pt x="2059" y="12303"/>
                </a:cubicBezTo>
                <a:cubicBezTo>
                  <a:pt x="2019" y="12329"/>
                  <a:pt x="1987" y="12332"/>
                  <a:pt x="1960" y="12353"/>
                </a:cubicBezTo>
                <a:cubicBezTo>
                  <a:pt x="1875" y="12420"/>
                  <a:pt x="1791" y="12503"/>
                  <a:pt x="1712" y="12576"/>
                </a:cubicBezTo>
                <a:cubicBezTo>
                  <a:pt x="1704" y="12584"/>
                  <a:pt x="1695" y="12593"/>
                  <a:pt x="1687" y="12601"/>
                </a:cubicBezTo>
              </a:path>
              <a:path w="12031" h="2010">
                <a:moveTo>
                  <a:pt x="5060" y="11460"/>
                </a:moveTo>
                <a:cubicBezTo>
                  <a:pt x="5089" y="11455"/>
                  <a:pt x="5139" y="11453"/>
                  <a:pt x="5209" y="11460"/>
                </a:cubicBezTo>
                <a:cubicBezTo>
                  <a:pt x="5282" y="11467"/>
                  <a:pt x="5338" y="11470"/>
                  <a:pt x="5407" y="11485"/>
                </a:cubicBezTo>
                <a:cubicBezTo>
                  <a:pt x="5482" y="11501"/>
                  <a:pt x="5556" y="11506"/>
                  <a:pt x="5631" y="11534"/>
                </a:cubicBezTo>
                <a:cubicBezTo>
                  <a:pt x="5706" y="11562"/>
                  <a:pt x="5810" y="11592"/>
                  <a:pt x="5879" y="11633"/>
                </a:cubicBezTo>
                <a:cubicBezTo>
                  <a:pt x="5977" y="11691"/>
                  <a:pt x="6068" y="11734"/>
                  <a:pt x="6176" y="11782"/>
                </a:cubicBezTo>
                <a:cubicBezTo>
                  <a:pt x="6248" y="11814"/>
                  <a:pt x="6323" y="11863"/>
                  <a:pt x="6400" y="11881"/>
                </a:cubicBezTo>
                <a:cubicBezTo>
                  <a:pt x="6484" y="11901"/>
                  <a:pt x="6563" y="11933"/>
                  <a:pt x="6648" y="11956"/>
                </a:cubicBezTo>
                <a:cubicBezTo>
                  <a:pt x="6732" y="11979"/>
                  <a:pt x="6809" y="12003"/>
                  <a:pt x="6896" y="12030"/>
                </a:cubicBezTo>
                <a:cubicBezTo>
                  <a:pt x="6987" y="12058"/>
                  <a:pt x="7076" y="12075"/>
                  <a:pt x="7169" y="12105"/>
                </a:cubicBezTo>
                <a:cubicBezTo>
                  <a:pt x="7251" y="12132"/>
                  <a:pt x="7358" y="12164"/>
                  <a:pt x="7441" y="12179"/>
                </a:cubicBezTo>
                <a:cubicBezTo>
                  <a:pt x="7544" y="12198"/>
                  <a:pt x="7636" y="12226"/>
                  <a:pt x="7739" y="12254"/>
                </a:cubicBezTo>
                <a:cubicBezTo>
                  <a:pt x="7881" y="12292"/>
                  <a:pt x="8019" y="12340"/>
                  <a:pt x="8161" y="12378"/>
                </a:cubicBezTo>
                <a:cubicBezTo>
                  <a:pt x="8280" y="12410"/>
                  <a:pt x="8389" y="12412"/>
                  <a:pt x="8508" y="12452"/>
                </a:cubicBezTo>
                <a:cubicBezTo>
                  <a:pt x="8556" y="12468"/>
                  <a:pt x="8582" y="12494"/>
                  <a:pt x="8632" y="12502"/>
                </a:cubicBezTo>
                <a:cubicBezTo>
                  <a:pt x="8649" y="12505"/>
                  <a:pt x="8740" y="12490"/>
                  <a:pt x="8682" y="12502"/>
                </a:cubicBezTo>
                <a:cubicBezTo>
                  <a:pt x="8665" y="12502"/>
                  <a:pt x="8649" y="12502"/>
                  <a:pt x="8632" y="12502"/>
                </a:cubicBezTo>
              </a:path>
              <a:path w="12031" h="2010">
                <a:moveTo>
                  <a:pt x="4911" y="11485"/>
                </a:moveTo>
                <a:cubicBezTo>
                  <a:pt x="4927" y="11469"/>
                  <a:pt x="4935" y="11461"/>
                  <a:pt x="4961" y="11435"/>
                </a:cubicBezTo>
                <a:cubicBezTo>
                  <a:pt x="4873" y="11464"/>
                  <a:pt x="4744" y="11490"/>
                  <a:pt x="4663" y="11534"/>
                </a:cubicBezTo>
                <a:cubicBezTo>
                  <a:pt x="4552" y="11594"/>
                  <a:pt x="4447" y="11625"/>
                  <a:pt x="4316" y="11658"/>
                </a:cubicBezTo>
                <a:cubicBezTo>
                  <a:pt x="4163" y="11697"/>
                  <a:pt x="4018" y="11753"/>
                  <a:pt x="3870" y="11807"/>
                </a:cubicBezTo>
                <a:cubicBezTo>
                  <a:pt x="3812" y="11828"/>
                  <a:pt x="3756" y="11852"/>
                  <a:pt x="3696" y="11881"/>
                </a:cubicBezTo>
                <a:cubicBezTo>
                  <a:pt x="3627" y="11914"/>
                  <a:pt x="3551" y="11966"/>
                  <a:pt x="3473" y="12005"/>
                </a:cubicBezTo>
                <a:cubicBezTo>
                  <a:pt x="3391" y="12046"/>
                  <a:pt x="3303" y="12090"/>
                  <a:pt x="3225" y="12129"/>
                </a:cubicBezTo>
                <a:cubicBezTo>
                  <a:pt x="3132" y="12175"/>
                  <a:pt x="3024" y="12218"/>
                  <a:pt x="2927" y="12254"/>
                </a:cubicBezTo>
                <a:cubicBezTo>
                  <a:pt x="2835" y="12288"/>
                  <a:pt x="2741" y="12331"/>
                  <a:pt x="2654" y="12378"/>
                </a:cubicBezTo>
                <a:cubicBezTo>
                  <a:pt x="2580" y="12418"/>
                  <a:pt x="2505" y="12445"/>
                  <a:pt x="2431" y="12477"/>
                </a:cubicBezTo>
                <a:cubicBezTo>
                  <a:pt x="2383" y="12498"/>
                  <a:pt x="2322" y="12527"/>
                  <a:pt x="2282" y="12551"/>
                </a:cubicBezTo>
                <a:cubicBezTo>
                  <a:pt x="2205" y="12597"/>
                  <a:pt x="2133" y="12649"/>
                  <a:pt x="2059" y="12700"/>
                </a:cubicBezTo>
                <a:cubicBezTo>
                  <a:pt x="2134" y="12665"/>
                  <a:pt x="2203" y="12625"/>
                  <a:pt x="2282" y="12576"/>
                </a:cubicBezTo>
                <a:cubicBezTo>
                  <a:pt x="2546" y="12413"/>
                  <a:pt x="2812" y="12287"/>
                  <a:pt x="3101" y="12179"/>
                </a:cubicBezTo>
                <a:cubicBezTo>
                  <a:pt x="3282" y="12111"/>
                  <a:pt x="3463" y="12038"/>
                  <a:pt x="3646" y="11981"/>
                </a:cubicBezTo>
              </a:path>
              <a:path w="12031" h="2010">
                <a:moveTo>
                  <a:pt x="2902" y="11757"/>
                </a:moveTo>
                <a:cubicBezTo>
                  <a:pt x="2962" y="11671"/>
                  <a:pt x="3108" y="11865"/>
                  <a:pt x="3150" y="11906"/>
                </a:cubicBezTo>
                <a:cubicBezTo>
                  <a:pt x="3281" y="12034"/>
                  <a:pt x="3454" y="12166"/>
                  <a:pt x="3572" y="12303"/>
                </a:cubicBezTo>
                <a:cubicBezTo>
                  <a:pt x="3605" y="12341"/>
                  <a:pt x="3576" y="12324"/>
                  <a:pt x="3671" y="12353"/>
                </a:cubicBezTo>
              </a:path>
              <a:path w="12031" h="2010">
                <a:moveTo>
                  <a:pt x="6921" y="11807"/>
                </a:moveTo>
                <a:cubicBezTo>
                  <a:pt x="6841" y="11767"/>
                  <a:pt x="6763" y="11944"/>
                  <a:pt x="6722" y="12005"/>
                </a:cubicBezTo>
                <a:cubicBezTo>
                  <a:pt x="6677" y="12072"/>
                  <a:pt x="6488" y="12306"/>
                  <a:pt x="6499" y="123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628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652920"/>
            <a:ext cx="1116000" cy="544320"/>
          </a:xfrm>
          <a:custGeom>
            <a:avLst/>
            <a:gdLst/>
            <a:ahLst/>
            <a:rect l="l" t="t" r="r" b="b"/>
            <a:pathLst>
              <a:path w="3102" h="1514">
                <a:moveTo>
                  <a:pt x="2952" y="10592"/>
                </a:moveTo>
                <a:cubicBezTo>
                  <a:pt x="2952" y="10714"/>
                  <a:pt x="2962" y="10844"/>
                  <a:pt x="2977" y="10964"/>
                </a:cubicBezTo>
                <a:cubicBezTo>
                  <a:pt x="2992" y="11080"/>
                  <a:pt x="3001" y="11427"/>
                  <a:pt x="3001" y="11311"/>
                </a:cubicBezTo>
                <a:cubicBezTo>
                  <a:pt x="3001" y="11294"/>
                  <a:pt x="3001" y="11278"/>
                  <a:pt x="3001" y="11261"/>
                </a:cubicBezTo>
              </a:path>
              <a:path w="3102" h="1514">
                <a:moveTo>
                  <a:pt x="2406" y="10567"/>
                </a:moveTo>
                <a:cubicBezTo>
                  <a:pt x="2534" y="10567"/>
                  <a:pt x="2650" y="10578"/>
                  <a:pt x="2778" y="10592"/>
                </a:cubicBezTo>
                <a:cubicBezTo>
                  <a:pt x="3023" y="10619"/>
                  <a:pt x="3262" y="10636"/>
                  <a:pt x="3497" y="10716"/>
                </a:cubicBezTo>
                <a:cubicBezTo>
                  <a:pt x="3538" y="10736"/>
                  <a:pt x="3555" y="10733"/>
                  <a:pt x="3547" y="10765"/>
                </a:cubicBezTo>
              </a:path>
              <a:path w="3102" h="1514">
                <a:moveTo>
                  <a:pt x="2431" y="11336"/>
                </a:moveTo>
                <a:cubicBezTo>
                  <a:pt x="2613" y="11304"/>
                  <a:pt x="2793" y="11317"/>
                  <a:pt x="2977" y="11336"/>
                </a:cubicBezTo>
                <a:cubicBezTo>
                  <a:pt x="3119" y="11350"/>
                  <a:pt x="3258" y="11398"/>
                  <a:pt x="3398" y="11410"/>
                </a:cubicBezTo>
                <a:cubicBezTo>
                  <a:pt x="3406" y="11410"/>
                  <a:pt x="3415" y="11410"/>
                  <a:pt x="3423" y="11410"/>
                </a:cubicBezTo>
              </a:path>
              <a:path w="3102" h="1514">
                <a:moveTo>
                  <a:pt x="4217" y="11038"/>
                </a:moveTo>
                <a:cubicBezTo>
                  <a:pt x="4116" y="10979"/>
                  <a:pt x="4037" y="10943"/>
                  <a:pt x="3919" y="10939"/>
                </a:cubicBezTo>
                <a:cubicBezTo>
                  <a:pt x="3825" y="10936"/>
                  <a:pt x="3778" y="10952"/>
                  <a:pt x="3696" y="10988"/>
                </a:cubicBezTo>
                <a:cubicBezTo>
                  <a:pt x="3696" y="11066"/>
                  <a:pt x="3701" y="11135"/>
                  <a:pt x="3795" y="11162"/>
                </a:cubicBezTo>
                <a:cubicBezTo>
                  <a:pt x="3906" y="11194"/>
                  <a:pt x="4170" y="11164"/>
                  <a:pt x="4242" y="11286"/>
                </a:cubicBezTo>
                <a:cubicBezTo>
                  <a:pt x="4295" y="11375"/>
                  <a:pt x="4195" y="11481"/>
                  <a:pt x="4118" y="11509"/>
                </a:cubicBezTo>
                <a:cubicBezTo>
                  <a:pt x="3977" y="11560"/>
                  <a:pt x="3771" y="11514"/>
                  <a:pt x="3646" y="11435"/>
                </a:cubicBezTo>
                <a:cubicBezTo>
                  <a:pt x="3608" y="11396"/>
                  <a:pt x="3591" y="11395"/>
                  <a:pt x="3597" y="11361"/>
                </a:cubicBezTo>
              </a:path>
              <a:path w="3102" h="1514">
                <a:moveTo>
                  <a:pt x="4837" y="11112"/>
                </a:moveTo>
                <a:cubicBezTo>
                  <a:pt x="4709" y="11134"/>
                  <a:pt x="4676" y="11175"/>
                  <a:pt x="4614" y="11286"/>
                </a:cubicBezTo>
                <a:cubicBezTo>
                  <a:pt x="4564" y="11376"/>
                  <a:pt x="4467" y="11609"/>
                  <a:pt x="4638" y="11658"/>
                </a:cubicBezTo>
                <a:cubicBezTo>
                  <a:pt x="4813" y="11708"/>
                  <a:pt x="5144" y="11610"/>
                  <a:pt x="5209" y="11435"/>
                </a:cubicBezTo>
                <a:cubicBezTo>
                  <a:pt x="5275" y="11258"/>
                  <a:pt x="5055" y="11141"/>
                  <a:pt x="4936" y="11088"/>
                </a:cubicBezTo>
                <a:cubicBezTo>
                  <a:pt x="4843" y="11047"/>
                  <a:pt x="4838" y="11042"/>
                  <a:pt x="4862" y="11112"/>
                </a:cubicBezTo>
              </a:path>
              <a:path w="3102" h="1514">
                <a:moveTo>
                  <a:pt x="5507" y="11509"/>
                </a:moveTo>
                <a:cubicBezTo>
                  <a:pt x="5507" y="11517"/>
                  <a:pt x="5507" y="11526"/>
                  <a:pt x="5507" y="11534"/>
                </a:cubicBezTo>
              </a:path>
              <a:path w="3102" h="1514">
                <a:moveTo>
                  <a:pt x="4366" y="10145"/>
                </a:moveTo>
                <a:cubicBezTo>
                  <a:pt x="4527" y="10168"/>
                  <a:pt x="4678" y="10236"/>
                  <a:pt x="4837" y="10269"/>
                </a:cubicBezTo>
                <a:cubicBezTo>
                  <a:pt x="4918" y="10286"/>
                  <a:pt x="5066" y="10267"/>
                  <a:pt x="5135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2724120"/>
            <a:ext cx="179280" cy="61920"/>
          </a:xfrm>
          <a:custGeom>
            <a:avLst/>
            <a:gdLst/>
            <a:ahLst/>
            <a:rect l="l" t="t" r="r" b="b"/>
            <a:pathLst>
              <a:path w="497" h="175">
                <a:moveTo>
                  <a:pt x="1067" y="7590"/>
                </a:moveTo>
                <a:cubicBezTo>
                  <a:pt x="1130" y="7563"/>
                  <a:pt x="1199" y="7566"/>
                  <a:pt x="1265" y="7590"/>
                </a:cubicBezTo>
                <a:cubicBezTo>
                  <a:pt x="1372" y="7628"/>
                  <a:pt x="1454" y="7708"/>
                  <a:pt x="1563" y="77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2581200"/>
            <a:ext cx="660240" cy="554040"/>
          </a:xfrm>
          <a:custGeom>
            <a:avLst/>
            <a:gdLst/>
            <a:ahLst/>
            <a:rect l="l" t="t" r="r" b="b"/>
            <a:pathLst>
              <a:path w="1837" h="1538">
                <a:moveTo>
                  <a:pt x="11137" y="7367"/>
                </a:moveTo>
                <a:cubicBezTo>
                  <a:pt x="11286" y="7452"/>
                  <a:pt x="11438" y="7513"/>
                  <a:pt x="11609" y="7541"/>
                </a:cubicBezTo>
                <a:cubicBezTo>
                  <a:pt x="11650" y="7541"/>
                  <a:pt x="11658" y="7541"/>
                  <a:pt x="11683" y="7541"/>
                </a:cubicBezTo>
                <a:cubicBezTo>
                  <a:pt x="11672" y="7399"/>
                  <a:pt x="11635" y="7355"/>
                  <a:pt x="11559" y="7243"/>
                </a:cubicBezTo>
                <a:cubicBezTo>
                  <a:pt x="11512" y="7174"/>
                  <a:pt x="11446" y="7129"/>
                  <a:pt x="11361" y="7193"/>
                </a:cubicBezTo>
                <a:cubicBezTo>
                  <a:pt x="11190" y="7321"/>
                  <a:pt x="11141" y="7541"/>
                  <a:pt x="11187" y="7739"/>
                </a:cubicBezTo>
                <a:cubicBezTo>
                  <a:pt x="11237" y="7957"/>
                  <a:pt x="11441" y="7877"/>
                  <a:pt x="11584" y="7838"/>
                </a:cubicBezTo>
              </a:path>
              <a:path w="1837" h="1538">
                <a:moveTo>
                  <a:pt x="12129" y="7392"/>
                </a:moveTo>
                <a:cubicBezTo>
                  <a:pt x="12056" y="7298"/>
                  <a:pt x="12013" y="7296"/>
                  <a:pt x="11881" y="7342"/>
                </a:cubicBezTo>
                <a:cubicBezTo>
                  <a:pt x="11736" y="7392"/>
                  <a:pt x="11639" y="7559"/>
                  <a:pt x="11683" y="7714"/>
                </a:cubicBezTo>
                <a:cubicBezTo>
                  <a:pt x="11735" y="7897"/>
                  <a:pt x="11974" y="7772"/>
                  <a:pt x="12055" y="7689"/>
                </a:cubicBezTo>
                <a:cubicBezTo>
                  <a:pt x="12072" y="7656"/>
                  <a:pt x="12088" y="7623"/>
                  <a:pt x="12105" y="7590"/>
                </a:cubicBezTo>
                <a:cubicBezTo>
                  <a:pt x="12113" y="7582"/>
                  <a:pt x="12121" y="7573"/>
                  <a:pt x="12129" y="7565"/>
                </a:cubicBezTo>
                <a:cubicBezTo>
                  <a:pt x="12064" y="7633"/>
                  <a:pt x="12057" y="7685"/>
                  <a:pt x="12005" y="7764"/>
                </a:cubicBezTo>
                <a:cubicBezTo>
                  <a:pt x="11841" y="8010"/>
                  <a:pt x="11655" y="8222"/>
                  <a:pt x="11559" y="8508"/>
                </a:cubicBezTo>
                <a:cubicBezTo>
                  <a:pt x="11510" y="8654"/>
                  <a:pt x="11505" y="8672"/>
                  <a:pt x="11609" y="8706"/>
                </a:cubicBezTo>
                <a:cubicBezTo>
                  <a:pt x="11792" y="8588"/>
                  <a:pt x="11950" y="8458"/>
                  <a:pt x="12005" y="8235"/>
                </a:cubicBezTo>
                <a:cubicBezTo>
                  <a:pt x="12036" y="8111"/>
                  <a:pt x="11960" y="8077"/>
                  <a:pt x="11881" y="8012"/>
                </a:cubicBezTo>
              </a:path>
              <a:path w="1837" h="1538">
                <a:moveTo>
                  <a:pt x="12402" y="7541"/>
                </a:moveTo>
                <a:cubicBezTo>
                  <a:pt x="12368" y="7434"/>
                  <a:pt x="12283" y="7727"/>
                  <a:pt x="12278" y="7739"/>
                </a:cubicBezTo>
                <a:cubicBezTo>
                  <a:pt x="12234" y="7846"/>
                  <a:pt x="12196" y="7927"/>
                  <a:pt x="12179" y="8037"/>
                </a:cubicBezTo>
                <a:cubicBezTo>
                  <a:pt x="12365" y="8099"/>
                  <a:pt x="12522" y="7974"/>
                  <a:pt x="12650" y="7838"/>
                </a:cubicBezTo>
                <a:cubicBezTo>
                  <a:pt x="12719" y="7765"/>
                  <a:pt x="12772" y="7659"/>
                  <a:pt x="12799" y="7565"/>
                </a:cubicBezTo>
                <a:cubicBezTo>
                  <a:pt x="12757" y="7579"/>
                  <a:pt x="12713" y="7720"/>
                  <a:pt x="12700" y="7764"/>
                </a:cubicBezTo>
                <a:cubicBezTo>
                  <a:pt x="12665" y="7884"/>
                  <a:pt x="12675" y="7970"/>
                  <a:pt x="12700" y="8086"/>
                </a:cubicBezTo>
              </a:path>
              <a:path w="1837" h="1538">
                <a:moveTo>
                  <a:pt x="12973" y="8111"/>
                </a:moveTo>
                <a:lnTo>
                  <a:pt x="12973" y="811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1840" y="2303640"/>
            <a:ext cx="303120" cy="36360"/>
          </a:xfrm>
          <a:custGeom>
            <a:avLst/>
            <a:gdLst/>
            <a:ahLst/>
            <a:rect l="l" t="t" r="r" b="b"/>
            <a:pathLst>
              <a:path w="844" h="100">
                <a:moveTo>
                  <a:pt x="13643" y="6400"/>
                </a:moveTo>
                <a:cubicBezTo>
                  <a:pt x="13784" y="6428"/>
                  <a:pt x="13913" y="6466"/>
                  <a:pt x="14064" y="6474"/>
                </a:cubicBezTo>
                <a:cubicBezTo>
                  <a:pt x="14214" y="6482"/>
                  <a:pt x="14345" y="6464"/>
                  <a:pt x="14486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3720" y="2347920"/>
            <a:ext cx="214200" cy="936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8951" y="6548"/>
                </a:moveTo>
                <a:cubicBezTo>
                  <a:pt x="18894" y="6466"/>
                  <a:pt x="19221" y="6547"/>
                  <a:pt x="19248" y="6548"/>
                </a:cubicBezTo>
                <a:cubicBezTo>
                  <a:pt x="19397" y="6548"/>
                  <a:pt x="19430" y="6548"/>
                  <a:pt x="19521" y="65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16720" y="3705120"/>
            <a:ext cx="312480" cy="19080"/>
          </a:xfrm>
          <a:custGeom>
            <a:avLst/>
            <a:gdLst/>
            <a:ahLst/>
            <a:rect l="l" t="t" r="r" b="b"/>
            <a:pathLst>
              <a:path w="869" h="51">
                <a:moveTo>
                  <a:pt x="15602" y="10294"/>
                </a:moveTo>
                <a:cubicBezTo>
                  <a:pt x="15877" y="10294"/>
                  <a:pt x="16150" y="10290"/>
                  <a:pt x="16421" y="10319"/>
                </a:cubicBezTo>
                <a:cubicBezTo>
                  <a:pt x="16462" y="10319"/>
                  <a:pt x="16478" y="10311"/>
                  <a:pt x="16470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4964040"/>
            <a:ext cx="1090800" cy="270000"/>
          </a:xfrm>
          <a:custGeom>
            <a:avLst/>
            <a:gdLst/>
            <a:ahLst/>
            <a:rect l="l" t="t" r="r" b="b"/>
            <a:pathLst>
              <a:path w="3027" h="746">
                <a:moveTo>
                  <a:pt x="18132" y="13816"/>
                </a:moveTo>
                <a:cubicBezTo>
                  <a:pt x="17981" y="13831"/>
                  <a:pt x="17878" y="13893"/>
                  <a:pt x="17760" y="13990"/>
                </a:cubicBezTo>
                <a:cubicBezTo>
                  <a:pt x="17744" y="14006"/>
                  <a:pt x="17727" y="14023"/>
                  <a:pt x="17711" y="14039"/>
                </a:cubicBezTo>
                <a:cubicBezTo>
                  <a:pt x="17892" y="14146"/>
                  <a:pt x="18111" y="14104"/>
                  <a:pt x="18306" y="14213"/>
                </a:cubicBezTo>
                <a:cubicBezTo>
                  <a:pt x="18331" y="14238"/>
                  <a:pt x="18355" y="14263"/>
                  <a:pt x="18380" y="14288"/>
                </a:cubicBezTo>
                <a:cubicBezTo>
                  <a:pt x="18318" y="14429"/>
                  <a:pt x="18099" y="14623"/>
                  <a:pt x="17884" y="14536"/>
                </a:cubicBezTo>
                <a:cubicBezTo>
                  <a:pt x="17787" y="14438"/>
                  <a:pt x="17753" y="14406"/>
                  <a:pt x="17835" y="14312"/>
                </a:cubicBezTo>
              </a:path>
              <a:path w="3027" h="746">
                <a:moveTo>
                  <a:pt x="18876" y="13965"/>
                </a:moveTo>
                <a:cubicBezTo>
                  <a:pt x="18908" y="13997"/>
                  <a:pt x="18955" y="14074"/>
                  <a:pt x="18976" y="14015"/>
                </a:cubicBezTo>
                <a:cubicBezTo>
                  <a:pt x="18937" y="13899"/>
                  <a:pt x="18898" y="13732"/>
                  <a:pt x="18752" y="13841"/>
                </a:cubicBezTo>
                <a:cubicBezTo>
                  <a:pt x="18572" y="13976"/>
                  <a:pt x="18531" y="14290"/>
                  <a:pt x="18752" y="14412"/>
                </a:cubicBezTo>
                <a:cubicBezTo>
                  <a:pt x="18951" y="14461"/>
                  <a:pt x="19017" y="14477"/>
                  <a:pt x="19149" y="14412"/>
                </a:cubicBezTo>
              </a:path>
              <a:path w="3027" h="746">
                <a:moveTo>
                  <a:pt x="19794" y="14039"/>
                </a:moveTo>
                <a:cubicBezTo>
                  <a:pt x="19674" y="13974"/>
                  <a:pt x="19499" y="13901"/>
                  <a:pt x="19372" y="14015"/>
                </a:cubicBezTo>
                <a:cubicBezTo>
                  <a:pt x="19215" y="14155"/>
                  <a:pt x="19258" y="14271"/>
                  <a:pt x="19298" y="14436"/>
                </a:cubicBezTo>
                <a:cubicBezTo>
                  <a:pt x="19534" y="14493"/>
                  <a:pt x="19711" y="14454"/>
                  <a:pt x="19769" y="14163"/>
                </a:cubicBezTo>
                <a:cubicBezTo>
                  <a:pt x="19761" y="14130"/>
                  <a:pt x="19753" y="14097"/>
                  <a:pt x="19745" y="14064"/>
                </a:cubicBezTo>
                <a:cubicBezTo>
                  <a:pt x="19671" y="14138"/>
                  <a:pt x="19786" y="14321"/>
                  <a:pt x="19869" y="14387"/>
                </a:cubicBezTo>
                <a:cubicBezTo>
                  <a:pt x="20036" y="14520"/>
                  <a:pt x="20129" y="14456"/>
                  <a:pt x="20290" y="14387"/>
                </a:cubicBezTo>
              </a:path>
              <a:path w="3027" h="746">
                <a:moveTo>
                  <a:pt x="20737" y="14288"/>
                </a:moveTo>
                <a:cubicBezTo>
                  <a:pt x="20737" y="14296"/>
                  <a:pt x="20737" y="14304"/>
                  <a:pt x="20737" y="143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8040" y="50180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13940" y="13990"/>
                </a:moveTo>
                <a:cubicBezTo>
                  <a:pt x="14083" y="13972"/>
                  <a:pt x="14217" y="13945"/>
                  <a:pt x="14362" y="13940"/>
                </a:cubicBezTo>
                <a:cubicBezTo>
                  <a:pt x="14379" y="13940"/>
                  <a:pt x="14395" y="13940"/>
                  <a:pt x="14412" y="139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94120" y="577692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0815" y="16098"/>
                </a:moveTo>
                <a:cubicBezTo>
                  <a:pt x="10924" y="16086"/>
                  <a:pt x="11052" y="16044"/>
                  <a:pt x="11162" y="16049"/>
                </a:cubicBezTo>
                <a:cubicBezTo>
                  <a:pt x="11195" y="16057"/>
                  <a:pt x="11228" y="16065"/>
                  <a:pt x="11261" y="1607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71880" y="5054760"/>
            <a:ext cx="160200" cy="3636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8533" y="14139"/>
                </a:moveTo>
                <a:cubicBezTo>
                  <a:pt x="8588" y="14064"/>
                  <a:pt x="8775" y="14051"/>
                  <a:pt x="8880" y="14039"/>
                </a:cubicBezTo>
                <a:cubicBezTo>
                  <a:pt x="8938" y="14039"/>
                  <a:pt x="8946" y="14039"/>
                  <a:pt x="8979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200016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2179" y="5556"/>
                </a:moveTo>
                <a:cubicBezTo>
                  <a:pt x="12179" y="5684"/>
                  <a:pt x="12192" y="5826"/>
                  <a:pt x="12204" y="5953"/>
                </a:cubicBezTo>
                <a:cubicBezTo>
                  <a:pt x="12214" y="6062"/>
                  <a:pt x="12254" y="6385"/>
                  <a:pt x="12254" y="6276"/>
                </a:cubicBezTo>
                <a:cubicBezTo>
                  <a:pt x="12254" y="6251"/>
                  <a:pt x="12254" y="6226"/>
                  <a:pt x="12254" y="6201"/>
                </a:cubicBezTo>
              </a:path>
              <a:path w="1390" h="770">
                <a:moveTo>
                  <a:pt x="11534" y="5556"/>
                </a:moveTo>
                <a:cubicBezTo>
                  <a:pt x="11776" y="5556"/>
                  <a:pt x="12012" y="5597"/>
                  <a:pt x="12254" y="5606"/>
                </a:cubicBezTo>
                <a:cubicBezTo>
                  <a:pt x="12341" y="5609"/>
                  <a:pt x="12895" y="5570"/>
                  <a:pt x="12923" y="5730"/>
                </a:cubicBezTo>
                <a:cubicBezTo>
                  <a:pt x="12915" y="5746"/>
                  <a:pt x="12906" y="5763"/>
                  <a:pt x="12898" y="5779"/>
                </a:cubicBezTo>
              </a:path>
              <a:path w="1390" h="770">
                <a:moveTo>
                  <a:pt x="11857" y="6251"/>
                </a:moveTo>
                <a:cubicBezTo>
                  <a:pt x="11840" y="6267"/>
                  <a:pt x="11824" y="6284"/>
                  <a:pt x="11807" y="6300"/>
                </a:cubicBezTo>
                <a:cubicBezTo>
                  <a:pt x="11989" y="6369"/>
                  <a:pt x="12280" y="6297"/>
                  <a:pt x="12477" y="6276"/>
                </a:cubicBezTo>
                <a:cubicBezTo>
                  <a:pt x="12613" y="6261"/>
                  <a:pt x="12956" y="6243"/>
                  <a:pt x="12824" y="6276"/>
                </a:cubicBezTo>
                <a:cubicBezTo>
                  <a:pt x="12807" y="6276"/>
                  <a:pt x="12791" y="6276"/>
                  <a:pt x="12774" y="62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446200"/>
            <a:ext cx="1233720" cy="1143000"/>
          </a:xfrm>
          <a:custGeom>
            <a:avLst/>
            <a:gdLst/>
            <a:ahLst/>
            <a:rect l="l" t="t" r="r" b="b"/>
            <a:pathLst>
              <a:path w="3424" h="3176">
                <a:moveTo>
                  <a:pt x="5953" y="6796"/>
                </a:moveTo>
                <a:cubicBezTo>
                  <a:pt x="6073" y="6796"/>
                  <a:pt x="6210" y="6826"/>
                  <a:pt x="6325" y="6821"/>
                </a:cubicBezTo>
                <a:cubicBezTo>
                  <a:pt x="6441" y="6816"/>
                  <a:pt x="6554" y="6796"/>
                  <a:pt x="6672" y="6796"/>
                </a:cubicBezTo>
                <a:cubicBezTo>
                  <a:pt x="6697" y="6796"/>
                  <a:pt x="6705" y="6796"/>
                  <a:pt x="6722" y="6796"/>
                </a:cubicBezTo>
              </a:path>
              <a:path w="3424" h="3176">
                <a:moveTo>
                  <a:pt x="3299" y="9971"/>
                </a:moveTo>
                <a:cubicBezTo>
                  <a:pt x="3506" y="9958"/>
                  <a:pt x="3693" y="9918"/>
                  <a:pt x="3894" y="9872"/>
                </a:cubicBezTo>
                <a:cubicBezTo>
                  <a:pt x="4001" y="9850"/>
                  <a:pt x="4025" y="9842"/>
                  <a:pt x="4093" y="984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5800" y="2374920"/>
            <a:ext cx="1062000" cy="1268280"/>
          </a:xfrm>
          <a:custGeom>
            <a:avLst/>
            <a:gdLst/>
            <a:ahLst/>
            <a:rect l="l" t="t" r="r" b="b"/>
            <a:pathLst>
              <a:path w="2952" h="3523">
                <a:moveTo>
                  <a:pt x="8210" y="6648"/>
                </a:moveTo>
                <a:cubicBezTo>
                  <a:pt x="8366" y="6648"/>
                  <a:pt x="8528" y="6642"/>
                  <a:pt x="8682" y="6623"/>
                </a:cubicBezTo>
                <a:cubicBezTo>
                  <a:pt x="8781" y="6603"/>
                  <a:pt x="8796" y="6595"/>
                  <a:pt x="8855" y="6598"/>
                </a:cubicBezTo>
              </a:path>
              <a:path w="2952" h="3523">
                <a:moveTo>
                  <a:pt x="5904" y="10120"/>
                </a:moveTo>
                <a:cubicBezTo>
                  <a:pt x="6150" y="10084"/>
                  <a:pt x="6400" y="10044"/>
                  <a:pt x="6648" y="10021"/>
                </a:cubicBezTo>
                <a:cubicBezTo>
                  <a:pt x="6706" y="10021"/>
                  <a:pt x="6714" y="10021"/>
                  <a:pt x="6747" y="100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0160" y="3625920"/>
            <a:ext cx="169920" cy="1728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806" y="10096"/>
                </a:moveTo>
                <a:cubicBezTo>
                  <a:pt x="8915" y="10096"/>
                  <a:pt x="8991" y="10113"/>
                  <a:pt x="9103" y="10096"/>
                </a:cubicBezTo>
                <a:cubicBezTo>
                  <a:pt x="9169" y="10086"/>
                  <a:pt x="9319" y="10071"/>
                  <a:pt x="9252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78080" y="481320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8830" y="13444"/>
                </a:moveTo>
                <a:cubicBezTo>
                  <a:pt x="9012" y="13444"/>
                  <a:pt x="9172" y="13410"/>
                  <a:pt x="9351" y="13395"/>
                </a:cubicBezTo>
                <a:cubicBezTo>
                  <a:pt x="9378" y="13393"/>
                  <a:pt x="9677" y="13351"/>
                  <a:pt x="9624" y="13395"/>
                </a:cubicBezTo>
                <a:cubicBezTo>
                  <a:pt x="9616" y="13403"/>
                  <a:pt x="9607" y="13411"/>
                  <a:pt x="959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4384800"/>
            <a:ext cx="544320" cy="339480"/>
          </a:xfrm>
          <a:custGeom>
            <a:avLst/>
            <a:gdLst/>
            <a:ahLst/>
            <a:rect l="l" t="t" r="r" b="b"/>
            <a:pathLst>
              <a:path w="1514" h="944">
                <a:moveTo>
                  <a:pt x="13568" y="12303"/>
                </a:moveTo>
                <a:cubicBezTo>
                  <a:pt x="13657" y="12426"/>
                  <a:pt x="13724" y="12684"/>
                  <a:pt x="13791" y="12849"/>
                </a:cubicBezTo>
                <a:cubicBezTo>
                  <a:pt x="13797" y="12864"/>
                  <a:pt x="13920" y="13075"/>
                  <a:pt x="13841" y="13022"/>
                </a:cubicBezTo>
              </a:path>
              <a:path w="1514" h="944">
                <a:moveTo>
                  <a:pt x="12998" y="12179"/>
                </a:moveTo>
                <a:cubicBezTo>
                  <a:pt x="13273" y="12237"/>
                  <a:pt x="13535" y="12251"/>
                  <a:pt x="13816" y="12254"/>
                </a:cubicBezTo>
                <a:cubicBezTo>
                  <a:pt x="13994" y="12256"/>
                  <a:pt x="14176" y="12263"/>
                  <a:pt x="14337" y="12303"/>
                </a:cubicBezTo>
                <a:cubicBezTo>
                  <a:pt x="14388" y="12316"/>
                  <a:pt x="14355" y="12342"/>
                  <a:pt x="14337" y="12402"/>
                </a:cubicBezTo>
              </a:path>
              <a:path w="1514" h="944">
                <a:moveTo>
                  <a:pt x="13196" y="13122"/>
                </a:moveTo>
                <a:cubicBezTo>
                  <a:pt x="13158" y="13065"/>
                  <a:pt x="13336" y="13055"/>
                  <a:pt x="13395" y="13047"/>
                </a:cubicBezTo>
                <a:cubicBezTo>
                  <a:pt x="13726" y="13003"/>
                  <a:pt x="14058" y="12958"/>
                  <a:pt x="14387" y="12898"/>
                </a:cubicBezTo>
                <a:cubicBezTo>
                  <a:pt x="14455" y="12886"/>
                  <a:pt x="14526" y="12840"/>
                  <a:pt x="14486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3840" y="3232080"/>
            <a:ext cx="295200" cy="420840"/>
          </a:xfrm>
          <a:custGeom>
            <a:avLst/>
            <a:gdLst/>
            <a:ahLst/>
            <a:rect l="l" t="t" r="r" b="b"/>
            <a:pathLst>
              <a:path w="819" h="1167">
                <a:moveTo>
                  <a:pt x="13419" y="9203"/>
                </a:moveTo>
                <a:cubicBezTo>
                  <a:pt x="13401" y="9440"/>
                  <a:pt x="13391" y="9659"/>
                  <a:pt x="13419" y="9897"/>
                </a:cubicBezTo>
                <a:cubicBezTo>
                  <a:pt x="13450" y="10156"/>
                  <a:pt x="13566" y="10157"/>
                  <a:pt x="13791" y="10096"/>
                </a:cubicBezTo>
                <a:cubicBezTo>
                  <a:pt x="13908" y="10064"/>
                  <a:pt x="13965" y="10014"/>
                  <a:pt x="14064" y="9971"/>
                </a:cubicBezTo>
              </a:path>
              <a:path w="819" h="1167">
                <a:moveTo>
                  <a:pt x="13469" y="9798"/>
                </a:moveTo>
                <a:cubicBezTo>
                  <a:pt x="13601" y="9772"/>
                  <a:pt x="13770" y="9717"/>
                  <a:pt x="13891" y="9649"/>
                </a:cubicBezTo>
                <a:cubicBezTo>
                  <a:pt x="13966" y="9593"/>
                  <a:pt x="13979" y="9589"/>
                  <a:pt x="14015" y="9550"/>
                </a:cubicBezTo>
              </a:path>
              <a:path w="819" h="1167">
                <a:moveTo>
                  <a:pt x="13345" y="9227"/>
                </a:moveTo>
                <a:cubicBezTo>
                  <a:pt x="13590" y="9142"/>
                  <a:pt x="13841" y="9080"/>
                  <a:pt x="14089" y="9004"/>
                </a:cubicBezTo>
                <a:cubicBezTo>
                  <a:pt x="14114" y="8996"/>
                  <a:pt x="14138" y="8987"/>
                  <a:pt x="14163" y="897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46162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3795" y="12948"/>
                </a:moveTo>
                <a:cubicBezTo>
                  <a:pt x="3958" y="12948"/>
                  <a:pt x="4106" y="12898"/>
                  <a:pt x="4266" y="12874"/>
                </a:cubicBezTo>
                <a:cubicBezTo>
                  <a:pt x="4281" y="12872"/>
                  <a:pt x="4676" y="12787"/>
                  <a:pt x="4713" y="12824"/>
                </a:cubicBezTo>
                <a:cubicBezTo>
                  <a:pt x="4713" y="12832"/>
                  <a:pt x="4713" y="12841"/>
                  <a:pt x="4713" y="12849"/>
                </a:cubicBezTo>
              </a:path>
              <a:path w="1489" h="398">
                <a:moveTo>
                  <a:pt x="3249" y="13122"/>
                </a:moveTo>
                <a:cubicBezTo>
                  <a:pt x="3384" y="13122"/>
                  <a:pt x="3509" y="13155"/>
                  <a:pt x="3646" y="13146"/>
                </a:cubicBezTo>
                <a:cubicBezTo>
                  <a:pt x="3781" y="13138"/>
                  <a:pt x="3908" y="13122"/>
                  <a:pt x="4043" y="13122"/>
                </a:cubicBezTo>
                <a:cubicBezTo>
                  <a:pt x="4035" y="13122"/>
                  <a:pt x="4026" y="13122"/>
                  <a:pt x="4018" y="13122"/>
                </a:cubicBezTo>
                <a:cubicBezTo>
                  <a:pt x="3837" y="13222"/>
                  <a:pt x="3654" y="13218"/>
                  <a:pt x="3448" y="13221"/>
                </a:cubicBezTo>
                <a:cubicBezTo>
                  <a:pt x="3398" y="13221"/>
                  <a:pt x="3349" y="13221"/>
                  <a:pt x="3299" y="13221"/>
                </a:cubicBezTo>
                <a:cubicBezTo>
                  <a:pt x="3099" y="13145"/>
                  <a:pt x="3557" y="13198"/>
                  <a:pt x="3572" y="13196"/>
                </a:cubicBezTo>
                <a:cubicBezTo>
                  <a:pt x="3648" y="13188"/>
                  <a:pt x="4236" y="13103"/>
                  <a:pt x="4217" y="13122"/>
                </a:cubicBezTo>
                <a:cubicBezTo>
                  <a:pt x="4167" y="13146"/>
                  <a:pt x="4151" y="13154"/>
                  <a:pt x="4118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3640" y="5902200"/>
            <a:ext cx="179280" cy="7164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3572" y="16396"/>
                </a:moveTo>
                <a:cubicBezTo>
                  <a:pt x="3602" y="16404"/>
                  <a:pt x="3616" y="16413"/>
                  <a:pt x="3646" y="16421"/>
                </a:cubicBezTo>
                <a:cubicBezTo>
                  <a:pt x="3511" y="16459"/>
                  <a:pt x="3367" y="16519"/>
                  <a:pt x="3225" y="16545"/>
                </a:cubicBezTo>
                <a:cubicBezTo>
                  <a:pt x="3116" y="16565"/>
                  <a:pt x="3165" y="16559"/>
                  <a:pt x="3299" y="165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402160"/>
            <a:ext cx="295200" cy="393840"/>
          </a:xfrm>
          <a:custGeom>
            <a:avLst/>
            <a:gdLst/>
            <a:ahLst/>
            <a:rect l="l" t="t" r="r" b="b"/>
            <a:pathLst>
              <a:path w="819" h="1092">
                <a:moveTo>
                  <a:pt x="13122" y="15180"/>
                </a:moveTo>
                <a:cubicBezTo>
                  <a:pt x="13188" y="15214"/>
                  <a:pt x="13217" y="15167"/>
                  <a:pt x="13122" y="15081"/>
                </a:cubicBezTo>
                <a:cubicBezTo>
                  <a:pt x="12955" y="14929"/>
                  <a:pt x="12768" y="15041"/>
                  <a:pt x="12650" y="15180"/>
                </a:cubicBezTo>
                <a:cubicBezTo>
                  <a:pt x="12523" y="15329"/>
                  <a:pt x="12523" y="15395"/>
                  <a:pt x="12576" y="15553"/>
                </a:cubicBezTo>
                <a:cubicBezTo>
                  <a:pt x="12785" y="15572"/>
                  <a:pt x="13034" y="15446"/>
                  <a:pt x="13221" y="15553"/>
                </a:cubicBezTo>
                <a:cubicBezTo>
                  <a:pt x="13422" y="15668"/>
                  <a:pt x="13286" y="16000"/>
                  <a:pt x="13122" y="16073"/>
                </a:cubicBezTo>
                <a:cubicBezTo>
                  <a:pt x="12922" y="16163"/>
                  <a:pt x="12603" y="16113"/>
                  <a:pt x="12502" y="15900"/>
                </a:cubicBezTo>
                <a:cubicBezTo>
                  <a:pt x="12502" y="15797"/>
                  <a:pt x="12504" y="15768"/>
                  <a:pt x="12551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1320" y="58928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8086" y="16371"/>
                </a:moveTo>
                <a:cubicBezTo>
                  <a:pt x="8214" y="16371"/>
                  <a:pt x="8332" y="16371"/>
                  <a:pt x="8458" y="16396"/>
                </a:cubicBezTo>
                <a:cubicBezTo>
                  <a:pt x="8533" y="16415"/>
                  <a:pt x="8592" y="16423"/>
                  <a:pt x="8533" y="164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5880" y="5892840"/>
            <a:ext cx="322200" cy="9360"/>
          </a:xfrm>
          <a:custGeom>
            <a:avLst/>
            <a:gdLst/>
            <a:ahLst/>
            <a:rect l="l" t="t" r="r" b="b"/>
            <a:pathLst>
              <a:path w="894" h="26">
                <a:moveTo>
                  <a:pt x="6325" y="16371"/>
                </a:moveTo>
                <a:cubicBezTo>
                  <a:pt x="6300" y="16371"/>
                  <a:pt x="6276" y="16371"/>
                  <a:pt x="6251" y="16371"/>
                </a:cubicBezTo>
              </a:path>
              <a:path w="894" h="26">
                <a:moveTo>
                  <a:pt x="6127" y="16371"/>
                </a:moveTo>
                <a:cubicBezTo>
                  <a:pt x="6094" y="16371"/>
                  <a:pt x="6061" y="16371"/>
                  <a:pt x="6028" y="16371"/>
                </a:cubicBezTo>
                <a:cubicBezTo>
                  <a:pt x="6110" y="16371"/>
                  <a:pt x="6182" y="16366"/>
                  <a:pt x="6251" y="16396"/>
                </a:cubicBezTo>
                <a:cubicBezTo>
                  <a:pt x="6043" y="16396"/>
                  <a:pt x="5839" y="16374"/>
                  <a:pt x="5631" y="16371"/>
                </a:cubicBezTo>
                <a:cubicBezTo>
                  <a:pt x="5515" y="16371"/>
                  <a:pt x="5498" y="16371"/>
                  <a:pt x="5432" y="163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244620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891" y="7268"/>
                </a:moveTo>
                <a:cubicBezTo>
                  <a:pt x="14026" y="7178"/>
                  <a:pt x="14086" y="7045"/>
                  <a:pt x="14188" y="6921"/>
                </a:cubicBezTo>
                <a:cubicBezTo>
                  <a:pt x="14227" y="6874"/>
                  <a:pt x="14274" y="6852"/>
                  <a:pt x="14288" y="6796"/>
                </a:cubicBezTo>
                <a:cubicBezTo>
                  <a:pt x="14330" y="6924"/>
                  <a:pt x="14400" y="7056"/>
                  <a:pt x="14436" y="7193"/>
                </a:cubicBezTo>
                <a:cubicBezTo>
                  <a:pt x="14463" y="7294"/>
                  <a:pt x="14486" y="7387"/>
                  <a:pt x="14486" y="74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1527120"/>
            <a:ext cx="428400" cy="598680"/>
          </a:xfrm>
          <a:custGeom>
            <a:avLst/>
            <a:gdLst/>
            <a:ahLst/>
            <a:rect l="l" t="t" r="r" b="b"/>
            <a:pathLst>
              <a:path w="1191" h="1663">
                <a:moveTo>
                  <a:pt x="14511" y="5085"/>
                </a:moveTo>
                <a:cubicBezTo>
                  <a:pt x="14511" y="5142"/>
                  <a:pt x="14487" y="5010"/>
                  <a:pt x="14461" y="4986"/>
                </a:cubicBezTo>
                <a:cubicBezTo>
                  <a:pt x="14445" y="4978"/>
                  <a:pt x="14428" y="4969"/>
                  <a:pt x="14412" y="4961"/>
                </a:cubicBezTo>
                <a:cubicBezTo>
                  <a:pt x="14238" y="5054"/>
                  <a:pt x="14101" y="5212"/>
                  <a:pt x="14114" y="5432"/>
                </a:cubicBezTo>
                <a:cubicBezTo>
                  <a:pt x="14160" y="5525"/>
                  <a:pt x="14171" y="5554"/>
                  <a:pt x="14238" y="5581"/>
                </a:cubicBezTo>
                <a:cubicBezTo>
                  <a:pt x="14413" y="5464"/>
                  <a:pt x="14430" y="5396"/>
                  <a:pt x="14436" y="5184"/>
                </a:cubicBezTo>
                <a:cubicBezTo>
                  <a:pt x="14436" y="5126"/>
                  <a:pt x="14436" y="5118"/>
                  <a:pt x="14436" y="5085"/>
                </a:cubicBezTo>
                <a:cubicBezTo>
                  <a:pt x="14464" y="5186"/>
                  <a:pt x="14532" y="5372"/>
                  <a:pt x="14635" y="5432"/>
                </a:cubicBezTo>
                <a:cubicBezTo>
                  <a:pt x="14697" y="5432"/>
                  <a:pt x="14721" y="5421"/>
                  <a:pt x="14734" y="5358"/>
                </a:cubicBezTo>
              </a:path>
              <a:path w="1191" h="1663">
                <a:moveTo>
                  <a:pt x="14709" y="4514"/>
                </a:moveTo>
                <a:cubicBezTo>
                  <a:pt x="14763" y="4703"/>
                  <a:pt x="14803" y="4885"/>
                  <a:pt x="14833" y="5085"/>
                </a:cubicBezTo>
                <a:cubicBezTo>
                  <a:pt x="14849" y="5188"/>
                  <a:pt x="14867" y="5429"/>
                  <a:pt x="14908" y="5333"/>
                </a:cubicBezTo>
                <a:cubicBezTo>
                  <a:pt x="14908" y="5325"/>
                  <a:pt x="14908" y="5316"/>
                  <a:pt x="14908" y="5308"/>
                </a:cubicBezTo>
              </a:path>
              <a:path w="1191" h="1663">
                <a:moveTo>
                  <a:pt x="15081" y="4242"/>
                </a:moveTo>
                <a:cubicBezTo>
                  <a:pt x="15160" y="4424"/>
                  <a:pt x="15156" y="4641"/>
                  <a:pt x="15180" y="4837"/>
                </a:cubicBezTo>
                <a:cubicBezTo>
                  <a:pt x="15200" y="5003"/>
                  <a:pt x="15223" y="5175"/>
                  <a:pt x="15255" y="5333"/>
                </a:cubicBezTo>
                <a:cubicBezTo>
                  <a:pt x="15255" y="5368"/>
                  <a:pt x="15250" y="5385"/>
                  <a:pt x="15230" y="5407"/>
                </a:cubicBezTo>
              </a:path>
              <a:path w="1191" h="1663">
                <a:moveTo>
                  <a:pt x="14312" y="5879"/>
                </a:moveTo>
                <a:cubicBezTo>
                  <a:pt x="14259" y="5961"/>
                  <a:pt x="14527" y="5832"/>
                  <a:pt x="14536" y="5829"/>
                </a:cubicBezTo>
                <a:cubicBezTo>
                  <a:pt x="14772" y="5744"/>
                  <a:pt x="15026" y="5675"/>
                  <a:pt x="15255" y="5581"/>
                </a:cubicBezTo>
                <a:cubicBezTo>
                  <a:pt x="15277" y="5559"/>
                  <a:pt x="15282" y="5550"/>
                  <a:pt x="15304" y="555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48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3:49Z</dcterms:modified>
  <cp:revision>17</cp:revision>
  <dc:subject/>
  <dc:title>Unit 6: Geometry</dc:title>
</cp:coreProperties>
</file>